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9C9-18C5-4756-9479-394AB6CC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332-9778-4CAB-9741-DB54E6B7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1E5-BAAD-48B4-805F-69D131DC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BC0-F170-4120-9B93-F8D90D86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835A-119B-4C49-9E96-B245E00E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8684-1142-468B-A975-915BCD06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B5EC-05DD-4AFF-82DE-8F6AE451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242D-F036-4C5A-95DB-93DD0E5E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D52A-CFDE-4824-93AC-585163C1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C337-9A32-4DFB-B4BA-AD8AA83A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8EF6-A9F5-4979-A41A-D0155DA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0A4-5A52-418D-B039-3876C84F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4F63-5737-447F-8F8D-84C9F62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11F8-B237-4283-AEE9-4E1AA31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34DB-ACBD-49FF-990A-4D70F53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5777-7831-47EC-BFD2-FE8E1EB0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DEC8-6F07-42EC-8EEF-19B2E15B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21C-676E-4356-BACF-091A304C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F1A-58E2-4F3B-AB82-C6424441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7FD-B2F8-4515-9401-47CE64B9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369-7A9F-4E8B-89C7-B5A84E67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DF7-72BC-43E8-B0D7-949EA36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F6B-3240-4756-A975-BB5843D2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382-842A-4D97-BF7C-68118514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12CF-B108-4227-8C2E-10CAE2E5607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64A9-DD49-4BFF-96A5-57A3DEBFC51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CMS%20ppt%20templ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29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523880" y="1066680"/>
            <a:ext cx="739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otal and Per Capita Medicaid Expenditur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981080"/>
            <a:ext cx="3886200" cy="4496040"/>
          </a:xfrm>
          <a:prstGeom prst="rect">
            <a:avLst/>
          </a:prstGeom>
          <a:noFill/>
          <a:ln w="9360">
            <a:solidFill>
              <a:srgbClr val="3c5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2133720"/>
            <a:ext cx="1905120" cy="304560"/>
          </a:xfrm>
          <a:prstGeom prst="rect">
            <a:avLst/>
          </a:prstGeom>
          <a:noFill/>
          <a:ln w="9360">
            <a:solidFill>
              <a:srgbClr val="f9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1981080"/>
            <a:ext cx="4343400" cy="4496040"/>
          </a:xfrm>
          <a:prstGeom prst="rect">
            <a:avLst/>
          </a:prstGeom>
          <a:noFill/>
          <a:ln w="9360">
            <a:solidFill>
              <a:srgbClr val="3c5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971720" y="6048360"/>
          <a:ext cx="5294160" cy="344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1720" y="6048360"/>
                    <a:ext cx="529416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276720" y="41148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375,585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43434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3,325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45720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1,501,664,243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8006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73.80 %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50292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9,165,167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114800"/>
            <a:ext cx="24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Medicaid Persons Served (FY 2000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343400"/>
            <a:ext cx="350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*Average Medicaid Payment Per Person Served (FY 2000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4572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Net Reported Medicaid Expenditures (FY 2001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48006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Federal Medical Assistance Percentage (FY 2001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5029200"/>
            <a:ext cx="259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Medicaid DSH Expenditures (FY 2001)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51814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42,763,233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3800" y="54100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3,936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56386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227,628,103,171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58672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60.79 %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67480" y="60958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$15,854,175,832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51814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Medicaid Persons Served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541008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*Average Medicaid Payment Per Person Served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563868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Net Reported Medicaid Expenditure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586728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Federal Medical Assistance Percentage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6095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Medicaid DSH Expenditures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5486400"/>
            <a:ext cx="3657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Calculated using 2000 MSIS payment data and persons served. See Chart 29 for MSIS payments (not shown above). All other figures shown from CMS-64.  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Note</a:t>
            </a: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: Persons served are enrollees for whom a Medicaid claim was paid during the year or, beginning in 1998, on whose behalf Medicaid made premium payments to managed care entities or private health insurance organizations.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3366"/>
                </a:solidFill>
                <a:latin typeface="Arial"/>
              </a:rPr>
              <a:t>Source:</a:t>
            </a:r>
            <a:r>
              <a:rPr b="0" i="1" lang="en-US" sz="700" spc="-1" strike="noStrike">
                <a:solidFill>
                  <a:srgbClr val="003366"/>
                </a:solidFill>
                <a:latin typeface="Arial"/>
              </a:rPr>
              <a:t> CMS/Office of Research, Development, and Information, MSIS and CMS‑64.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913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ed States Tota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2133720"/>
            <a:ext cx="1752480" cy="304560"/>
          </a:xfrm>
          <a:prstGeom prst="rect">
            <a:avLst/>
          </a:prstGeom>
          <a:noFill/>
          <a:ln w="9360">
            <a:solidFill>
              <a:srgbClr val="f9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8360" y="1447920"/>
            <a:ext cx="530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For State-Specific Information, Choose A State From The Drop-Down Menu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CMS2cologotrans" descr=""/>
          <p:cNvPicPr/>
          <p:nvPr/>
        </p:nvPicPr>
        <p:blipFill>
          <a:blip r:embed="rId4"/>
          <a:stretch/>
        </p:blipFill>
        <p:spPr>
          <a:xfrm>
            <a:off x="6629400" y="228600"/>
            <a:ext cx="143208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03:08:53Z</dcterms:created>
  <dc:creator>.</dc:creator>
  <dc:description/>
  <dc:language>en-US</dc:language>
  <cp:lastModifiedBy>CMS</cp:lastModifiedBy>
  <dcterms:modified xsi:type="dcterms:W3CDTF">2004-04-05T19:29:05Z</dcterms:modified>
  <cp:revision>302</cp:revision>
  <dc:subject/>
  <dc:title>PowerPoint Presentation</dc:title>
</cp:coreProperties>
</file>