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6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1"/>
          </p:nvPr>
        </p:nvSpPr>
        <p:spPr>
          <a:xfrm>
            <a:off x="3970440" y="0"/>
            <a:ext cx="3038400" cy="466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2"/>
          </p:nvPr>
        </p:nvSpPr>
        <p:spPr>
          <a:xfrm>
            <a:off x="0" y="8827560"/>
            <a:ext cx="3038400" cy="466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3"/>
          </p:nvPr>
        </p:nvSpPr>
        <p:spPr>
          <a:xfrm>
            <a:off x="3970440" y="8827560"/>
            <a:ext cx="3038400" cy="466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64B0EB8D-B2D3-4744-97AF-9662C6D12E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Univers 47 CondensedLight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F70F3463-AAEF-4C44-A690-91B692FF1B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0C5CE7F-A1E8-449E-A849-532774FCB0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Univers 47 CondensedLight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Univers 47 CondensedLight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F07267C-0A92-48A8-A296-7D1A7B7331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Univers 47 CondensedLight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BB3A257-FBD8-4BCD-BF19-E89F504C5C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Univers 47 CondensedLight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DE12BFFD-8255-4569-AA71-89E98755D7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Univers 47 CondensedLight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499819F9-FDCB-4B65-B157-E566624A47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Univers 47 CondensedLight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703AF91C-987A-411F-A6C2-C4E7B38BDA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Univers 47 CondensedLight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D4CC1B96-EDF5-47D1-BDF7-E6F6060229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C7A7BDFF-EE66-4B2A-B509-8258DBA5A2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Univers 47 CondensedLigh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Univers 47 CondensedLight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292AD663-157A-4E38-A5FF-B4687AC410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Univers 47 CondensedLight"/>
              </a:rPr>
              <a:t>NOTE:</a:t>
            </a:r>
            <a:r>
              <a:rPr b="0" lang="en-US" sz="800" spc="-1" strike="noStrike">
                <a:solidFill>
                  <a:srgbClr val="000000"/>
                </a:solidFill>
                <a:latin typeface="Univers 47 CondensedLight"/>
              </a:rPr>
              <a:t> once submitted and accepted the manual form process must be utilized to correct the subreq valu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94FC9B9B-B2C5-41C8-8150-FA2D1306FE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Univers 47 CondensedLight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DD155F02-5C0A-480F-88D8-9A4C19057E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1625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219320" y="3908520"/>
            <a:ext cx="71625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19320" y="390852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889880" y="390852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41040" y="159984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63120" y="159984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219320" y="390852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41040" y="390852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63120" y="390852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219320" y="1599840"/>
            <a:ext cx="716256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1625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219320" y="390852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219320" y="1599840"/>
            <a:ext cx="716256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89880" y="390852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219320" y="3908520"/>
            <a:ext cx="71625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1625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219320" y="3908520"/>
            <a:ext cx="71625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219320" y="390852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89880" y="390852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641040" y="159984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63120" y="159984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219320" y="390852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641040" y="390852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63120" y="390852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1625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219320" y="390852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889880" y="390852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219320" y="3908520"/>
            <a:ext cx="71625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CMS HHS Bckgr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19320" y="1599840"/>
            <a:ext cx="71625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0240" indent="-320760">
              <a:spcBef>
                <a:spcPts val="21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21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2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2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2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2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Footer Placeholder 3"/>
          <p:cNvSpPr/>
          <p:nvPr/>
        </p:nvSpPr>
        <p:spPr>
          <a:xfrm>
            <a:off x="7086600" y="6332400"/>
            <a:ext cx="685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EB8C1-79A2-4A86-98DD-59EF43C97BCD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" descr="CMS HHS Bckgr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8" descr="Title_Pages_nopeople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219320" y="1599840"/>
            <a:ext cx="71625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0240" indent="-320760">
              <a:spcBef>
                <a:spcPts val="21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21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2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2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2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2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s://www.qtso.com/ravendownload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mailto:help@qtso.com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" descr="Image depicting the JAVA logo, the CMS logo, and the title Inpatient Rehabilitation Validation and Entry System (jIRVEN)."/>
          <p:cNvPicPr/>
          <p:nvPr/>
        </p:nvPicPr>
        <p:blipFill>
          <a:blip r:embed="rId1"/>
          <a:stretch/>
        </p:blipFill>
        <p:spPr>
          <a:xfrm>
            <a:off x="1208160" y="1128600"/>
            <a:ext cx="6727680" cy="46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84200" y="374400"/>
            <a:ext cx="824400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jIRVEN User Functionalit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215720" y="1599840"/>
            <a:ext cx="7365960" cy="413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38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ccount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ead Onl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ew assessments created by ot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 Assess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ew Data Entry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3812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84200" y="374400"/>
            <a:ext cx="824400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mport/ Expor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15720" y="1599840"/>
            <a:ext cx="7651800" cy="452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ort assess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XML layou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ext layout based on IRF-PAI Data Specification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ort assess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XML layout for submission to ASAP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1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84200" y="374760"/>
            <a:ext cx="824400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Validation Utility Tool (VUT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216080" y="1599840"/>
            <a:ext cx="753912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UT – Validation Utility T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Validate IRF-PAI submission files in XML forma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nforces edits that are mapped to IRF-PAI items, as published in IRF-PAI Data Specification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84200" y="374400"/>
            <a:ext cx="824400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gration Too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215720" y="1600200"/>
            <a:ext cx="7491240" cy="44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21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grates Facility data for Inpatient Rehabilitation Fac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igrate Patients from IRVEN into jIRVE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User selects the .mdb from IRVE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atient Match is utilized during migration proces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ctive database and\or the archive database may be migrated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tes Last Assessment Re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174"/>
              </a:spcBef>
              <a:buClr>
                <a:srgbClr val="2d2db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174"/>
              </a:spcBef>
              <a:buClr>
                <a:srgbClr val="2d2db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1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19120" y="274320"/>
            <a:ext cx="82440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oftware Downloa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215720" y="1599840"/>
            <a:ext cx="7651800" cy="459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IRVEN can be downloaded fr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ww.QTSO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ff"/>
                </a:solidFill>
                <a:uFillTx/>
                <a:latin typeface="Arial"/>
                <a:hlinkClick r:id="rId1"/>
              </a:rPr>
              <a:t>https://www.qtso.com/IRVENdownload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ww.CMS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3333cc"/>
                </a:solidFill>
                <a:uFillTx/>
                <a:latin typeface="Arial"/>
              </a:rPr>
              <a:t>https://www.cms.gov/Medicare/Medicare-Fee-for-Service-Payment/InpatientRehabFacPPS/Software.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 of the reference documents can also be located at the above lin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84200" y="374400"/>
            <a:ext cx="824400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071360" y="1442880"/>
            <a:ext cx="7538760" cy="41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ct QTSO help des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-800-339-93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ff"/>
                </a:solidFill>
                <a:uFillTx/>
                <a:latin typeface="Arial"/>
                <a:hlinkClick r:id="rId1"/>
              </a:rPr>
              <a:t>help@qtso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84200" y="377640"/>
            <a:ext cx="8244000" cy="63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RVEN vs jIRVE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215720" y="1599840"/>
            <a:ext cx="7558200" cy="46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316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lo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316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ent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security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316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curity Question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316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assword Expiration every 60 day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notifications when latest version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utilized (internet connection requir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1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84200" y="374400"/>
            <a:ext cx="824400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RVEN vs jIRVE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216080" y="1600200"/>
            <a:ext cx="702288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 questions now appear in a tre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instead of tab lay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ng running form on one page vs. a section per t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s are applied as questions are answe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6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it \ Error box is on the same screen as the data entry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100"/>
              </a:spcBef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100"/>
              </a:spcBef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100"/>
              </a:spcBef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84200" y="374400"/>
            <a:ext cx="824400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jIRVEN Functionalit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216080" y="1599840"/>
            <a:ext cx="766440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patient Rehabilitation and Patient Assessment Collection User T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4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ility 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ws for creation of multiple fac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4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ient 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tilizes Patient Match to prevent duplicate Pati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rts by specific column if heading is select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search for Patients by using specific search crite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84200" y="374400"/>
            <a:ext cx="824400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jIRVEN Functionalit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216080" y="1599840"/>
            <a:ext cx="6702480" cy="39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8 acce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unctionality can be turned on and off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Keyboard alternativ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19040" indent="-4046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key,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TR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k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llows utilization of screen reader software (i.e. JAWS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llows utilization of speech recognition software (i.e. Dragon Naturally Speaking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1726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1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84200" y="378000"/>
            <a:ext cx="8244000" cy="63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jIRVEN Functionalit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216080" y="1599840"/>
            <a:ext cx="740736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6680" indent="-43344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User is prompted to back up database when exiting jIRVE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96680" indent="-43344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jIRVEN back up should be directed to an external driv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96680" indent="-43344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for restore of database (i.e. PC crash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6680" indent="-43344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 backup of database during inst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84200" y="374400"/>
            <a:ext cx="824400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jIRVEN Functionalit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216080" y="1600200"/>
            <a:ext cx="6711840" cy="39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vailable for each item of the form by selecting the Help Icon, Help Menu, or F1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jIRVEN User Guide is included with the installation of jIRVEN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1800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84200" y="374400"/>
            <a:ext cx="824400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jIRVEN User Functionalit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216080" y="1600200"/>
            <a:ext cx="7470720" cy="45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38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ccount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ystem Administrator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, Edit, or Delete Facility, Users, and Patients ac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, Edit, Modify, Inactivate, or Delete assessment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 or Export  Patient and Assess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 Assess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ew assessments created by ot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e repo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84200" y="374400"/>
            <a:ext cx="824400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jIRVEN User Functionalit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215720" y="1599840"/>
            <a:ext cx="7365960" cy="421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38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ccount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ata Entr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or Edit Patient data for all assessment ty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 Assess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ew assessments created by other user ty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ew Data Entry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ew User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3812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5T19:19:05Z</dcterms:created>
  <dc:creator>Centers for Medicare &amp; Medicaid Services</dc:creator>
  <dc:description/>
  <dc:language>en-US</dc:language>
  <cp:lastModifiedBy>Jennifer Parrish</cp:lastModifiedBy>
  <cp:lastPrinted>2012-04-28T10:13:26Z</cp:lastPrinted>
  <dcterms:modified xsi:type="dcterms:W3CDTF">2012-05-11T11:55:50Z</dcterms:modified>
  <cp:revision>765</cp:revision>
  <dc:subject>MDS Classroom Training</dc:subject>
  <dc:title>Section L: Oral/Dental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BB580D97-3256-43EF-8DEF-5DCD0C1E0C85</vt:lpwstr>
  </property>
  <property fmtid="{D5CDD505-2E9C-101B-9397-08002B2CF9AE}" pid="3" name="ArticulatePath">
    <vt:lpwstr>MDS_PP_SecL_092410_LS</vt:lpwstr>
  </property>
  <property fmtid="{D5CDD505-2E9C-101B-9397-08002B2CF9AE}" pid="4" name="ArticulateProjectFull">
    <vt:lpwstr>G:\MDS\development\MDS_SectionL\MDS_PP_SecL_092410_LS.ppta</vt:lpwstr>
  </property>
  <property fmtid="{D5CDD505-2E9C-101B-9397-08002B2CF9AE}" pid="5" name="ArticulateUseProject">
    <vt:lpwstr>1</vt:lpwstr>
  </property>
  <property fmtid="{D5CDD505-2E9C-101B-9397-08002B2CF9AE}" pid="6" name="_AdHocReviewCycleID">
    <vt:r8>-1408970448</vt:r8>
  </property>
  <property fmtid="{D5CDD505-2E9C-101B-9397-08002B2CF9AE}" pid="7" name="_AuthorEmail">
    <vt:lpwstr>Caroline.Gallaher@cms.hhs.gov</vt:lpwstr>
  </property>
  <property fmtid="{D5CDD505-2E9C-101B-9397-08002B2CF9AE}" pid="8" name="_AuthorEmailDisplayName">
    <vt:lpwstr>Gallaher, Caroline D. (CMS/OCSQ)</vt:lpwstr>
  </property>
  <property fmtid="{D5CDD505-2E9C-101B-9397-08002B2CF9AE}" pid="9" name="_EmailSubject">
    <vt:lpwstr>Here are the Powerpoint slides and presentation handouts that I mentioned to you yesterday that ii will also need to have posted on the IRF QRP webpage</vt:lpwstr>
  </property>
  <property fmtid="{D5CDD505-2E9C-101B-9397-08002B2CF9AE}" pid="10" name="_NewReviewCycle">
    <vt:lpwstr/>
  </property>
</Properties>
</file>