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93F8-14BD-43FF-9D18-602474025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F556-1917-4AF0-8DC1-D90466400AD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FFE8-8454-4A84-A155-5F0B99C7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7F4-8222-4571-B882-7A83B708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49A-FE56-40D9-91D0-AA96C3E5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B62-8FC1-4BC7-BBB4-3A00771F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ACC5-9860-446D-AFAE-83132B90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B7DC-842E-45FB-8E3F-D7C8F66D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638E-D538-4472-AFA7-4669C7B5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24EF-1348-40A2-8F24-E974CB65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803F-B8FB-49B5-B0F2-E482C78F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4749-9494-43E4-B864-8DCEE59E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9677-4C37-490E-94A5-6C75E40E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F2D-1615-4753-BFF9-FD9E9C75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747A-92A2-4B6E-ADD0-415F4D92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2F80-26D6-4C7F-A0D7-AD5C80AF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1940-ACDD-4B5A-BEF1-DD66CB31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A4F1-2363-4256-AF31-A91C1E6E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589B-E9DD-456B-ABC8-6F344AAA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818-457E-4E4A-9DA1-BECA9809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57A-7E8F-4560-B3F2-694B37C1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B30-1F8B-44FA-A5DE-40CCA4C5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3C3-25F2-465B-804C-74C29EA9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B912-BC58-490B-91D5-C5F55A14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0E5-2671-4EAB-A7F6-866B4C5A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0B1-370F-4569-B75E-F22E4334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328C-AECF-446E-927D-F997806D24A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1832-8C22-47BA-8D99-CDBCB280A57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of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Charles  Padgett</cp:lastModifiedBy>
  <dcterms:modified xsi:type="dcterms:W3CDTF">2012-07-24T13:44:42Z</dcterms:modified>
  <cp:revision>65</cp:revision>
  <dc:subject/>
  <dc:title>QIES Year in Review - 2005</dc:title>
</cp:coreProperties>
</file>