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E849B2-E18D-49DF-8729-484214DE4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A9E29E-D18A-4B96-9F54-93D7374D3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D6D1A1-4671-436A-8A91-80AA85EA3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FC1947-6FDF-4E21-9918-16CA45178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18F724-BE23-44D4-9295-F2747A045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7A1055-B059-4699-A8A1-41E8AC069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D36B1B-8453-4324-A779-636164FFA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D499FC6-6E51-4480-936A-D339FAFF7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8D2065-F144-40C5-BA64-6E272713A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AA7175-E203-4A8B-A7BA-FF05C7995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6EB8CB-4B7E-443F-90C2-443442592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6912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A22F-8C38-4CB4-BE19-BB4A758F50F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5361480" y="63673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977480" y="6367320"/>
            <a:ext cx="24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CH QRP TTT Conference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age of the JAVA logo and CMS logo and the text Long Term Care Hospital Assessment Submission Entry and Reporting."/>
          <p:cNvPicPr/>
          <p:nvPr/>
        </p:nvPicPr>
        <p:blipFill>
          <a:blip r:embed="rId1"/>
          <a:stretch/>
        </p:blipFill>
        <p:spPr>
          <a:xfrm>
            <a:off x="1066680" y="781200"/>
            <a:ext cx="701064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LASER CARE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LASER CARE items, as published i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ER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qtso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LongTermCareHospital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s are applied as questions are answ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Care Hospital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LA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data set by selecting the Help Icon, Help Menu, or F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User Guide is included with the installation of LASE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Charles  Padgett</cp:lastModifiedBy>
  <cp:lastPrinted>2012-04-28T19:42:18Z</cp:lastPrinted>
  <dcterms:modified xsi:type="dcterms:W3CDTF">2012-07-24T13:50:16Z</dcterms:modified>
  <cp:revision>770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</Properties>
</file>