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9.jpeg" ContentType="image/jpeg"/>
  <Override PartName="/ppt/media/image21.jpeg" ContentType="image/jpeg"/>
  <Override PartName="/ppt/media/image16.jpeg" ContentType="image/jpeg"/>
  <Override PartName="/ppt/media/image28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7044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4D3CCAA-7061-410F-8247-A647A1B29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6D78009-A34B-48CC-B51D-DDB0C2FD0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DFDB7A1-EA73-46BC-9BF7-112EEC809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B7480A2-7C7C-47CC-A306-D3CF961E0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D3B4DFD-D888-4669-9935-0A9647A85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086A549-8F8D-4B70-97B6-317710ADC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FAD4B33-924D-4986-87AD-40431A46D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CC97082-FABF-4E50-8BFF-786FE1F68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3DA7D89-AECC-45A6-849E-086B13366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D1E4030-8B94-48C0-8FD5-B7CEB22A6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E25EC9B-2313-4456-AC23-372BFB533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273C57D-6F2C-4E20-8DD3-4C36F2560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91D17EB-E25E-4712-8649-0A6A1A3CA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FA988B2-8992-4C3E-831D-CE16B4684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CB72E20-A533-4227-AFA1-0DEAAEFDF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459E310-09F2-433C-B8AD-C5FA3F7AB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959D3E8-C3EF-49B6-9631-1632DE781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989F7CC-3E00-46DF-A932-1212AE2D7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A28C234-0E4C-47FA-A5DD-3F478972F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0731477-D65C-4279-A318-EB3B959E0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8E4F6ED-DCF2-4408-B9DB-94668F426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A8D72EE-C8DD-4BFA-88CE-444480B36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712FEF9-8A84-4F12-B006-11F05FB06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B80F802-1AE5-44A9-875A-A0902E9B0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2349C22-6288-4C5F-BB6C-1123451A6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7C390C0-A383-4225-B1E6-24D4FD8FE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17F0931-7B0D-43C2-B526-5D5F0E566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189FA00-CD47-4DFE-A8E2-F8B04A3C8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E8919C6-0C09-4BEF-AB8D-DB5D7F5B3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65BCA81-95E1-4CFC-AC2C-FBD249FE9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E88B569-6BDE-4D70-B0C0-B44CD8A9D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98600CA-B008-41FA-883F-B3DD11918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AC30661-3AB9-40C6-B721-9FE4FDE83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949DB9D-A221-4826-8127-A5296F7BD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F7FC4B2-1086-4573-9E64-AB7737C08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DABE3AF-6967-4302-9C06-5FE04DC57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C737BFC-B0A7-4202-98C3-7D440704C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517B1DB-8D09-46F2-8117-FDF08B3AC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BAD21A0-E8F0-4B84-9524-AC698CBBF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99A5E40-4650-4EFE-8C77-F870D7F44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4F23C66-2FA8-4559-A08D-E3E3DC1DC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17D72FE-B488-416C-975D-0CFCC7ED2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B97FB5E-695F-4F34-85E5-739A75E47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F6E8139-3CB3-4EDC-AA3E-A868D32ED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77240F8-F313-48C5-9580-72C24A8E7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4101118-B659-4B49-A469-A506A207B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D0A9A23-7C21-4713-8978-72104ACDA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2084155-D74F-4E27-BEFB-C3F51C1EF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80BD89E-76AB-4A26-866C-D16A31F31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88D3AA0-1511-40E9-BD26-4AC75163F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9C805C0-4196-4ED6-94DD-9D94F0E2E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EDE8D1C-0C3B-4E8C-B907-9E22B766E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06715C2-8954-4088-BF62-AFDCF8014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E32AF59-ADAF-48CC-89E0-82B04F1AB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41AE091-32C8-4C02-8E6B-3B3AFA5C1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5B08129-9900-4F1B-AF8D-D9F5C2F1E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5BD68F3-E10E-4A59-AF81-DF61C768E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5538289-DE08-42CE-864D-2F395698C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F5AB889-056D-430F-B474-E056131C4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E4A16A5-D4C8-433E-BDC1-E64BF5737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AEC73CB-C34A-412A-99D7-585FAED12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067B718-9318-4329-B017-1BF6356D5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EA6765D-AEF3-45D7-AF8F-C67133308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3DA6021-8195-4D28-AD39-7097DE496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41765D3-0D3D-4A71-97C8-2852BC08E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41737C5-9CE3-4CC2-A4D9-7913622FA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438C698-E348-46D3-9718-629A2B24C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84A553E-002A-4886-9B0F-C63BA0E43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26986A1-E697-4D18-A2BE-310BDF64B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9F48AD6-C2C4-4595-A4B6-1691949ED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7A6DCAD-2EAC-4022-82A8-9FF5D12A2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73711D3-EF4D-4A26-9B37-95FA47007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538C024-F83E-496E-AA99-0BC3C4F56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719D810-C604-4127-9371-ABFC72588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92A66FF-0AC6-451E-926C-B3E131A48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C9B9FEA-37B8-48A3-92F5-46D26FFE6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C00EBFB-2CBB-4474-9780-A7C3C9D5D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C15B1D8-87F2-4B33-85BC-B7931EE8B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D40DAC8-9F80-44F9-B829-6FF44C203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58F4137-2ECC-433E-8B6F-1CD8872CD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EC0276B-D9BB-468F-AE4D-1B475C842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CC82515-562C-4BCB-B71A-B8EDAC449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C46C753-E824-4E74-A4A3-0628BAD29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0AEE69D-3E78-41F7-9158-FD6538C47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F753620-970D-45C6-92BD-C2E44348E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DCBBEF5-2CC1-4B5E-A11B-2475E8622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486F3E2-2E9F-40E8-8F01-FB043D9E5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D59C2D2-370A-4266-B730-75AFB8136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1465DFF-EDA9-4709-9B3B-5A91D9018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ooter Placeholder 3"/>
          <p:cNvSpPr/>
          <p:nvPr/>
        </p:nvSpPr>
        <p:spPr>
          <a:xfrm>
            <a:off x="1828800" y="6492960"/>
            <a:ext cx="1600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RF-PAI Items 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Footer Placeholder 3"/>
          <p:cNvSpPr/>
          <p:nvPr/>
        </p:nvSpPr>
        <p:spPr>
          <a:xfrm>
            <a:off x="4038480" y="6492960"/>
            <a:ext cx="262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ssure Ulcers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Footer Placeholder 3"/>
          <p:cNvSpPr/>
          <p:nvPr/>
        </p:nvSpPr>
        <p:spPr>
          <a:xfrm>
            <a:off x="708660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A5EC-D8C4-4250-AF5B-5F5DDCBEED97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Title_Pages_nopeo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RF-PAI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ressure Ulcer Item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Assessment an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ing Guidelines, Cont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010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if the pressure ulcer was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nt on admission and discharg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for location and stage at time of admission and dischar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servation period for pressure ulcer items i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 day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port unstageable pressure ulcers on the IRF-PA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48A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rrent Number of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tage 2 Pressure Ulcers 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48A Number of Stage 2 Pressure Ulcer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42640" y="1598760"/>
            <a:ext cx="754380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 number of Stage 2 pressure ulcers present at admission and dis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" descr="Image of item 48A on the IRF-PAI item set, documenting the number of Stage 2 pressure ulcers on Admission and Discharge."/>
          <p:cNvPicPr/>
          <p:nvPr/>
        </p:nvPicPr>
        <p:blipFill>
          <a:blip r:embed="rId1"/>
          <a:stretch/>
        </p:blipFill>
        <p:spPr>
          <a:xfrm>
            <a:off x="1249200" y="3149640"/>
            <a:ext cx="758988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e 2 Pressure Ulc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18960" y="15998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al thickne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derm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ing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iny or dry 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allow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pe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lc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 or pink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und b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ithout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loug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ui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Image of a Stage 2 pressure ulcer."/>
          <p:cNvPicPr/>
          <p:nvPr/>
        </p:nvPicPr>
        <p:blipFill>
          <a:blip r:embed="rId1"/>
          <a:stretch/>
        </p:blipFill>
        <p:spPr>
          <a:xfrm>
            <a:off x="4495680" y="2133720"/>
            <a:ext cx="39196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tage 2 Pressure Ulcers, Cont.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4" descr="Image of a Stage 2 pressure ulcer, presenting as an intact blister."/>
          <p:cNvPicPr/>
          <p:nvPr/>
        </p:nvPicPr>
        <p:blipFill>
          <a:blip r:embed="rId1"/>
          <a:stretch/>
        </p:blipFill>
        <p:spPr>
          <a:xfrm>
            <a:off x="1523880" y="1800360"/>
            <a:ext cx="6667560" cy="36097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48765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also present as a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act or open/ ruptur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8A Coding Guideli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14280" y="1598400"/>
            <a:ext cx="404352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Stage 2 pressure ulcer from a suspected deep tissue inj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only Stage 2 pressure ulcers in 48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skin tear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e burns, Moisture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ed Skin Dam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xcoriation in 48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Image of suspected deep tissue injury."/>
          <p:cNvPicPr/>
          <p:nvPr/>
        </p:nvPicPr>
        <p:blipFill>
          <a:blip r:embed="rId1"/>
          <a:stretch/>
        </p:blipFill>
        <p:spPr>
          <a:xfrm>
            <a:off x="5364000" y="3886200"/>
            <a:ext cx="2527560" cy="1981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Image of a Stage 2 pressure ulcer."/>
          <p:cNvPicPr/>
          <p:nvPr/>
        </p:nvPicPr>
        <p:blipFill>
          <a:blip r:embed="rId2"/>
          <a:srcRect l="0" t="0" r="0" b="35483"/>
          <a:stretch/>
        </p:blipFill>
        <p:spPr>
          <a:xfrm>
            <a:off x="5029200" y="1523880"/>
            <a:ext cx="319896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A Coding Instruction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mission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14280" y="1598760"/>
            <a:ext cx="7320240" cy="28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2 press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cers present on admiss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Image of item 48A on the IRF-PAI item set, documenting the number of Stage 2 pressure ulcers on Admission and Discharge. The field for Admission is emphasized."/>
          <p:cNvPicPr/>
          <p:nvPr/>
        </p:nvPicPr>
        <p:blipFill>
          <a:blip r:embed="rId1"/>
          <a:stretch/>
        </p:blipFill>
        <p:spPr>
          <a:xfrm>
            <a:off x="1523880" y="3730680"/>
            <a:ext cx="6865920" cy="9936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5181480" y="3875040"/>
            <a:ext cx="1828800" cy="849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Image of item 48A on the IRF-PAI item set, documenting the number of Stage 2 pressure ulcers on Admission and Discharge. The field for Discharge is emphasized."/>
          <p:cNvPicPr/>
          <p:nvPr/>
        </p:nvPicPr>
        <p:blipFill>
          <a:blip r:embed="rId1"/>
          <a:stretch/>
        </p:blipFill>
        <p:spPr>
          <a:xfrm>
            <a:off x="1409760" y="3813120"/>
            <a:ext cx="6856200" cy="9907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A Coding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harge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214280" y="1598400"/>
            <a:ext cx="7320240" cy="19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2 press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cers present at dischar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6324480" y="3809880"/>
            <a:ext cx="1941480" cy="9939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s 48B and C</a:t>
            </a:r>
            <a:br>
              <a:rPr sz="5400"/>
            </a:b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umber of Stage 3 and 4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sure Ulcers </a:t>
            </a: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s 48B and 48C Number of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3 or 4 Pressure Ulcer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219320" y="1598400"/>
            <a:ext cx="685800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the number of Stage 3 or 4 pressure ulcers present at admission and dis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Image of item 48B on the IRF-PAI item set, documenting the number of Stage 3 pressure ulcers on Admission and Discharge."/>
          <p:cNvPicPr/>
          <p:nvPr/>
        </p:nvPicPr>
        <p:blipFill>
          <a:blip r:embed="rId1"/>
          <a:stretch/>
        </p:blipFill>
        <p:spPr>
          <a:xfrm>
            <a:off x="1447920" y="3276720"/>
            <a:ext cx="6823080" cy="914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Image of item 48C on the IRF-PAI item set, documenting the number of Stage 4 pressure ulcers on Admission and Discharge."/>
          <p:cNvPicPr/>
          <p:nvPr/>
        </p:nvPicPr>
        <p:blipFill>
          <a:blip r:embed="rId2"/>
          <a:stretch/>
        </p:blipFill>
        <p:spPr>
          <a:xfrm>
            <a:off x="1981080" y="4495680"/>
            <a:ext cx="69868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sentation 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19320" y="1598400"/>
            <a:ext cx="723888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Pressure Ulcers covered basic concepts associated with pressure ulcers and other skin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esentation focuses on assessment guidelines and coding of Pressure Ulcer items in IRF-PA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e 3 Pressure Ulc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218960" y="159984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thickn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 lo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utaneou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t may b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b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bone, tend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muscle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ough may be pres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obscure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of tissue los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undermining and tunnel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varies by anatomical lo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Image of a Stage 3 pressure ulcer."/>
          <p:cNvPicPr/>
          <p:nvPr/>
        </p:nvPicPr>
        <p:blipFill>
          <a:blip r:embed="rId1"/>
          <a:stretch/>
        </p:blipFill>
        <p:spPr>
          <a:xfrm>
            <a:off x="5791320" y="1981080"/>
            <a:ext cx="2801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e 4 Pressure Ulc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3920" y="1598760"/>
            <a:ext cx="7548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thickn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sed bone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donor 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ough or eschar ma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presen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some par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 wound b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te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mining and tunn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varies by anatomical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9" descr="Image of a Stage 4 pressure ulcer with undermining and tunneling."/>
          <p:cNvPicPr/>
          <p:nvPr/>
        </p:nvPicPr>
        <p:blipFill>
          <a:blip r:embed="rId1"/>
          <a:stretch/>
        </p:blipFill>
        <p:spPr>
          <a:xfrm>
            <a:off x="5486400" y="1981080"/>
            <a:ext cx="33051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Image of item 48C on the IRF-PAI item set, documenting the number of Stage 4 pressure ulcers on Admission and Discharge. The field for Admission is emphasized and coded zero."/>
          <p:cNvPicPr/>
          <p:nvPr/>
        </p:nvPicPr>
        <p:blipFill>
          <a:blip r:embed="rId1"/>
          <a:stretch/>
        </p:blipFill>
        <p:spPr>
          <a:xfrm>
            <a:off x="1905120" y="4848120"/>
            <a:ext cx="5867280" cy="10954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B and 48C Coding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mission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4280" y="1598400"/>
            <a:ext cx="732024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3 and 4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ulcers present on admiss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" descr="Image of item 48B on the IRF-PAI item set, documenting the number of Stage 3 pressure ulcers on Admission and Discharge. The field for Admission is emphasized and coded one."/>
          <p:cNvPicPr/>
          <p:nvPr/>
        </p:nvPicPr>
        <p:blipFill>
          <a:blip r:embed="rId2"/>
          <a:stretch/>
        </p:blipFill>
        <p:spPr>
          <a:xfrm>
            <a:off x="1219320" y="3476520"/>
            <a:ext cx="5614920" cy="10670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0"/>
          <p:cNvSpPr/>
          <p:nvPr/>
        </p:nvSpPr>
        <p:spPr>
          <a:xfrm>
            <a:off x="4173480" y="3487680"/>
            <a:ext cx="1582920" cy="9939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5014800" y="4859280"/>
            <a:ext cx="1582920" cy="9939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B and 48C Coding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harge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18960" y="1598400"/>
            <a:ext cx="701028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3 or 4 pressure ulcers present at dischar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Image of item 48C on the IRF-PAI item set, documenting the number of Stage 4 pressure ulcers on Admission and Discharge. The field for Discharge is emphasized and coded zero."/>
          <p:cNvPicPr/>
          <p:nvPr/>
        </p:nvPicPr>
        <p:blipFill>
          <a:blip r:embed="rId1"/>
          <a:stretch/>
        </p:blipFill>
        <p:spPr>
          <a:xfrm>
            <a:off x="2286000" y="4648320"/>
            <a:ext cx="5638680" cy="1023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Image of item 48B on the IRF-PAI item set, documenting the number of Stage 3 pressure ulcers on Admission and Discharge. The field for Discharge is emphasized and coded one."/>
          <p:cNvPicPr/>
          <p:nvPr/>
        </p:nvPicPr>
        <p:blipFill>
          <a:blip r:embed="rId2"/>
          <a:stretch/>
        </p:blipFill>
        <p:spPr>
          <a:xfrm>
            <a:off x="1371600" y="3505320"/>
            <a:ext cx="5535720" cy="8380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0"/>
          <p:cNvSpPr/>
          <p:nvPr/>
        </p:nvSpPr>
        <p:spPr>
          <a:xfrm>
            <a:off x="5410080" y="3427560"/>
            <a:ext cx="1582920" cy="9936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6313320" y="4645080"/>
            <a:ext cx="1584360" cy="9936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8 Scenario #1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18960" y="1598400"/>
            <a:ext cx="7543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dmission, one pressure ulcer wa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d and documented in the patient’s medical recor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noted to be a full thickness ulcer with no exposure of bone, tendon or mus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ther pressure ulcers were docum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 48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#1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218960" y="1598760"/>
            <a:ext cx="754380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tem 48B, Stage 3, en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Admiss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tems 48A and C, en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Admission f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"/>
          <p:cNvGrpSpPr/>
          <p:nvPr/>
        </p:nvGrpSpPr>
        <p:grpSpPr>
          <a:xfrm>
            <a:off x="1300320" y="4038480"/>
            <a:ext cx="6472080" cy="914400"/>
            <a:chOff x="1300320" y="4038480"/>
            <a:chExt cx="6472080" cy="914400"/>
          </a:xfrm>
        </p:grpSpPr>
        <p:pic>
          <p:nvPicPr>
            <p:cNvPr id="162" name="Picture 3" descr=""/>
            <p:cNvPicPr/>
            <p:nvPr/>
          </p:nvPicPr>
          <p:blipFill>
            <a:blip r:embed="rId1"/>
            <a:srcRect l="2377" t="53194" r="0" b="34576"/>
            <a:stretch/>
          </p:blipFill>
          <p:spPr>
            <a:xfrm>
              <a:off x="1300320" y="4124160"/>
              <a:ext cx="6472080" cy="828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3" name="TextBox 7"/>
            <p:cNvSpPr/>
            <p:nvPr/>
          </p:nvSpPr>
          <p:spPr>
            <a:xfrm>
              <a:off x="5226120" y="403848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64" name="Group 4"/>
          <p:cNvGrpSpPr/>
          <p:nvPr/>
        </p:nvGrpSpPr>
        <p:grpSpPr>
          <a:xfrm>
            <a:off x="1300320" y="4876920"/>
            <a:ext cx="6472080" cy="914400"/>
            <a:chOff x="1300320" y="4876920"/>
            <a:chExt cx="6472080" cy="914400"/>
          </a:xfrm>
        </p:grpSpPr>
        <p:pic>
          <p:nvPicPr>
            <p:cNvPr id="165" name="Picture 3" descr="Image of item 48C on the IRF-PAI item set, documenting the number of Stage 4 pressure ulcers on Admission and Discharge. The field for Admission is coded zero."/>
            <p:cNvPicPr/>
            <p:nvPr/>
          </p:nvPicPr>
          <p:blipFill>
            <a:blip r:embed="rId2"/>
            <a:srcRect l="2377" t="87780" r="0" b="0"/>
            <a:stretch/>
          </p:blipFill>
          <p:spPr>
            <a:xfrm>
              <a:off x="1300320" y="4952880"/>
              <a:ext cx="6472080" cy="838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6" name="TextBox 8"/>
            <p:cNvSpPr/>
            <p:nvPr/>
          </p:nvSpPr>
          <p:spPr>
            <a:xfrm>
              <a:off x="5226120" y="487692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67" name="Group 1"/>
          <p:cNvGrpSpPr/>
          <p:nvPr/>
        </p:nvGrpSpPr>
        <p:grpSpPr>
          <a:xfrm>
            <a:off x="1295280" y="3200400"/>
            <a:ext cx="6477120" cy="914400"/>
            <a:chOff x="1295280" y="3200400"/>
            <a:chExt cx="6477120" cy="914400"/>
          </a:xfrm>
        </p:grpSpPr>
        <p:pic>
          <p:nvPicPr>
            <p:cNvPr id="168" name="Picture 2" descr=""/>
            <p:cNvPicPr/>
            <p:nvPr/>
          </p:nvPicPr>
          <p:blipFill>
            <a:blip r:embed="rId3"/>
            <a:srcRect l="0" t="13340" r="2383" b="13340"/>
            <a:stretch/>
          </p:blipFill>
          <p:spPr>
            <a:xfrm>
              <a:off x="1295280" y="3247920"/>
              <a:ext cx="6477120" cy="866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9" name="TextBox 9"/>
            <p:cNvSpPr/>
            <p:nvPr/>
          </p:nvSpPr>
          <p:spPr>
            <a:xfrm>
              <a:off x="5257800" y="320040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8 Scenario #2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18960" y="1598400"/>
            <a:ext cx="693396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discharge, a patient has one pressure ulcer that is documented in the medical rec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sure ulcer is covered with hard black necrotic tiss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 48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#2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218960" y="1598400"/>
            <a:ext cx="754380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pressure ulcer is unstage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should not be included on the IRF-PA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"/>
          <p:cNvGrpSpPr/>
          <p:nvPr/>
        </p:nvGrpSpPr>
        <p:grpSpPr>
          <a:xfrm>
            <a:off x="1798560" y="2971800"/>
            <a:ext cx="5211720" cy="743040"/>
            <a:chOff x="1798560" y="2971800"/>
            <a:chExt cx="5211720" cy="743040"/>
          </a:xfrm>
        </p:grpSpPr>
        <p:pic>
          <p:nvPicPr>
            <p:cNvPr id="175" name="Picture 1" descr="Image of item 48A on the IRF-PAI item set, documenting the number of Stage 2 pressure ulcers on Admission and Discharge. The field for Admission and the field for Discharge are coded zero."/>
            <p:cNvPicPr/>
            <p:nvPr/>
          </p:nvPicPr>
          <p:blipFill>
            <a:blip r:embed="rId1"/>
            <a:stretch/>
          </p:blipFill>
          <p:spPr>
            <a:xfrm>
              <a:off x="1798560" y="3052440"/>
              <a:ext cx="5211720" cy="6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Box 4"/>
            <p:cNvSpPr/>
            <p:nvPr/>
          </p:nvSpPr>
          <p:spPr>
            <a:xfrm>
              <a:off x="507708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77" name="TextBox 14"/>
            <p:cNvSpPr/>
            <p:nvPr/>
          </p:nvSpPr>
          <p:spPr>
            <a:xfrm>
              <a:off x="632736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78" name="Group 2"/>
          <p:cNvGrpSpPr/>
          <p:nvPr/>
        </p:nvGrpSpPr>
        <p:grpSpPr>
          <a:xfrm>
            <a:off x="1798560" y="3925800"/>
            <a:ext cx="5211720" cy="739800"/>
            <a:chOff x="1798560" y="3925800"/>
            <a:chExt cx="5211720" cy="739800"/>
          </a:xfrm>
        </p:grpSpPr>
        <p:pic>
          <p:nvPicPr>
            <p:cNvPr id="179" name="Picture 2" descr=""/>
            <p:cNvPicPr/>
            <p:nvPr/>
          </p:nvPicPr>
          <p:blipFill>
            <a:blip r:embed="rId2"/>
            <a:stretch/>
          </p:blipFill>
          <p:spPr>
            <a:xfrm>
              <a:off x="1798560" y="3967200"/>
              <a:ext cx="521172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Box 15"/>
            <p:cNvSpPr/>
            <p:nvPr/>
          </p:nvSpPr>
          <p:spPr>
            <a:xfrm>
              <a:off x="5077080" y="3925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1" name="TextBox 16"/>
            <p:cNvSpPr/>
            <p:nvPr/>
          </p:nvSpPr>
          <p:spPr>
            <a:xfrm>
              <a:off x="6327360" y="3925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82" name="Group 3"/>
          <p:cNvGrpSpPr/>
          <p:nvPr/>
        </p:nvGrpSpPr>
        <p:grpSpPr>
          <a:xfrm>
            <a:off x="1798560" y="4910040"/>
            <a:ext cx="5211720" cy="725760"/>
            <a:chOff x="1798560" y="4910040"/>
            <a:chExt cx="5211720" cy="725760"/>
          </a:xfrm>
        </p:grpSpPr>
        <p:pic>
          <p:nvPicPr>
            <p:cNvPr id="183" name="Picture 3" descr=""/>
            <p:cNvPicPr/>
            <p:nvPr/>
          </p:nvPicPr>
          <p:blipFill>
            <a:blip r:embed="rId3"/>
            <a:stretch/>
          </p:blipFill>
          <p:spPr>
            <a:xfrm>
              <a:off x="1798560" y="4953600"/>
              <a:ext cx="5211720" cy="68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Box 17"/>
            <p:cNvSpPr/>
            <p:nvPr/>
          </p:nvSpPr>
          <p:spPr>
            <a:xfrm>
              <a:off x="5077080" y="4910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5" name="TextBox 18"/>
            <p:cNvSpPr/>
            <p:nvPr/>
          </p:nvSpPr>
          <p:spPr>
            <a:xfrm>
              <a:off x="6327360" y="4910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49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sening in Pressure Ulcer Status Since Admission</a:t>
            </a:r>
            <a:br>
              <a:rPr sz="4800"/>
            </a:br>
            <a:br>
              <a:rPr sz="48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49 Worsening Pressur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lcer Status Since Admi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42640" y="1598760"/>
            <a:ext cx="708660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the number of current pressure ulcers at discharge that that have worsened since ad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" descr="An image of the description and fields for item 49 in the IRF-PAI item set."/>
          <p:cNvPicPr/>
          <p:nvPr/>
        </p:nvPicPr>
        <p:blipFill>
          <a:blip r:embed="rId1"/>
          <a:stretch/>
        </p:blipFill>
        <p:spPr>
          <a:xfrm>
            <a:off x="1703520" y="2895480"/>
            <a:ext cx="6145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9320" y="1523880"/>
            <a:ext cx="7162560" cy="43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pressure ulcer items that are documented in the IRF-PA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guidelines for assessing and coding each i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the IRF-PAI pressure ulcer items correctly and accurat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49 Worsen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ssure Ulcer Stat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43000" y="1598400"/>
            <a:ext cx="68580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ncludes pressure ulcers at discharge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pres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a less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erical st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Image of a pair of hands pulling a medical record from a shelf of records."/>
          <p:cNvPicPr/>
          <p:nvPr/>
        </p:nvPicPr>
        <p:blipFill>
          <a:blip r:embed="rId1"/>
          <a:stretch/>
        </p:blipFill>
        <p:spPr>
          <a:xfrm>
            <a:off x="5407200" y="2198520"/>
            <a:ext cx="25905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Guideli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16080" y="1600200"/>
            <a:ext cx="7547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ill be easier to assess worsening status and to code these items if a facility documents and tracks pressure ulcer status on a routine ba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Image of two clinicians reviewing a patient's medical record."/>
          <p:cNvPicPr/>
          <p:nvPr/>
        </p:nvPicPr>
        <p:blipFill>
          <a:blip r:embed="rId1"/>
          <a:stretch/>
        </p:blipFill>
        <p:spPr>
          <a:xfrm>
            <a:off x="3444840" y="3124080"/>
            <a:ext cx="341316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Guidelines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ing a pressure ulcer that was unstageable at admi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consider it to be worse at discharge.  If it becomes stageable, consider it as present on admission.  Code at the stage when it first became stage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worsens after it becomes stageable, it should be coded as worse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Example #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 is admitted with a press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cer that is covered in necrotic tissu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annot be stag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stay, the pressure ulcer is revealed to be a Stage 4 pressure ulc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this Stage 4 pressure ulcer be coded in Item 49 as a “new or worsening” pressure ulc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Guidelines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218960" y="1598400"/>
            <a:ext cx="7543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ing a stageable pressure ulcer that becomes unstageable since admi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it becomes Unstageable due to Slough or Eschar, do not code as worsen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it becomes unstageable and then is debrided so it can be staged, compare its stage before and after it was unstageable. If the stage has worsened, code it as worsenin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Example #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 is admitted with a Stage 3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ulc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stay slough covers much of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ulcer is debrided and found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 Stage 4 pressure ulc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this Stage 4 pressure ulcer be coded in Item 49 as a “new or worsening” pressure ulc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9A Stage 2 Coding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218960" y="1598760"/>
            <a:ext cx="6629400" cy="26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urrent Stage 2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ure ulcers at discharge that were not present or were at a lesser stage on admiss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no Stage 2 ulcers are present, are new or have worse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" descr="Image of item 49A on the IRF-PAI item set, documenting the number of current Stage 2 pressure ulcers that were not present or were at a lesser stage on admission."/>
          <p:cNvPicPr/>
          <p:nvPr/>
        </p:nvPicPr>
        <p:blipFill>
          <a:blip r:embed="rId1"/>
          <a:stretch/>
        </p:blipFill>
        <p:spPr>
          <a:xfrm>
            <a:off x="1631880" y="4572000"/>
            <a:ext cx="65325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9B Stage 3 Coding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218960" y="1598400"/>
            <a:ext cx="7086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urrent Stage 3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ure ulcers at discharge that were not present or were at a lesser stage on admiss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no Stage 3 pressure ulcers are present, are new, or have worse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" descr="Image of item 49B on the IRF-PAI item set, documenting the number of current Stage 3 pressure ulcers that were not present or were at a lesser stage on admission."/>
          <p:cNvPicPr/>
          <p:nvPr/>
        </p:nvPicPr>
        <p:blipFill>
          <a:blip r:embed="rId1"/>
          <a:stretch/>
        </p:blipFill>
        <p:spPr>
          <a:xfrm>
            <a:off x="1636560" y="4724280"/>
            <a:ext cx="6577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9C Stage 4 Coding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218960" y="1598400"/>
            <a:ext cx="70102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urrent Stage 4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ure ulcers at discharge that were not present or were at a lesser stage on admiss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no Stage 4 pressure ulcers are present, are new, or have worse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" descr="Image of item 49C on the IRF-PAI item set, documenting the number of current Stage 4 pressure ulcers that were not present or were at a lesser stage on admission."/>
          <p:cNvPicPr/>
          <p:nvPr/>
        </p:nvPicPr>
        <p:blipFill>
          <a:blip r:embed="rId1"/>
          <a:stretch/>
        </p:blipFill>
        <p:spPr>
          <a:xfrm>
            <a:off x="1636560" y="4792680"/>
            <a:ext cx="660564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Scenario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’s admission assessment documented a Stage 2 pressure ulc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right ischial tubero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discharge, the pressure ulcer has deteriorated to a Stage 3 pressure ulc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ere no other pressure ulcers at admi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 49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Pressure Ulcer Ite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238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F-PAI Pressure Ulcer I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48.  Current Number of Unheal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Ulcers at Each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49.  Worsening in Pressure Ulc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50.  Healed Pressure Ul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219320" y="1598760"/>
            <a:ext cx="731520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Item 49B, Stage 3, 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Items 49A and 49C, 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1447920" y="3220920"/>
            <a:ext cx="6521400" cy="2036880"/>
            <a:chOff x="1447920" y="3220920"/>
            <a:chExt cx="6521400" cy="2036880"/>
          </a:xfrm>
        </p:grpSpPr>
        <p:pic>
          <p:nvPicPr>
            <p:cNvPr id="218" name="Picture 1" descr=""/>
            <p:cNvPicPr/>
            <p:nvPr/>
          </p:nvPicPr>
          <p:blipFill>
            <a:blip r:embed="rId1"/>
            <a:stretch/>
          </p:blipFill>
          <p:spPr>
            <a:xfrm>
              <a:off x="1447920" y="3276000"/>
              <a:ext cx="6521400" cy="1981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219" name="TextBox 2"/>
            <p:cNvSpPr/>
            <p:nvPr/>
          </p:nvSpPr>
          <p:spPr>
            <a:xfrm>
              <a:off x="6480360" y="380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0" name="TextBox 6"/>
            <p:cNvSpPr/>
            <p:nvPr/>
          </p:nvSpPr>
          <p:spPr>
            <a:xfrm>
              <a:off x="6480360" y="3220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1" name="TextBox 7"/>
            <p:cNvSpPr/>
            <p:nvPr/>
          </p:nvSpPr>
          <p:spPr>
            <a:xfrm>
              <a:off x="6480360" y="4419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50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ealed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sure Ulcers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50 Healed Pressure Ulc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142640" y="1598760"/>
            <a:ext cx="746748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ther any unhealed pressure ulcers were present on admission (Item 50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, the number of Stage 2, 3, and 4 pressure ulcers that have completely closed since admission (Items 50B, C, and 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50 Coding Guideli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“healed pressure ulcer” is one tha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ly cl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 epitheli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ed completely with epithelial tissue or resurfaced with new skin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 i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ea continues to have some surface discol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reverse st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0A Coding Instru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219320" y="1598760"/>
            <a:ext cx="7315200" cy="9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em 50A. Unhealed Pressur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lcers Present on Admi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" descr="Image of item 50A Were pressure ulcers present on admission? on the IRF-PAI item set."/>
          <p:cNvPicPr/>
          <p:nvPr/>
        </p:nvPicPr>
        <p:blipFill>
          <a:blip r:embed="rId1"/>
          <a:stretch/>
        </p:blipFill>
        <p:spPr>
          <a:xfrm>
            <a:off x="2111400" y="2941560"/>
            <a:ext cx="5280120" cy="746280"/>
          </a:xfrm>
          <a:prstGeom prst="rect">
            <a:avLst/>
          </a:prstGeom>
          <a:ln w="0">
            <a:noFill/>
          </a:ln>
        </p:spPr>
      </p:pic>
      <p:sp>
        <p:nvSpPr>
          <p:cNvPr id="230" name="Content Placeholder 2"/>
          <p:cNvSpPr/>
          <p:nvPr/>
        </p:nvSpPr>
        <p:spPr>
          <a:xfrm>
            <a:off x="1219320" y="4038480"/>
            <a:ext cx="3504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 0. 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                          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98480" indent="-45540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p Items 50B-D.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Content Placeholder 3"/>
          <p:cNvSpPr/>
          <p:nvPr/>
        </p:nvSpPr>
        <p:spPr>
          <a:xfrm>
            <a:off x="4572000" y="4038480"/>
            <a:ext cx="4343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 1. Yes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3430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Items 50B-D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50B, 50C and 50D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oding Instruction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219320" y="1598400"/>
            <a:ext cx="76960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ms 50B, C and D. Stage 2, 3 or 4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sure Ulcers on Admission That Have Hea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pressure ulcers at that stag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admission which have completely closed at discharg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none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" descr="Image of items 50B Stage 2, 50C Stage 3, and 50D Stage 4 of the IR-PAI item set. This indicates the number of pressure ulcers on admission that have healed."/>
          <p:cNvPicPr/>
          <p:nvPr/>
        </p:nvPicPr>
        <p:blipFill>
          <a:blip r:embed="rId1"/>
          <a:stretch/>
        </p:blipFill>
        <p:spPr>
          <a:xfrm>
            <a:off x="3467160" y="4049640"/>
            <a:ext cx="491472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50 Scenario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 is admitted with one Stage 2 pressure ulc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discharge, the ulcer is heal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s 50B, C, and D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219320" y="1598400"/>
            <a:ext cx="731520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50B.  Stage 2.  Co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he pressu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cer that hea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50C.  Stage 3.  Co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50D.  Stage 4.  Co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1600200" y="3936960"/>
            <a:ext cx="6019920" cy="1854360"/>
            <a:chOff x="1600200" y="3936960"/>
            <a:chExt cx="6019920" cy="1854360"/>
          </a:xfrm>
        </p:grpSpPr>
        <p:pic>
          <p:nvPicPr>
            <p:cNvPr id="240" name="Picture 1" descr=""/>
            <p:cNvPicPr/>
            <p:nvPr/>
          </p:nvPicPr>
          <p:blipFill>
            <a:blip r:embed="rId1"/>
            <a:stretch/>
          </p:blipFill>
          <p:spPr>
            <a:xfrm>
              <a:off x="1600200" y="3936960"/>
              <a:ext cx="6019920" cy="18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Box 2"/>
            <p:cNvSpPr/>
            <p:nvPr/>
          </p:nvSpPr>
          <p:spPr>
            <a:xfrm>
              <a:off x="6180120" y="3957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42" name="TextBox 6"/>
            <p:cNvSpPr/>
            <p:nvPr/>
          </p:nvSpPr>
          <p:spPr>
            <a:xfrm>
              <a:off x="6180120" y="4491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43" name="TextBox 7"/>
            <p:cNvSpPr/>
            <p:nvPr/>
          </p:nvSpPr>
          <p:spPr>
            <a:xfrm>
              <a:off x="6180120" y="5024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ortance of Clinical Assess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lete and ongoing skin assessm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d by clinical standards is essent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ssessment, which identifies and evaluates all areas at risk for constant pressure and determines the etiology of all skin ulcers and skin conditions/problems, should direct the appropriate skin management interven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ion of Pressure Ulcer items in the IRF-PAI does not replace this asse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48</a:t>
            </a:r>
            <a:br>
              <a:rPr sz="5400"/>
            </a:b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rrent Number of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healed Pressure Ulce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 Each Stage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em 48 Current Number of Unhealed Pressure Ulcers at Each St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42640" y="1598400"/>
            <a:ext cx="7543800" cy="10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 curr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unhealed pressure ulcers at Stages 2, 3 and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Image of item 48A on the IRF-PAI item set, documenting the number of Stage 2 pressure ulcers on Admission and Discharge."/>
          <p:cNvPicPr/>
          <p:nvPr/>
        </p:nvPicPr>
        <p:blipFill>
          <a:blip r:embed="rId1"/>
          <a:stretch/>
        </p:blipFill>
        <p:spPr>
          <a:xfrm>
            <a:off x="1295280" y="2917800"/>
            <a:ext cx="5211720" cy="663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Image of item 48B on the IRF-PAI item set, documenting the number of Stage 3 pressure ulcers on Admission and Discharge."/>
          <p:cNvPicPr/>
          <p:nvPr/>
        </p:nvPicPr>
        <p:blipFill>
          <a:blip r:embed="rId2"/>
          <a:stretch/>
        </p:blipFill>
        <p:spPr>
          <a:xfrm>
            <a:off x="2271600" y="3801960"/>
            <a:ext cx="5173920" cy="69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Image of item 48C on the IRF-PAI item set, documenting the number of Stage 4 pressure ulcers on Admission and Discharge."/>
          <p:cNvPicPr/>
          <p:nvPr/>
        </p:nvPicPr>
        <p:blipFill>
          <a:blip r:embed="rId3"/>
          <a:stretch/>
        </p:blipFill>
        <p:spPr>
          <a:xfrm>
            <a:off x="3352680" y="4724280"/>
            <a:ext cx="518184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ing Defini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has adap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2007 NPUAP defini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ategories of stag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:  www.npuap.o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diagrams of ulc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s can be download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ducational u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Image of the National Pressure Ulcer Advisory Panel logo. Reproduced by permission."/>
          <p:cNvPicPr/>
          <p:nvPr/>
        </p:nvPicPr>
        <p:blipFill>
          <a:blip r:embed="rId1"/>
          <a:srcRect l="3892" t="0" r="67460" b="0"/>
          <a:stretch/>
        </p:blipFill>
        <p:spPr>
          <a:xfrm>
            <a:off x="5638680" y="3124080"/>
            <a:ext cx="2878200" cy="173844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107" name="TextBox 1"/>
          <p:cNvSpPr/>
          <p:nvPr/>
        </p:nvSpPr>
        <p:spPr>
          <a:xfrm>
            <a:off x="5636880" y="4865760"/>
            <a:ext cx="210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d with permission</a:t>
            </a: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Assessment an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ing Guidel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curr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unheal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c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ead-to-toe assessment of pat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visual inspection and palpation to identify appropriate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only wounds that are the result of pres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deepest anatomical stage of each ul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reverse st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19:05Z</dcterms:created>
  <dc:creator>Centers for Medicare &amp; Medicaid Services</dc:creator>
  <dc:description/>
  <dc:language>en-US</dc:language>
  <cp:lastModifiedBy>Jennifer Parrish</cp:lastModifiedBy>
  <cp:lastPrinted>2007-05-20T22:53:41Z</cp:lastPrinted>
  <dcterms:modified xsi:type="dcterms:W3CDTF">2012-05-14T13:15:57Z</dcterms:modified>
  <cp:revision>1302</cp:revision>
  <dc:subject>MDS Training Materials</dc:subject>
  <dc:title>Section M Skin Condi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302051</vt:r8>
  </property>
  <property fmtid="{D5CDD505-2E9C-101B-9397-08002B2CF9AE}" pid="3" name="_AuthorEmail">
    <vt:lpwstr>Caroline.Gallaher@cms.hhs.gov</vt:lpwstr>
  </property>
  <property fmtid="{D5CDD505-2E9C-101B-9397-08002B2CF9AE}" pid="4" name="_AuthorEmailDisplayName">
    <vt:lpwstr>Gallaher, Caroline D. (CMS/OCSQ)</vt:lpwstr>
  </property>
  <property fmtid="{D5CDD505-2E9C-101B-9397-08002B2CF9AE}" pid="5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6" name="_NewReviewCycle">
    <vt:lpwstr/>
  </property>
</Properties>
</file>