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BCE9-D1E3-4DBC-BB3D-02FDA03D5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0B33-EC50-45CB-B3B6-A5E790111F2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A66A-43CA-4509-A392-A3432B22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C28A-9F51-4BF1-8D72-373A939E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5042-FDD3-432D-813E-BB4521AD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6D7-5503-46F8-83BF-E013A966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0B9C-2D33-4F8E-8E47-3F894D0C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2944-5193-464B-A62D-CF3F1DE2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7326-0BBA-421B-BB11-83B6BEE8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BE41-23BC-494C-98BF-38DD5A9F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29DF-1606-42AC-B864-3E5910CD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4F2B-AB0E-4D0B-A75C-BDEDD11B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85AE-86EC-436E-A4A3-38E9AE1F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6291-F79B-4F2D-9E48-0C4A4EB8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6098-7CD6-4BBF-B47E-D85507AF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EEB9-7F56-4E0B-9495-A73833FE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948B-D486-40B9-AACA-C2CA524C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1750-9268-41D7-A998-6C185ECB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6BC8-44DF-45F2-8229-CFC58441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B81-7708-4BB6-85B4-C4472C8F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68A-2A58-4D21-964D-7AC928B5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09DA-DC45-400B-875E-F50539E2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EC4-006F-4023-8A1B-4BBAD25E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298E-6D45-46CD-B84D-46B42B63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B6A-3DAA-4D22-8184-0FB9D69C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DD5-27BB-43E8-9959-1C3418EF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19C8-E507-4C2F-8BDA-DF12E1E1BC0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B908-6B2D-4E5B-89C2-17DEF1CCDDA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h/henryford106096.html" TargetMode="External"/><Relationship Id="rId2" Type="http://schemas.openxmlformats.org/officeDocument/2006/relationships/hyperlink" Target="http://www.brainyquote.com/quotes/quotes/s/stevejobs126246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37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elc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590920" y="4952880"/>
            <a:ext cx="6400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ack Williams, Dire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04920" y="380880"/>
            <a:ext cx="1600200" cy="1600200"/>
          </a:xfrm>
          <a:prstGeom prst="rect">
            <a:avLst/>
          </a:prstGeom>
          <a:solidFill>
            <a:srgbClr val="9f9d4f"/>
          </a:solidFill>
          <a:ln w="0">
            <a:noFill/>
          </a:ln>
          <a:effectLst>
            <a:outerShdw dist="222200" dir="8939309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CA 3004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e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njo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ursing Home MDS – June 199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me Health OASIS – August 199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patient Rehab Facility PAI – Januar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ng Bed MDS – Jul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ng Term Care Hospital CDS – October 201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tal Assessments (through 04/25/12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220,0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 ~163,5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4,7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verage Monthly Assessments Ad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1,6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~1,1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38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A 300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asu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blic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sessment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ealthcare Acquired Infections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m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ffice of Clinical Standards and 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id and CHIP Ser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s for Disease Control and Prevention – CD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jo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Harbor Plac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aryland Science Cent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Aquari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Maritime Muse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ood Eat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www.baltimore.or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 means doing it right when no one is looking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1"/>
              </a:rPr>
              <a:t>Henry F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 a yardstick of quality. Some people aren't used to an environment where excellence is expected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2"/>
              </a:rPr>
              <a:t>Steve Job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18:08Z</dcterms:created>
  <dc:creator>IFMC Employee</dc:creator>
  <dc:description/>
  <dc:language>en-US</dc:language>
  <cp:lastModifiedBy>Jennifer Parrish</cp:lastModifiedBy>
  <dcterms:modified xsi:type="dcterms:W3CDTF">2012-05-11T11:47:03Z</dcterms:modified>
  <cp:revision>65</cp:revision>
  <dc:subject/>
  <dc:title>QIES Year in Review -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5215944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