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9.jpeg" ContentType="image/jpeg"/>
  <Override PartName="/ppt/media/image21.jpeg" ContentType="image/jpeg"/>
  <Override PartName="/ppt/media/image16.jpeg" ContentType="image/jpeg"/>
  <Override PartName="/ppt/media/image28.jpeg" ContentType="image/jpeg"/>
  <Override PartName="/ppt/media/image20.png" ContentType="image/png"/>
  <Override PartName="/ppt/media/image19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97044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DFB21DF-B9E1-4906-9B49-5DF64F2C7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AA90463-C617-41C3-AC03-2CFB53AFA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7493BDC-B172-4092-B6F9-D0D462738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010E315-8A06-4C60-B163-AF2AD3FC0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9DF52D4-FFD0-4878-8941-FF185096F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D7BEF91-55EF-4C5D-96BA-82BDB1059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983D6AF-D12C-4F78-AF23-CA0BA4D38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4342456-EE5C-47CA-BC56-9F8ABA87A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F3391F6-4E1C-4327-B6FD-86423C699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1A4BF53-40B1-40D7-9584-756074607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3C555F9-7F19-4BA9-BECC-D74F55C6D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57DF32D-A67E-46D2-9A91-36269C380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1EC41A8-8B7C-4B22-BAF6-A559D0A08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33B9E48-C063-488A-80EE-224E727AC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1A9B21C-CDF4-4CCD-8DB8-1810A70EE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DA750E0-2490-4D4E-9F1A-40D6CF121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9E07C2C-08FD-4462-8BDE-9F53A73F2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3B37803-8CFC-45A5-B4B2-D64518699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90685E5-EF4E-43C6-BD2B-95BB79835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646F8BE-22EE-4FBB-BADA-DB9F284A0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A3DA687-1C73-41BB-BFAB-A0C18B6C6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EA31AF2-3B03-40D5-A266-9A3750904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24D10B8-0FAD-4929-899A-FED10F4C4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088E5D5-431F-429F-8A53-DDC927119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87E1731-DA8B-4F14-861A-C1D6FA8BF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C1F0E58-3542-46A1-A1B9-748A84E8C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F40D67E-0D6D-4F0C-B04E-05360096B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53C22A2-3145-4C71-A4C3-D8288A6DE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F2CEBE2-59A7-40E3-B78A-C8B86BF5D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25A2E95-4C31-47C0-877C-D1BE431E7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D811A49-14D5-4219-AA91-2D9E4760D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B744448-D374-4B85-ADB9-F73285863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3CE577D-140E-4311-B362-55ECE3956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59880E8-DE71-49E0-B625-6F535A084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9D33EB5-A58C-404E-837F-321926D8D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321CF31-877E-4760-8763-45DCFC593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77210C0-90C3-49D5-9B52-BEB4FBAB2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0E31059-5106-4C04-9E04-DBBC9FE46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D4B15A8-891B-40C4-9A9B-AFDBFB784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21D89FC-89D9-479D-9B1F-4E3E297E4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7FE2C47-1E3B-4080-B105-0FE47432C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00F2C6E-4E38-4BF1-AC2F-FB7DB2F4F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3F75F6B-97A7-4260-B7CB-5BD0644C9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62D0EBA-6580-4EB9-8743-21F3774FE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307B8D5-0B64-490D-91EC-8CD7A9ED7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8753826-ECA6-4066-B7DC-269BE8B30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917BB6E-8640-482B-99A8-C12BBCDC8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6D7EF32-A0AD-48B6-A354-A44F2B45C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4E6F686-CFBF-4125-B3B7-EFEA317F7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3E2A7E4-B97E-4C25-AC7F-516E8148F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443B5E8-2F39-4409-81FA-55EE43A1A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8194C2A-173E-4C93-8D16-753E6C005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B152E63-8DDA-41D9-A577-435E3CC5A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58D9EE4-EAEF-4A5A-986D-D6E84B99C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C57BD2B-527D-474C-B6EF-38C5582D7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215F6FC-9193-4602-8E1D-5AA7342E1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E0F8E62-62ED-491F-B582-A6F1C6FB6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DA1A4B8-0789-48BA-9CE4-E27D46CCF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5D76F62-A91A-49A4-B00F-FBA205F9B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764844D-A912-4022-B55D-AE51B9937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853B861-CE5D-4E2B-8298-2DDD81C75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2AB4F29-1187-4253-B37C-524EEF0CE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A464A64-45DC-4CE4-BFC6-CE3A9BF76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B08D87D-45B9-4BCC-A026-F907C22D7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E99132C-830D-43A5-877B-B855C2FA0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F9053A3-4EDA-4635-ABA9-18B596C1F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61FB451-A8D8-4D8C-85D6-1D0BD2FEB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0FD204D-1619-4384-805A-6042EBC46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A246589-C97A-4F8F-8C95-A2F6FBE07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B183A24-1AE6-46FA-A645-BA90FEE2B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353E5B8-FA33-4D5D-B850-3AB5881AA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A729883-981D-4348-B697-EADB68B42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6D68892-95FA-4B0E-BEB1-BEA246752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1949A49-CFF3-4D1E-B34A-C9DDD2D77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4260A3A-395E-4C94-977A-B1A13BBD3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88809F8-5791-4E9D-9DDA-AF3C4D0D7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4D47D9A-1639-45FD-98B1-BF61F0CE2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17CCF7E-69EF-4649-A6FD-938205BD5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4C0F0F6-07C8-4541-BE38-4DFD39CBA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CCB1487-395F-4486-9A6B-E8CAC4D18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A87FE34-D908-4562-9235-6227B6F90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79B1352-20E6-4F79-8477-D426CF4E5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E6348AD-D2F3-440B-9B6A-0C149DCE0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F9BF73F-7C7B-4AC4-A1C1-6B5425A49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4B51200-685C-4625-9BD0-FD0A6F863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1C928F8-0ABA-4D95-91B6-1F923AC68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2B5BD81-CFE6-41FC-801E-6958A0BA1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133227F-4751-4D73-8E69-9C25C7E9F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D18176E-BDA4-4104-96BD-90026787E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ooter Placeholder 3"/>
          <p:cNvSpPr/>
          <p:nvPr/>
        </p:nvSpPr>
        <p:spPr>
          <a:xfrm>
            <a:off x="1828800" y="6492960"/>
            <a:ext cx="1600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RF-PAI Items 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Footer Placeholder 3"/>
          <p:cNvSpPr/>
          <p:nvPr/>
        </p:nvSpPr>
        <p:spPr>
          <a:xfrm>
            <a:off x="4038480" y="6492960"/>
            <a:ext cx="262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essure Ulcers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Footer Placeholder 3"/>
          <p:cNvSpPr/>
          <p:nvPr/>
        </p:nvSpPr>
        <p:spPr>
          <a:xfrm>
            <a:off x="708660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0F3A-F4BC-4092-B560-29F52F1B2E04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Title_Pages_nopeople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RF-PAI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ressure Ulcer Item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Assessment and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ding Guidelines, Cont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010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if the pressure ulcer was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ent on admission and discharg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iew for location and stage at time of admission and dischar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servation period for pressure ulcer items i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 day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port unstageable pressure ulcers on the IRF-PA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em 48A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rrent Number of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tage 2 Pressure Ulcers 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m 48A Number of Stage 2 Pressure Ulcer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142640" y="1598760"/>
            <a:ext cx="754380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s number of Stage 2 pressure ulcers present at admission and dischar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" descr="Image of item 48A on the IRF-PAI item set, documenting the number of Stage 2 pressure ulcers on Admission and Discharge."/>
          <p:cNvPicPr/>
          <p:nvPr/>
        </p:nvPicPr>
        <p:blipFill>
          <a:blip r:embed="rId1"/>
          <a:stretch/>
        </p:blipFill>
        <p:spPr>
          <a:xfrm>
            <a:off x="1249200" y="3149640"/>
            <a:ext cx="758988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ge 2 Pressure Ulc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218960" y="15998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ial thicknes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of derm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ing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iny or dry 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allow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pe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lc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d or pink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und b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ithout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loug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uis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Image of a Stage 2 pressure ulcer."/>
          <p:cNvPicPr/>
          <p:nvPr/>
        </p:nvPicPr>
        <p:blipFill>
          <a:blip r:embed="rId1"/>
          <a:stretch/>
        </p:blipFill>
        <p:spPr>
          <a:xfrm>
            <a:off x="4495680" y="2133720"/>
            <a:ext cx="391968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72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Stage 2 Pressure Ulcers, Cont.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4" descr="Image of a Stage 2 pressure ulcer, presenting as an intact blister."/>
          <p:cNvPicPr/>
          <p:nvPr/>
        </p:nvPicPr>
        <p:blipFill>
          <a:blip r:embed="rId1"/>
          <a:stretch/>
        </p:blipFill>
        <p:spPr>
          <a:xfrm>
            <a:off x="1523880" y="1800360"/>
            <a:ext cx="6667560" cy="36097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487656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also present as a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act or open/ ruptur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8A Coding Guidelin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14280" y="1598400"/>
            <a:ext cx="404352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e Stage 2 pressure ulcer from a suspected deep tissue inj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only Stage 2 pressure ulcers in 48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skin tear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pe burns, Moisture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ed Skin Damag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excoriation in 48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Image of suspected deep tissue injury."/>
          <p:cNvPicPr/>
          <p:nvPr/>
        </p:nvPicPr>
        <p:blipFill>
          <a:blip r:embed="rId1"/>
          <a:stretch/>
        </p:blipFill>
        <p:spPr>
          <a:xfrm>
            <a:off x="5364000" y="3886200"/>
            <a:ext cx="2527560" cy="1981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Image of a Stage 2 pressure ulcer."/>
          <p:cNvPicPr/>
          <p:nvPr/>
        </p:nvPicPr>
        <p:blipFill>
          <a:blip r:embed="rId2"/>
          <a:srcRect l="0" t="0" r="0" b="35483"/>
          <a:stretch/>
        </p:blipFill>
        <p:spPr>
          <a:xfrm>
            <a:off x="5029200" y="1523880"/>
            <a:ext cx="3198960" cy="21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8A Coding Instruction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mission Fie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14280" y="1598760"/>
            <a:ext cx="7320240" cy="28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Stage 2 pressu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cers present on admiss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ne, 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Image of item 48A on the IRF-PAI item set, documenting the number of Stage 2 pressure ulcers on Admission and Discharge. The field for Admission is emphasized."/>
          <p:cNvPicPr/>
          <p:nvPr/>
        </p:nvPicPr>
        <p:blipFill>
          <a:blip r:embed="rId1"/>
          <a:stretch/>
        </p:blipFill>
        <p:spPr>
          <a:xfrm>
            <a:off x="1523880" y="3730680"/>
            <a:ext cx="6865920" cy="9936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5181480" y="3875040"/>
            <a:ext cx="1828800" cy="8492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Image of item 48A on the IRF-PAI item set, documenting the number of Stage 2 pressure ulcers on Admission and Discharge. The field for Discharge is emphasized."/>
          <p:cNvPicPr/>
          <p:nvPr/>
        </p:nvPicPr>
        <p:blipFill>
          <a:blip r:embed="rId1"/>
          <a:stretch/>
        </p:blipFill>
        <p:spPr>
          <a:xfrm>
            <a:off x="1409760" y="3813120"/>
            <a:ext cx="6856200" cy="9907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8A Coding Instructio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harge Fie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214280" y="1598400"/>
            <a:ext cx="7320240" cy="19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Stage 2 pressu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cers present at discharg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ne, 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6324480" y="3809880"/>
            <a:ext cx="1941480" cy="99396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ems 48B and C</a:t>
            </a:r>
            <a:br>
              <a:rPr sz="5400"/>
            </a:b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umber of Stage 3 and 4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essure Ulcers </a:t>
            </a: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ms 48B and 48C Number of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ge 3 or 4 Pressure Ulcer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219320" y="1598400"/>
            <a:ext cx="685800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the number of Stage 3 or 4 pressure ulcers present at admission and dischar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Image of item 48B on the IRF-PAI item set, documenting the number of Stage 3 pressure ulcers on Admission and Discharge."/>
          <p:cNvPicPr/>
          <p:nvPr/>
        </p:nvPicPr>
        <p:blipFill>
          <a:blip r:embed="rId1"/>
          <a:stretch/>
        </p:blipFill>
        <p:spPr>
          <a:xfrm>
            <a:off x="1447920" y="3276720"/>
            <a:ext cx="6823080" cy="914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Image of item 48C on the IRF-PAI item set, documenting the number of Stage 4 pressure ulcers on Admission and Discharge."/>
          <p:cNvPicPr/>
          <p:nvPr/>
        </p:nvPicPr>
        <p:blipFill>
          <a:blip r:embed="rId2"/>
          <a:stretch/>
        </p:blipFill>
        <p:spPr>
          <a:xfrm>
            <a:off x="1981080" y="4495680"/>
            <a:ext cx="69868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000" y="72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sentation Overvie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219320" y="1598400"/>
            <a:ext cx="723888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to Pressure Ulcers covered basic concepts associated with pressure ulcers and other skin 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esentation focuses on assessment guidelines and coding of Pressure Ulcer items in IRF-PA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ge 3 Pressure Ulc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218960" y="1599840"/>
            <a:ext cx="7391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thickn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ssue lo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cutaneou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t may b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ib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bone, tend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muscle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ough may be pres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obscure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h of tissue los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undermining and tunnel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h varies by anatomical lo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Image of a Stage 3 pressure ulcer."/>
          <p:cNvPicPr/>
          <p:nvPr/>
        </p:nvPicPr>
        <p:blipFill>
          <a:blip r:embed="rId1"/>
          <a:stretch/>
        </p:blipFill>
        <p:spPr>
          <a:xfrm>
            <a:off x="5791320" y="1981080"/>
            <a:ext cx="2801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ge 4 Pressure Ulc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3920" y="1598760"/>
            <a:ext cx="7548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thickn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ssu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osed bone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ndonor mus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ough or eschar ma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present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some par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 wound b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te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mining and tunn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h varies by anatomical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9" descr="Image of a Stage 4 pressure ulcer with undermining and tunneling."/>
          <p:cNvPicPr/>
          <p:nvPr/>
        </p:nvPicPr>
        <p:blipFill>
          <a:blip r:embed="rId1"/>
          <a:stretch/>
        </p:blipFill>
        <p:spPr>
          <a:xfrm>
            <a:off x="5486400" y="1981080"/>
            <a:ext cx="33051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Image of item 48C on the IRF-PAI item set, documenting the number of Stage 4 pressure ulcers on Admission and Discharge. The field for Admission is emphasized and coded zero."/>
          <p:cNvPicPr/>
          <p:nvPr/>
        </p:nvPicPr>
        <p:blipFill>
          <a:blip r:embed="rId1"/>
          <a:stretch/>
        </p:blipFill>
        <p:spPr>
          <a:xfrm>
            <a:off x="1905120" y="4848120"/>
            <a:ext cx="5867280" cy="10954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8B and 48C Coding Instructio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mission Fie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4280" y="1598400"/>
            <a:ext cx="732024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Stage 3 and 4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ure ulcers present on admiss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ne, 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" descr="Image of item 48B on the IRF-PAI item set, documenting the number of Stage 3 pressure ulcers on Admission and Discharge. The field for Admission is emphasized and coded one."/>
          <p:cNvPicPr/>
          <p:nvPr/>
        </p:nvPicPr>
        <p:blipFill>
          <a:blip r:embed="rId2"/>
          <a:stretch/>
        </p:blipFill>
        <p:spPr>
          <a:xfrm>
            <a:off x="1219320" y="3476520"/>
            <a:ext cx="5614920" cy="10670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0"/>
          <p:cNvSpPr/>
          <p:nvPr/>
        </p:nvSpPr>
        <p:spPr>
          <a:xfrm>
            <a:off x="4173480" y="3487680"/>
            <a:ext cx="1582920" cy="99396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5014800" y="4859280"/>
            <a:ext cx="1582920" cy="99396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8B and 48C Coding Instructio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harge Fie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18960" y="1598400"/>
            <a:ext cx="701028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Stage 3 or 4 pressure ulcers present at discharg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ne, 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Image of item 48C on the IRF-PAI item set, documenting the number of Stage 4 pressure ulcers on Admission and Discharge. The field for Discharge is emphasized and coded zero."/>
          <p:cNvPicPr/>
          <p:nvPr/>
        </p:nvPicPr>
        <p:blipFill>
          <a:blip r:embed="rId1"/>
          <a:stretch/>
        </p:blipFill>
        <p:spPr>
          <a:xfrm>
            <a:off x="2286000" y="4648320"/>
            <a:ext cx="5638680" cy="1023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Image of item 48B on the IRF-PAI item set, documenting the number of Stage 3 pressure ulcers on Admission and Discharge. The field for Discharge is emphasized and coded one."/>
          <p:cNvPicPr/>
          <p:nvPr/>
        </p:nvPicPr>
        <p:blipFill>
          <a:blip r:embed="rId2"/>
          <a:stretch/>
        </p:blipFill>
        <p:spPr>
          <a:xfrm>
            <a:off x="1371600" y="3505320"/>
            <a:ext cx="5535720" cy="8380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0"/>
          <p:cNvSpPr/>
          <p:nvPr/>
        </p:nvSpPr>
        <p:spPr>
          <a:xfrm>
            <a:off x="5410080" y="3427560"/>
            <a:ext cx="1582920" cy="9936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6313320" y="4645080"/>
            <a:ext cx="1584360" cy="9936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8 Scenario #1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218960" y="1598400"/>
            <a:ext cx="7543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dmission, one pressure ulcer wa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d and documented in the patient’s medical recor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noted to be a full thickness ulcer with no exposure of bone, tendon or mus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ther pressure ulcers were docume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Item 48 be co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enario #1 Correct Coding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218960" y="1598760"/>
            <a:ext cx="7543800" cy="13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tem 48B, Stage 3, ent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Admiss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tems 48A and C, ent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Admission fie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2"/>
          <p:cNvGrpSpPr/>
          <p:nvPr/>
        </p:nvGrpSpPr>
        <p:grpSpPr>
          <a:xfrm>
            <a:off x="1300320" y="4038480"/>
            <a:ext cx="6472080" cy="914400"/>
            <a:chOff x="1300320" y="4038480"/>
            <a:chExt cx="6472080" cy="914400"/>
          </a:xfrm>
        </p:grpSpPr>
        <p:pic>
          <p:nvPicPr>
            <p:cNvPr id="162" name="Picture 3" descr=""/>
            <p:cNvPicPr/>
            <p:nvPr/>
          </p:nvPicPr>
          <p:blipFill>
            <a:blip r:embed="rId1"/>
            <a:srcRect l="2377" t="53194" r="0" b="34576"/>
            <a:stretch/>
          </p:blipFill>
          <p:spPr>
            <a:xfrm>
              <a:off x="1300320" y="4124160"/>
              <a:ext cx="6472080" cy="828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3" name="TextBox 7"/>
            <p:cNvSpPr/>
            <p:nvPr/>
          </p:nvSpPr>
          <p:spPr>
            <a:xfrm>
              <a:off x="5226120" y="4038480"/>
              <a:ext cx="48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64" name="Group 4"/>
          <p:cNvGrpSpPr/>
          <p:nvPr/>
        </p:nvGrpSpPr>
        <p:grpSpPr>
          <a:xfrm>
            <a:off x="1300320" y="4876920"/>
            <a:ext cx="6472080" cy="914400"/>
            <a:chOff x="1300320" y="4876920"/>
            <a:chExt cx="6472080" cy="914400"/>
          </a:xfrm>
        </p:grpSpPr>
        <p:pic>
          <p:nvPicPr>
            <p:cNvPr id="165" name="Picture 3" descr="Image of item 48C on the IRF-PAI item set, documenting the number of Stage 4 pressure ulcers on Admission and Discharge. The field for Admission is coded zero."/>
            <p:cNvPicPr/>
            <p:nvPr/>
          </p:nvPicPr>
          <p:blipFill>
            <a:blip r:embed="rId2"/>
            <a:srcRect l="2377" t="87780" r="0" b="0"/>
            <a:stretch/>
          </p:blipFill>
          <p:spPr>
            <a:xfrm>
              <a:off x="1300320" y="4952880"/>
              <a:ext cx="6472080" cy="838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6" name="TextBox 8"/>
            <p:cNvSpPr/>
            <p:nvPr/>
          </p:nvSpPr>
          <p:spPr>
            <a:xfrm>
              <a:off x="5226120" y="4876920"/>
              <a:ext cx="48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67" name="Group 1"/>
          <p:cNvGrpSpPr/>
          <p:nvPr/>
        </p:nvGrpSpPr>
        <p:grpSpPr>
          <a:xfrm>
            <a:off x="1295280" y="3200400"/>
            <a:ext cx="6477120" cy="914400"/>
            <a:chOff x="1295280" y="3200400"/>
            <a:chExt cx="6477120" cy="914400"/>
          </a:xfrm>
        </p:grpSpPr>
        <p:pic>
          <p:nvPicPr>
            <p:cNvPr id="168" name="Picture 2" descr=""/>
            <p:cNvPicPr/>
            <p:nvPr/>
          </p:nvPicPr>
          <p:blipFill>
            <a:blip r:embed="rId3"/>
            <a:srcRect l="0" t="13340" r="2383" b="13340"/>
            <a:stretch/>
          </p:blipFill>
          <p:spPr>
            <a:xfrm>
              <a:off x="1295280" y="3247920"/>
              <a:ext cx="6477120" cy="8668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9" name="TextBox 9"/>
            <p:cNvSpPr/>
            <p:nvPr/>
          </p:nvSpPr>
          <p:spPr>
            <a:xfrm>
              <a:off x="5257800" y="3200400"/>
              <a:ext cx="48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8 Scenario #2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18960" y="1598400"/>
            <a:ext cx="693396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discharge, a patient has one pressure ulcer that is documented in the medical rec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sure ulcer is covered with hard black necrotic tiss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Item 48 be co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enario #2 Correct Coding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218960" y="1598400"/>
            <a:ext cx="754380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pressure ulcer is unstageab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should not be included on the IRF-PA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1"/>
          <p:cNvGrpSpPr/>
          <p:nvPr/>
        </p:nvGrpSpPr>
        <p:grpSpPr>
          <a:xfrm>
            <a:off x="1798560" y="2971800"/>
            <a:ext cx="5211720" cy="743040"/>
            <a:chOff x="1798560" y="2971800"/>
            <a:chExt cx="5211720" cy="743040"/>
          </a:xfrm>
        </p:grpSpPr>
        <p:pic>
          <p:nvPicPr>
            <p:cNvPr id="175" name="Picture 1" descr="Image of item 48A on the IRF-PAI item set, documenting the number of Stage 2 pressure ulcers on Admission and Discharge. The field for Admission and the field for Discharge are coded zero."/>
            <p:cNvPicPr/>
            <p:nvPr/>
          </p:nvPicPr>
          <p:blipFill>
            <a:blip r:embed="rId1"/>
            <a:stretch/>
          </p:blipFill>
          <p:spPr>
            <a:xfrm>
              <a:off x="1798560" y="3052440"/>
              <a:ext cx="5211720" cy="6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Box 4"/>
            <p:cNvSpPr/>
            <p:nvPr/>
          </p:nvSpPr>
          <p:spPr>
            <a:xfrm>
              <a:off x="507708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77" name="TextBox 14"/>
            <p:cNvSpPr/>
            <p:nvPr/>
          </p:nvSpPr>
          <p:spPr>
            <a:xfrm>
              <a:off x="632736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78" name="Group 2"/>
          <p:cNvGrpSpPr/>
          <p:nvPr/>
        </p:nvGrpSpPr>
        <p:grpSpPr>
          <a:xfrm>
            <a:off x="1798560" y="3925800"/>
            <a:ext cx="5211720" cy="739800"/>
            <a:chOff x="1798560" y="3925800"/>
            <a:chExt cx="5211720" cy="739800"/>
          </a:xfrm>
        </p:grpSpPr>
        <p:pic>
          <p:nvPicPr>
            <p:cNvPr id="179" name="Picture 2" descr=""/>
            <p:cNvPicPr/>
            <p:nvPr/>
          </p:nvPicPr>
          <p:blipFill>
            <a:blip r:embed="rId2"/>
            <a:stretch/>
          </p:blipFill>
          <p:spPr>
            <a:xfrm>
              <a:off x="1798560" y="3967200"/>
              <a:ext cx="521172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Box 15"/>
            <p:cNvSpPr/>
            <p:nvPr/>
          </p:nvSpPr>
          <p:spPr>
            <a:xfrm>
              <a:off x="5077080" y="3925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81" name="TextBox 16"/>
            <p:cNvSpPr/>
            <p:nvPr/>
          </p:nvSpPr>
          <p:spPr>
            <a:xfrm>
              <a:off x="6327360" y="3925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82" name="Group 3"/>
          <p:cNvGrpSpPr/>
          <p:nvPr/>
        </p:nvGrpSpPr>
        <p:grpSpPr>
          <a:xfrm>
            <a:off x="1798560" y="4910040"/>
            <a:ext cx="5211720" cy="725760"/>
            <a:chOff x="1798560" y="4910040"/>
            <a:chExt cx="5211720" cy="725760"/>
          </a:xfrm>
        </p:grpSpPr>
        <p:pic>
          <p:nvPicPr>
            <p:cNvPr id="183" name="Picture 3" descr=""/>
            <p:cNvPicPr/>
            <p:nvPr/>
          </p:nvPicPr>
          <p:blipFill>
            <a:blip r:embed="rId3"/>
            <a:stretch/>
          </p:blipFill>
          <p:spPr>
            <a:xfrm>
              <a:off x="1798560" y="4953600"/>
              <a:ext cx="5211720" cy="68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Box 17"/>
            <p:cNvSpPr/>
            <p:nvPr/>
          </p:nvSpPr>
          <p:spPr>
            <a:xfrm>
              <a:off x="5077080" y="4910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85" name="TextBox 18"/>
            <p:cNvSpPr/>
            <p:nvPr/>
          </p:nvSpPr>
          <p:spPr>
            <a:xfrm>
              <a:off x="6327360" y="4910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em 49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sening in Pressure Ulcer Status Since Admission</a:t>
            </a:r>
            <a:br>
              <a:rPr sz="4800"/>
            </a:br>
            <a:br>
              <a:rPr sz="48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m 49 Worsening Pressur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lcer Status Since Admi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42640" y="1598760"/>
            <a:ext cx="708660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the number of current pressure ulcers at discharge that that have worsened since ad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" descr="An image of the description and fields for item 49 in the IRF-PAI item set."/>
          <p:cNvPicPr/>
          <p:nvPr/>
        </p:nvPicPr>
        <p:blipFill>
          <a:blip r:embed="rId1"/>
          <a:stretch/>
        </p:blipFill>
        <p:spPr>
          <a:xfrm>
            <a:off x="1703520" y="2895480"/>
            <a:ext cx="6145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000" y="72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19320" y="1523880"/>
            <a:ext cx="7162560" cy="43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pressure ulcer items that are documented in the IRF-PA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guidelines for assessing and coding each i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the IRF-PAI pressure ulcer items correctly and accurat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m 49 Worsen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ssure Ulcer Statu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43000" y="1598400"/>
            <a:ext cx="68580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ncludes pressure ulcers at discharge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pres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d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a less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erical stag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d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Image of a pair of hands pulling a medical record from a shelf of records."/>
          <p:cNvPicPr/>
          <p:nvPr/>
        </p:nvPicPr>
        <p:blipFill>
          <a:blip r:embed="rId1"/>
          <a:stretch/>
        </p:blipFill>
        <p:spPr>
          <a:xfrm>
            <a:off x="5407200" y="2198520"/>
            <a:ext cx="25905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Coding Guidelin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216080" y="1600200"/>
            <a:ext cx="75470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ill be easier to assess worsening status and to code these items if a facility documents and tracks pressure ulcer status on a routine ba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" descr="Image of two clinicians reviewing a patient's medical record."/>
          <p:cNvPicPr/>
          <p:nvPr/>
        </p:nvPicPr>
        <p:blipFill>
          <a:blip r:embed="rId1"/>
          <a:stretch/>
        </p:blipFill>
        <p:spPr>
          <a:xfrm>
            <a:off x="3444840" y="3124080"/>
            <a:ext cx="341316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Coding Guidelines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ing a pressure ulcer that was unstageable at admi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consider it to be worse at discharge.  If it becomes stageable, consider it as present on admission.  Code at the stage when it first became stage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worsens after it becomes stageable, it should be coded as worsen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Coding Example #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tient is admitted with a pressu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cer that is covered in necrotic tissu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annot be stag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stay, the pressure ulcer is revealed to be a Stage 4 pressure ulce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this Stage 4 pressure ulcer be coded in Item 49 as a “new or worsening” pressure ulc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Coding Guidelines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218960" y="1598400"/>
            <a:ext cx="7543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ing a stageable pressure ulcer that becomes unstageable since admi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it becomes Unstageable due to Slough or Eschar, do not code as worsene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it becomes unstageable and then is debrided so it can be staged, compare its stage before and after it was unstageable. If the stage has worsened, code it as worsening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Coding Example #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tient is admitted with a Stage 3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ure ulc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stay slough covers much of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 ulcer is debrided and found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 Stage 4 pressure ulc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this Stage 4 pressure ulcer be coded in Item 49 as a “new or worsening” pressure ulc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9A Stage 2 Coding Instr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218960" y="1598760"/>
            <a:ext cx="6629400" cy="26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cate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current Stage 2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sure ulcers at discharge that were not present or were at a lesser stage on admiss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f no Stage 2 ulcers are present, are new or have worsen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" descr="Image of item 49A on the IRF-PAI item set, documenting the number of current Stage 2 pressure ulcers that were not present or were at a lesser stage on admission."/>
          <p:cNvPicPr/>
          <p:nvPr/>
        </p:nvPicPr>
        <p:blipFill>
          <a:blip r:embed="rId1"/>
          <a:stretch/>
        </p:blipFill>
        <p:spPr>
          <a:xfrm>
            <a:off x="1631880" y="4572000"/>
            <a:ext cx="65325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9B Stage 3 Coding Instr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218960" y="1598400"/>
            <a:ext cx="70866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cate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current Stage 3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sure ulcers at discharge that were not present or were at a lesser stage on admiss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f no Stage 3 pressure ulcers are present, are new, or have worsen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" descr="Image of item 49B on the IRF-PAI item set, documenting the number of current Stage 3 pressure ulcers that were not present or were at a lesser stage on admission."/>
          <p:cNvPicPr/>
          <p:nvPr/>
        </p:nvPicPr>
        <p:blipFill>
          <a:blip r:embed="rId1"/>
          <a:stretch/>
        </p:blipFill>
        <p:spPr>
          <a:xfrm>
            <a:off x="1636560" y="4724280"/>
            <a:ext cx="65772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9C Stage 4 Coding Instr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218960" y="1598400"/>
            <a:ext cx="701028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cate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current Stage 4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sure ulcers at discharge that were not present or were at a lesser stage on admiss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f no Stage 4 pressure ulcers are present, are new, or have worsen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" descr="Image of item 49C on the IRF-PAI item set, documenting the number of current Stage 4 pressure ulcers that were not present or were at a lesser stage on admission."/>
          <p:cNvPicPr/>
          <p:nvPr/>
        </p:nvPicPr>
        <p:blipFill>
          <a:blip r:embed="rId1"/>
          <a:stretch/>
        </p:blipFill>
        <p:spPr>
          <a:xfrm>
            <a:off x="1636560" y="4792680"/>
            <a:ext cx="660564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Scenario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tient’s admission assessment documented a Stage 2 pressure ulc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right ischial tubero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discharge, the pressure ulcer has deteriorated to a Stage 3 pressure ulc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ere no other pressure ulcers at admi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Item 49 be co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72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 of Pressure Ulcer Ite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238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F-PAI Pressure Ulcer It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 48.  Current Number of Unheal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ure Ulcers at Each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 49.  Worsening in Pressure Ulc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 50.  Healed Pressure Ul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enario Correct Coding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219320" y="1598760"/>
            <a:ext cx="7315200" cy="13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Item 49B, Stage 3, 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Items 49A and 49C, 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"/>
          <p:cNvGrpSpPr/>
          <p:nvPr/>
        </p:nvGrpSpPr>
        <p:grpSpPr>
          <a:xfrm>
            <a:off x="1447920" y="3220920"/>
            <a:ext cx="6521400" cy="2036880"/>
            <a:chOff x="1447920" y="3220920"/>
            <a:chExt cx="6521400" cy="2036880"/>
          </a:xfrm>
        </p:grpSpPr>
        <p:pic>
          <p:nvPicPr>
            <p:cNvPr id="218" name="Picture 1" descr=""/>
            <p:cNvPicPr/>
            <p:nvPr/>
          </p:nvPicPr>
          <p:blipFill>
            <a:blip r:embed="rId1"/>
            <a:stretch/>
          </p:blipFill>
          <p:spPr>
            <a:xfrm>
              <a:off x="1447920" y="3276000"/>
              <a:ext cx="6521400" cy="198180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219" name="TextBox 2"/>
            <p:cNvSpPr/>
            <p:nvPr/>
          </p:nvSpPr>
          <p:spPr>
            <a:xfrm>
              <a:off x="6480360" y="380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20" name="TextBox 6"/>
            <p:cNvSpPr/>
            <p:nvPr/>
          </p:nvSpPr>
          <p:spPr>
            <a:xfrm>
              <a:off x="6480360" y="3220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21" name="TextBox 7"/>
            <p:cNvSpPr/>
            <p:nvPr/>
          </p:nvSpPr>
          <p:spPr>
            <a:xfrm>
              <a:off x="6480360" y="4419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em 50</a:t>
            </a: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ealed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essure Ulcers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m 50 Healed Pressure Ulc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142640" y="1598760"/>
            <a:ext cx="7467480" cy="40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ther any unhealed pressure ulcers were present on admission (Item 50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o, the number of Stage 2, 3, and 4 pressure ulcers that have completely closed since admission (Items 50B, C, and 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50 Coding Guidelin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“healed pressure ulcer” is one that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18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ly cl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18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y epithelia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18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ed completely with epithelial tissue or resurfaced with new skin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n i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ea continues to have some surface discol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reverse st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0A Coding Instru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219320" y="1598760"/>
            <a:ext cx="7315200" cy="99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em 50A. Unhealed Pressur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lcers Present on Admi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" descr="Image of item 50A Were pressure ulcers present on admission? on the IRF-PAI item set."/>
          <p:cNvPicPr/>
          <p:nvPr/>
        </p:nvPicPr>
        <p:blipFill>
          <a:blip r:embed="rId1"/>
          <a:stretch/>
        </p:blipFill>
        <p:spPr>
          <a:xfrm>
            <a:off x="2111400" y="2941560"/>
            <a:ext cx="5280120" cy="746280"/>
          </a:xfrm>
          <a:prstGeom prst="rect">
            <a:avLst/>
          </a:prstGeom>
          <a:ln w="0">
            <a:noFill/>
          </a:ln>
        </p:spPr>
      </p:pic>
      <p:sp>
        <p:nvSpPr>
          <p:cNvPr id="230" name="Content Placeholder 2"/>
          <p:cNvSpPr/>
          <p:nvPr/>
        </p:nvSpPr>
        <p:spPr>
          <a:xfrm>
            <a:off x="1219320" y="4038480"/>
            <a:ext cx="3504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e 0. 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                          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98480" indent="-45540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p Items 50B-D.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1" name="Content Placeholder 3"/>
          <p:cNvSpPr/>
          <p:nvPr/>
        </p:nvSpPr>
        <p:spPr>
          <a:xfrm>
            <a:off x="4572000" y="4038480"/>
            <a:ext cx="4343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e 1. Yes.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34308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Items 50B-D.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50B, 50C and 50D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oding Instruction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219320" y="1598400"/>
            <a:ext cx="769608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ems 50B, C and D. Stage 2, 3 or 4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sure Ulcers on Admission That Have Hea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pressure ulcers at that stage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admission which have completely closed at discharg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none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" descr="Image of items 50B Stage 2, 50C Stage 3, and 50D Stage 4 of the IR-PAI item set. This indicates the number of pressure ulcers on admission that have healed."/>
          <p:cNvPicPr/>
          <p:nvPr/>
        </p:nvPicPr>
        <p:blipFill>
          <a:blip r:embed="rId1"/>
          <a:stretch/>
        </p:blipFill>
        <p:spPr>
          <a:xfrm>
            <a:off x="3467160" y="4049640"/>
            <a:ext cx="491472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50 Scenario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tient is admitted with one Stage 2 pressure ulc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discharge, the ulcer is heal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Items 50B, C, and D be co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enario Correct Coding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219320" y="1598400"/>
            <a:ext cx="731520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 50B.  Stage 2.  Co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the pressu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cer that hea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 50C.  Stage 3.  Co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n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 50D.  Stage 4.  Co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n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3"/>
          <p:cNvGrpSpPr/>
          <p:nvPr/>
        </p:nvGrpSpPr>
        <p:grpSpPr>
          <a:xfrm>
            <a:off x="1600200" y="3936960"/>
            <a:ext cx="6019920" cy="1854360"/>
            <a:chOff x="1600200" y="3936960"/>
            <a:chExt cx="6019920" cy="1854360"/>
          </a:xfrm>
        </p:grpSpPr>
        <p:pic>
          <p:nvPicPr>
            <p:cNvPr id="240" name="Picture 1" descr=""/>
            <p:cNvPicPr/>
            <p:nvPr/>
          </p:nvPicPr>
          <p:blipFill>
            <a:blip r:embed="rId1"/>
            <a:stretch/>
          </p:blipFill>
          <p:spPr>
            <a:xfrm>
              <a:off x="1600200" y="3936960"/>
              <a:ext cx="6019920" cy="18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Box 2"/>
            <p:cNvSpPr/>
            <p:nvPr/>
          </p:nvSpPr>
          <p:spPr>
            <a:xfrm>
              <a:off x="6180120" y="3957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42" name="TextBox 6"/>
            <p:cNvSpPr/>
            <p:nvPr/>
          </p:nvSpPr>
          <p:spPr>
            <a:xfrm>
              <a:off x="6180120" y="4491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43" name="TextBox 7"/>
            <p:cNvSpPr/>
            <p:nvPr/>
          </p:nvSpPr>
          <p:spPr>
            <a:xfrm>
              <a:off x="6180120" y="5024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72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ortance of Clinical Assess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391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lete and ongoing skin assessm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d by clinical standards is essent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ssessment, which identifies and evaluates all areas at risk for constant pressure and determines the etiology of all skin ulcers and skin conditions/problems, should direct the appropriate skin management interven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ion of Pressure Ulcer items in the IRF-PAI does not replace this assess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em 48</a:t>
            </a:r>
            <a:br>
              <a:rPr sz="5400"/>
            </a:br>
            <a:br>
              <a:rPr sz="5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rrent Number of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healed Pressure Ulcer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t Each Stage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em 48 Current Number of Unhealed Pressure Ulcers at Each St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42640" y="1598400"/>
            <a:ext cx="7543800" cy="10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s curre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unhealed pressure ulcers at Stages 2, 3 and 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" descr="Image of item 48A on the IRF-PAI item set, documenting the number of Stage 2 pressure ulcers on Admission and Discharge."/>
          <p:cNvPicPr/>
          <p:nvPr/>
        </p:nvPicPr>
        <p:blipFill>
          <a:blip r:embed="rId1"/>
          <a:stretch/>
        </p:blipFill>
        <p:spPr>
          <a:xfrm>
            <a:off x="1295280" y="2917800"/>
            <a:ext cx="5211720" cy="663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Image of item 48B on the IRF-PAI item set, documenting the number of Stage 3 pressure ulcers on Admission and Discharge."/>
          <p:cNvPicPr/>
          <p:nvPr/>
        </p:nvPicPr>
        <p:blipFill>
          <a:blip r:embed="rId2"/>
          <a:stretch/>
        </p:blipFill>
        <p:spPr>
          <a:xfrm>
            <a:off x="2271600" y="3801960"/>
            <a:ext cx="5173920" cy="693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Image of item 48C on the IRF-PAI item set, documenting the number of Stage 4 pressure ulcers on Admission and Discharge."/>
          <p:cNvPicPr/>
          <p:nvPr/>
        </p:nvPicPr>
        <p:blipFill>
          <a:blip r:embed="rId3"/>
          <a:stretch/>
        </p:blipFill>
        <p:spPr>
          <a:xfrm>
            <a:off x="3352680" y="4724280"/>
            <a:ext cx="518184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ging Defini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S has adapt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2007 NPUAP defini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ategories of stag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:  www.npuap.or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 diagrams of ulc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s can be download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ducational u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Image of the National Pressure Ulcer Advisory Panel logo. Reproduced by permission."/>
          <p:cNvPicPr/>
          <p:nvPr/>
        </p:nvPicPr>
        <p:blipFill>
          <a:blip r:embed="rId1"/>
          <a:srcRect l="3892" t="0" r="67460" b="0"/>
          <a:stretch/>
        </p:blipFill>
        <p:spPr>
          <a:xfrm>
            <a:off x="5638680" y="3124080"/>
            <a:ext cx="2878200" cy="173844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107" name="TextBox 1"/>
          <p:cNvSpPr/>
          <p:nvPr/>
        </p:nvSpPr>
        <p:spPr>
          <a:xfrm>
            <a:off x="5636880" y="4865760"/>
            <a:ext cx="210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d with permission</a:t>
            </a: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Assessment and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ding Guideli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curre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unheal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c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ead-to-toe assessment of pat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visual inspection and palpation to identify appropriate s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only wounds that are the result of pres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deepest anatomical stage of each ul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reverse st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9:19:05Z</dcterms:created>
  <dc:creator>Centers for Medicare &amp; Medicaid Services</dc:creator>
  <dc:description/>
  <dc:language>en-US</dc:language>
  <cp:lastModifiedBy>Jennifer Parrish</cp:lastModifiedBy>
  <cp:lastPrinted>2007-05-20T22:53:41Z</cp:lastPrinted>
  <dcterms:modified xsi:type="dcterms:W3CDTF">2012-05-14T13:15:57Z</dcterms:modified>
  <cp:revision>1302</cp:revision>
  <dc:subject>MDS Training Materials</dc:subject>
  <dc:title>Section M Skin Condi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4302051</vt:r8>
  </property>
  <property fmtid="{D5CDD505-2E9C-101B-9397-08002B2CF9AE}" pid="3" name="_AuthorEmail">
    <vt:lpwstr>Caroline.Gallaher@cms.hhs.gov</vt:lpwstr>
  </property>
  <property fmtid="{D5CDD505-2E9C-101B-9397-08002B2CF9AE}" pid="4" name="_AuthorEmailDisplayName">
    <vt:lpwstr>Gallaher, Caroline D. (CMS/OCSQ)</vt:lpwstr>
  </property>
  <property fmtid="{D5CDD505-2E9C-101B-9397-08002B2CF9AE}" pid="5" name="_EmailSubject">
    <vt:lpwstr>Here are the Powerpoint slides and presentation handouts that I mentioned to you yesterday that ii will also need to have posted on the IRF QRP webpage</vt:lpwstr>
  </property>
  <property fmtid="{D5CDD505-2E9C-101B-9397-08002B2CF9AE}" pid="6" name="_NewReviewCycle">
    <vt:lpwstr/>
  </property>
</Properties>
</file>