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24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62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67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6505E1-9C13-4D5F-84F8-9CBC9E91D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F71C22D-EA3B-4648-AD70-E52706221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FD5F8D-B833-4F25-AFD5-EEBA9B638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A1D34C1-E23F-42B9-938E-6F6D6EB0EF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935A68D-4571-4611-B8D7-49B3590E2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480D8B-CA7E-4286-AD20-9380B9B7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C03951-CD28-4D6C-B114-CFCD8496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DFACC91-10BC-4FAC-8DA8-986522B2B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11D4C7-ED0F-4C1B-BE98-C81A29F6B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7DA1E8-3580-4614-910B-BA3CC5648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2AADA1-E23F-47D0-B46D-677434A6F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3556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5699880" y="38862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37160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3556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5699880" y="48020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C49564-9C86-4CDE-8C46-E0F3128E93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685800" y="1736640"/>
            <a:ext cx="7772400" cy="890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51560" y="48020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37160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51560" y="38862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371600" y="48020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5909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RIVE TEP December 1, 200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3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ftr" idx="2"/>
          </p:nvPr>
        </p:nvSpPr>
        <p:spPr>
          <a:xfrm>
            <a:off x="4648320" y="6248160"/>
            <a:ext cx="4038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owa Foundation for Medical Care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Times New Roman"/>
              </a:rPr>
              <a:t>Notice: These materials are in the public domain and cannot be copyrighted.</a:t>
            </a:r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"/>
          <p:cNvSpPr/>
          <p:nvPr/>
        </p:nvSpPr>
        <p:spPr>
          <a:xfrm>
            <a:off x="4038480" y="6248520"/>
            <a:ext cx="5335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10714F-6CB9-4F1F-B60E-82F017C23483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496E04-BBF7-4DC3-85F3-295FC0151C0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mailto:STRIVE@IFMC.ORG" TargetMode="External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hyperlink" Target="http://www.cms.hhs.gov/providers/snfpps" TargetMode="External"/><Relationship Id="rId2" Type="http://schemas.openxmlformats.org/officeDocument/2006/relationships/hyperlink" Target="mailto:Strive@ifmc.org" TargetMode="External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hyperlink" Target="http://www.cms.hhs.gov/snfpps" TargetMode="External"/><Relationship Id="rId2" Type="http://schemas.openxmlformats.org/officeDocument/2006/relationships/hyperlink" Target="mailto:Strive@ifmc.org" TargetMode="External"/><Relationship Id="rId3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TRIVE</a:t>
            </a:r>
            <a:br>
              <a:rPr sz="6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Staff Time and Resource Intensity Verification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295280" y="4419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chnical Expert Panel Meet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cember 1, 20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mnibus Budget Reconciliation Act of 198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evelopment of uniform assessment instrument, based on a minimum data set to improve facility care planning and resident outco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alanced Budget Act of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NF moves to PPS system in 1998, many states use the case-mix payment system for Medicaid reimbursem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case mix system at the core of the Medicare SNF PPS consists of three compon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ff time measures (STM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dent assessment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st calculations of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Utilization Group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G-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ach group represents a level of resource utilization and is quantified with a case mix index sco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nks resource utilization to payment ra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UG-III classification system was designed by relating resident characteristics to wage-weighted staff tim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formation regarding a resident’s characteristics was derived from th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S resident assessment instr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ly 50 percent of states use a version of the RUG classification system to pay for Medicaid nursing home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th the Federal and state systems are based on staff time measurement data collected in 1990, 1995, and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Historical Backgroun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 national time study has taken place since 1997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n September 30, 2005, CMS awarded a contract to Iowa Foundation for Medical Care (IFMC) and its partners to conduct this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cope of Work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project team will implement and manage CMS’s multi-state STM study including the following task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stablish TE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ruit nursing homes, state agencies, and volunteers to participa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 hardware, software, and training to obtain the data in a useable 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ordinate data collection through pilot test and national time stud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nalyze dat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Approach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use for Medicare and Medica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ource use for special popul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ventila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cillary cos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drug cos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lternative items and measur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MDS 3.0, MDS-P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ed servic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IV meds, therapy patter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tential collaboration with other studie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0840" indent="-26568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VA, Canad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ampling Approach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arge nationally representative sampl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(about 12,000 residents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atified random sample of facilities within st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dicare and special population str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acility screening based on survey deficiencies and QI/QM measur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Data Collection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tate / Facility Role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295280" y="41911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Oatway, R.N., M.P.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Langenberg, R.N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b Burke, Ph. 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Jean Eby, Directo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Kathy Langenberg, R.N.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RIVE Operations Manag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ne Pelfrey, STRIVE Project Manager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owa Foundation for Medical Car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Goals of Data Collec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resource us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time data with most current and tested technolog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normal staff levels and resident load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 current pract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ccurate assessmen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lect current resident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ata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Collec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ypes of data to be coll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data from staf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ditional resources used for resident 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/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 Characteristic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DS 2.0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emental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Privac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ent level data not shared or available outside of th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conducted in compliance with HIPAA standard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 data not shared with faci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prote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ime Data Collectio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time from all direct care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cketPC running the CareTrack Staff Time softw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per backup available for technical probl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ndividual and group tim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cketPC time data collection is very easy to learn and use, and is reliable and accu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78483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sident Specific Tim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sident Specific Time (R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aff members spend with or on behalf of a reside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rapists identify the modality by selecting HCPCS c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Non-Resident Specific Time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on-Resident Specific Time (NRST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aff members spend supporting the delivery of car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dministrative du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ea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rporate activ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Meals and Break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eals and Brea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ime staff member’s spend on personal meals and break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Additional Resources Used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to Care for Residents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dentify and Docu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rugs/Med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rvic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sident Assessment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plete/update hardcopy MDS 2.0 with an assessment reference date during the time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 supplemental assessment items on pap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nd to IFMC for data entr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b Burke, Ph.D.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Project Director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e George Washington Universit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rant Fries, Ph.D., STRIVE Analytic Task Lead, University of Michiga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ob Godbout, Ph.D.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e Malitz, Ph.D.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Survey Design Consultant, Stepwi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ve Oatway, R.N., M.P.H.,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IVE Database Manager, CareTra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ility Characteristic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mographic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ministration, ownershi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ames, types, sizes of nursing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ffing leve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Data Collection Role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e Oatway, R.N., M.P.H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ate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ates state project lea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uits fac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ruits staff for on-site data collection and monito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rains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chedules facilities and staff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onitors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cc00"/>
                </a:solidFill>
                <a:latin typeface="Arial"/>
              </a:rPr>
              <a:t>Support provided by 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akeholder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orts study goa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courages study particip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mmunicates issues and concer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volunteers for data colle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ility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es in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epares staff for study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staff and resident rost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s staff time and resource data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s assessment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vides work space as need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FMC Rol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verall STRIVE lea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State Recru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ains state project staf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sample facility li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recruitment materials and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intains recruitment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sts in recruitment as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orts State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study materials and protoco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plies laptops and PocketP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vides help line and study suppo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ata Collection Summar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ion performed by states, with  assistance provided by IFM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ully trained volunteers create partnerships and keep the process transparent to the stakeholder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Analysis Plan and Sampling Plan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t Fries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vid Malitz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calibrate CMI for current RUG-III Sys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se full sample (N=12,000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4, 44, 53 group sys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ossibly several CMIs: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edicare, Medicaid, D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52280" y="2057400"/>
            <a:ext cx="3353040" cy="68580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ident Character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52280" y="4267080"/>
            <a:ext cx="3276720" cy="533520"/>
          </a:xfrm>
          <a:prstGeom prst="rect">
            <a:avLst/>
          </a:prstGeom>
          <a:solidFill>
            <a:srgbClr val="00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source Cos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267080" y="3505320"/>
            <a:ext cx="2895840" cy="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505320" y="2438280"/>
            <a:ext cx="838080" cy="1067040"/>
          </a:xfrm>
          <a:prstGeom prst="line">
            <a:avLst/>
          </a:prstGeom>
          <a:ln w="63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79" name=""/>
          <p:cNvCxnSpPr>
            <a:stCxn id="176" idx="3"/>
          </p:cNvCxnSpPr>
          <p:nvPr/>
        </p:nvCxnSpPr>
        <p:spPr>
          <a:xfrm flipV="1">
            <a:off x="3429000" y="3428280"/>
            <a:ext cx="915120" cy="1105560"/>
          </a:xfrm>
          <a:prstGeom prst="straightConnector1">
            <a:avLst/>
          </a:prstGeom>
          <a:ln w="63360">
            <a:solidFill>
              <a:srgbClr val="ff9900"/>
            </a:solidFill>
            <a:miter/>
          </a:ln>
        </p:spPr>
      </p:cxnSp>
      <p:sp>
        <p:nvSpPr>
          <p:cNvPr id="180" name=""/>
          <p:cNvSpPr/>
          <p:nvPr/>
        </p:nvSpPr>
        <p:spPr>
          <a:xfrm>
            <a:off x="4348080" y="1294200"/>
            <a:ext cx="192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inical Inpu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572000" y="5256720"/>
            <a:ext cx="14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atistic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5257800" y="3505320"/>
            <a:ext cx="838080" cy="1676160"/>
          </a:xfrm>
          <a:prstGeom prst="line">
            <a:avLst/>
          </a:prstGeom>
          <a:ln w="63360">
            <a:solidFill>
              <a:srgbClr val="ff9900"/>
            </a:solidFill>
            <a:miter/>
            <a:tailEnd len="med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334120" y="1752480"/>
            <a:ext cx="761760" cy="1752840"/>
          </a:xfrm>
          <a:prstGeom prst="line">
            <a:avLst/>
          </a:prstGeom>
          <a:ln w="63360">
            <a:solidFill>
              <a:srgbClr val="ff99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7315200" y="3200400"/>
            <a:ext cx="1276200" cy="571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e5e5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UG-III</a:t>
            </a:r>
            <a:endParaRPr b="0" lang="en-US" sz="1800" spc="1" strike="noStrike">
              <a:ln w="19080">
                <a:solidFill>
                  <a:srgbClr val="e5e5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Approach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Geographic Distribution of </a:t>
            </a:r>
            <a:br>
              <a:rPr sz="4000"/>
            </a:b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Project Team</a:t>
            </a: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	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458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FMC is based in West Des Moines, Iowa with offices in Owings Mills, M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George Washington University, Washington, D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iversity of Michigan, Ann Arbor, MI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areTrack Systems, Key West, F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epwise Systems, Austin, T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st RUG-III modif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ucture of RUG-II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“Rehab+Extensiv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“leafy-end splits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lassification of special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ventilator/respirato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ffect of changing RUG-III criter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use of known scale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IV medications before/after NH admiss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additional qualifier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corporation of new assessment i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st RUG-III modifications (cont.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pdate RUG-III service-based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physician orders/visi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f assessment schedule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ffect of additional cost measur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alytic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ther issu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liability of any new assessment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killed service patt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collaboration with DV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otential collaboration with Canadian stud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5e5ff"/>
                </a:solidFill>
                <a:latin typeface="Arial"/>
              </a:rPr>
              <a:t>Sampling Design</a:t>
            </a:r>
            <a:endParaRPr b="1" lang="en-US" sz="4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ed, random sample of facilities within volunteer stat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ratification will insure adequate re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re res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cial popul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ospital-based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acility exclus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oor quali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able to participat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.g., emergencies, legal actio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ampling Plan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ample siz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arget: 15 states, 240 facilitie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2,000 res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ed facilities will include all units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except large facilitie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atification of Faciliti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 rot="10800000">
            <a:off x="1526760" y="1371240"/>
            <a:ext cx="546120" cy="4419720"/>
          </a:xfrm>
          <a:prstGeom prst="rect">
            <a:avLst/>
          </a:prstGeom>
          <a:solidFill>
            <a:srgbClr val="ff00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cluded Facilit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46320" y="1374840"/>
            <a:ext cx="5321160" cy="2638800"/>
          </a:xfrm>
          <a:prstGeom prst="rect">
            <a:avLst/>
          </a:prstGeom>
          <a:solidFill>
            <a:srgbClr val="0099cc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population: Medica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eneral population: Oth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146320" y="3932280"/>
            <a:ext cx="5321160" cy="1818000"/>
          </a:xfrm>
          <a:prstGeom prst="rect">
            <a:avLst/>
          </a:prstGeom>
          <a:solidFill>
            <a:srgbClr val="ff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population 1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population 2 (…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Special population </a:t>
            </a:r>
            <a:r>
              <a:rPr b="1" i="1" lang="en-US" sz="2800" spc="-1" strike="noStrike">
                <a:solidFill>
                  <a:srgbClr val="ffffff"/>
                </a:solidFill>
                <a:latin typeface="Arial"/>
              </a:rPr>
              <a:t>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12840" y="2557440"/>
            <a:ext cx="4813560" cy="32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112840" y="4629240"/>
            <a:ext cx="481356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112840" y="5221440"/>
            <a:ext cx="4813560" cy="144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ampling Methodology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1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Data-based exclusions using administrative dat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SCAR deficienci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Indicators (QIs) and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Measures (QM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2.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Select sample from remaining facilities (over-sample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Step 3.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Stakeholder exclusions from list of sampled facil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Facility Exclus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velopment of data-based ex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scussions with QI/QM exper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s to inclu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bining measur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MS algorithm for scoring survey and complaint deficiency histo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keholder exclus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Analysis Plan and Sampling Plan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P Discu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pecial Populations and Supplemental Data Item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ob Godbout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rant Fries, Ph.D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Welcome &amp; Introduc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Participant 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rocedures for the da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menit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hones – place on vibra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d at 4:00 p.m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act – </a:t>
            </a:r>
            <a:r>
              <a:rPr b="0" lang="en-US" sz="32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STRIVE@IFMC.OR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pecial Population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inclusion on lis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is of high interes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actice patterns have chang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trengthens mod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oup is rare (prevalence &lt;0.5%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Population Matrix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ncillary Cost Measur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measures collected directly,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me as part of assess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undled vs. unbundled servi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xampl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V drugs/ IV med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baric oxyge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rium swallow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ndled only for Medicare Part A stay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ith NDC codes, can attach price/cost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er dose (need advice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IPAA &amp; privacy concer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stly to collec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what i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rder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pensed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n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op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dicare / Medicaid b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High cost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drug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drugs for a sample of res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Approach: Medicare bill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Identify bills related to drugs,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to other cost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es not require primary data colle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rugs not identifi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ly possible for Medicare resid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fficult to identify appropriate bills (time frame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lay in getting complete bil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Approach: High cost drug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ocate database with daily cost by drug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ick drugs in top % (e.g., 2%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Facility or STRIVE project staff code drug/frequency/dose received by resid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cus on drugs most likely at issu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educes data collection effort (few residents receive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st of high-daily-cost drugs could be very lo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to find database to identify high-daily-cost drug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daily-cost drugs may be used infrequent High cost drugs change over tim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ime consuming to check lis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Approach: All drugs for Medicare 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ternative approache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ff enter drug data directly into database (with lookup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intout sent to IFMC for ent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rug database sent from facility/pharmacy to IFMC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eed NDC co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ve all drugs, can do any analysis need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ach alternative data collection/coding method is time-consumin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Issues in Collecting </a:t>
            </a:r>
            <a:br>
              <a:rPr sz="4400"/>
            </a:b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Drug Dat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ion Approach: All drugs for sample of Medicare A resident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 in facilities where data are availab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thods similar to “All drugs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ro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as 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ess expensive, as only doing for part of s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s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ame as befo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acilities with this capability may create a biased samp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4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not have sufficient sample size for some analy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ther Cost Data Issu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llection of some supplies/services straightforwar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ollect selected items as part of assessment (include volum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ilar collection issues for some other high-cost suppli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hat is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daily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cost for a supply with no specified time period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.g., pressure-relieving b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lemental Assessment Item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urce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fine MDS 2.0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IV med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MDS instrument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MDS V3.0, MDS-PA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ther assessment systems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 Goal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nhance efficiency and accuracy of the RUGs syste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flect changes in health care practices since implementation of SNF PP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esign payment to promote qual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upplemental Assessment Item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riteria for choos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pected influence on case mix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not be “gamed”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an be audite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ality of item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(specification, training material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ifficulty to obtain dat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xisting reliability stud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Reliability Studi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New assessment ite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andard inter-rater reliability approa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imited to </a:t>
            </a:r>
            <a:r>
              <a:rPr b="0" i="1" lang="en-US" sz="3200" spc="-1" strike="noStrike" u="sng">
                <a:solidFill>
                  <a:srgbClr val="ffffff"/>
                </a:solidFill>
                <a:uFillTx/>
                <a:latin typeface="Arial"/>
              </a:rPr>
              <a:t>new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untested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Reliability of ancillary cost measur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e5e5ff"/>
                </a:solidFill>
                <a:latin typeface="Arial"/>
              </a:rPr>
              <a:t>Skilled Service Patterns</a:t>
            </a:r>
            <a:endParaRPr b="1" lang="en-US" sz="48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Services before or after SNF admission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e.g., IV medications, suctio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apy patterns and RUG break point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herapy modalitie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Special Populations and Supplemental Data Items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TEP Discuss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 TEP - Next Step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slides posted on CMS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cms.hhs.gov/providers/snfpp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available later this mon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comments due by 12/22/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trive@ifmc.or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e in follow-up tele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Open Discussion - Observer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take a position in line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near the front tabl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lease limit questions and comments to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 minut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STRIVE TEP - Next Step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slides posted on CMS Web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1"/>
              </a:rPr>
              <a:t>www.cms.hhs.gov/snfpps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br>
              <a:rPr sz="2800"/>
            </a:b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(available later this month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EP comments due by 12/22/05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cc00"/>
                </a:solidFill>
                <a:uFillTx/>
                <a:latin typeface="Arial"/>
                <a:hlinkClick r:id="rId2"/>
              </a:rPr>
              <a:t>Strive@ifmc.org</a:t>
            </a:r>
            <a:r>
              <a:rPr b="0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articipate in follow-up teleconferenc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2346120"/>
            <a:ext cx="7772400" cy="192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Thank you 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for your participation 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&amp;</a:t>
            </a:r>
            <a:br>
              <a:rPr sz="6000"/>
            </a:br>
            <a:r>
              <a:rPr b="1" lang="en-US" sz="6000" spc="-1" strike="noStrike">
                <a:solidFill>
                  <a:srgbClr val="e5e5ff"/>
                </a:solidFill>
                <a:latin typeface="Arial"/>
              </a:rPr>
              <a:t>attendance</a:t>
            </a:r>
            <a:endParaRPr b="1" lang="en-US" sz="6000" spc="-1" strike="noStrike">
              <a:solidFill>
                <a:srgbClr val="e5e5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TEP Objectives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Understand scope of STRIVE Projec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tain Stakeholder Input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ject Goa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ritical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chnical Iss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genda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Welcome &amp; Introductio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tudy Design / Overview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Study Desig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Data Collection / Facility Recruitmen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Data Collection / Facility Recruitmen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unch / Data Collection Demonstr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nalysis &amp; Sampling Plan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Analysis &amp; Sampling Pla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Arial"/>
              </a:rPr>
              <a:t>Agenda, continued</a:t>
            </a:r>
            <a:endParaRPr b="1" lang="en-US" sz="4400" spc="-1" strike="noStrike">
              <a:solidFill>
                <a:srgbClr val="e5e5ff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pecial Populations &amp; </a:t>
            </a:r>
            <a:br>
              <a:rPr sz="3200"/>
            </a:b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upplemental Data Ite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EP Discussion –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pecial Populations &amp;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upplemental Data Item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server Comment Perio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djour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7T01:11:25Z</dcterms:created>
  <dc:creator>Big Ed</dc:creator>
  <dc:description/>
  <dc:language>en-US</dc:language>
  <cp:lastModifiedBy>CMS</cp:lastModifiedBy>
  <dcterms:modified xsi:type="dcterms:W3CDTF">2005-12-19T16:07:36Z</dcterms:modified>
  <cp:revision>90</cp:revision>
  <dc:subject/>
  <dc:title>STRIV fka NNHT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