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00F-5819-4A5A-92F0-EFB5686F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66D-4D5A-4C47-B7DB-2C3D1EC9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07C-E883-4D9D-8CBF-E3A1B292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C7D4-64F2-4E0D-8891-AB12487D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3FE3-720B-408C-9B62-AD84F399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0175-49F1-4974-9B58-0A21B221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02D8-A1CB-413F-A03B-7917B073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3C5A-6942-41B8-AA07-28C77D38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637C-8DF1-46E2-98A5-82927109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3D50-8320-4E48-8532-D749DF72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2D79-E659-490A-93D1-3A9BF39D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3445-0C43-4E60-BC7F-0E5898C1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68C4-0D9B-428F-BBAC-65FA834A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2AA8-0CF6-4E59-AFD6-14122C76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DD19-BC48-44A7-85AA-41136C5E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AD6F-6609-49E1-B0C2-8E853E9B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3923-993E-4069-8FBC-E1C2EE65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0AD-4976-4BE7-B415-F8F2B64A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C22-9F23-48C4-AE5B-D096C479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9903-28FF-457A-9670-1C1A8913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613E-C27C-4338-B140-413996B0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27F4-40F2-4874-AE4E-F994A296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80B-521C-4905-8D42-80312FE8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661-E88F-4203-8BF0-AB0F73A0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5978-1F81-4473-87C6-1D39CB8523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0DB9-ED77-46CD-93BF-832AB85C1C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ms.hhs.gov/regulations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F PPS REFINEMENTS-   53 RUG-III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wing-Bed Ver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MS, November 21, 200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ery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,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0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885-007F-4FDB-89DC-F6931A8E71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5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BF2-8C41-4383-B0B2-4E71C0105E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: (section P1b [a, b, c]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5 days any combination of the 3 discip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89CD-359E-492E-9DF1-919A6BFC3F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b,c] and P3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 minutes of therapy per week minimum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3 days any combination of the 3 discipline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or more nursing rehabilitation services received at least 15 minutes each for 6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CDB-1DB1-403D-9B60-B053EFD3C5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e there any changes to the MDS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re have been no changes to the instructions for completing the MD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ou will continue to complete as usu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6E81-57CD-4179-83F7-A8CFD9DB79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D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hanges to MDS ite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tion 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projection of therapy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tin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high, medium, and low intensit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MRA requirement must be fulfilled when all therapy services are no longer provi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sident was previously assigned into a Rehabilitation Plus Extensive Services or Rehabilitation categ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skilled services continue to be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9DDB-0231-476A-8C79-7BC1B822D8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dministrative Presumption of Coverag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alifying hospital sta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et the level of care requirements of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</a:rPr>
              <a:t>4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CFR 409.3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p to and including the assessment reference date for the 5-day assess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signed to one of the RUGs as representing the required level of ca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BCC8-94E7-493B-892B-C87FE16BB6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oups “Administrative Presumption” Appl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lies to the top 35 groups when correctly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beneficiary who classifies to any of the lower 18 RUG groups is not automatically classified as meeting the SNF level of care defini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994-2C5A-45B3-A2A2-BF916B5037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op 35 RUG group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habilitation plus Extensive Services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ltra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ry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dium Rehabilitation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w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tensive Servic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ecial Care; and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nically Complex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A468-AB9B-47F0-978F-3BC4157232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Updat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 version of RAVEN, 5.20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gin using new software for ARDs of 11/22/05 and la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ll receive 2 RUGs categories on Final Validation Report from 11/22/05 – 1/13/06 =&gt; one will be 44-RUG category, one will be 53-RU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3A6-DD6E-4DA1-B16F-B0D19EF392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RUG Refinement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tion 101 of The Medicare, Medicaid, SCHIP Balanced Budget Refinement Act of 1999 (BBRA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porary add-ons for specified RUG grou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til 10/1/00 or the implementation of case-mix refinements to the SNF P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9EC-BDF0-433C-9B03-8B55826B13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 from October 1 to December 31, 2005 payment based on the 44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s January 1, 2006 and on payment based on the 53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738-7514-4164-85D0-987CFD728B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maximizing classification  continu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a beneficiary classifies into more than one RUG category, the group with the highest case mix index (CMI) will be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66C-529C-471B-A41D-50BD9BE8CD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ex Maximizing Classification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son meets criteria for assignment in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L (CMI = 46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B (CMI = 43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2 (CMI = 31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VL has highest CMI (46).  Therefore, the person will be assigned into RV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273-9449-49EF-80B2-3AB7AAC0F6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-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mporary add-ons of 20% and 6.7%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main in effect 10/1 – 12/31/0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longer apply 1/1/0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IDS temporary add-on of 128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plies to both RUG classification syste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D6F-BAFF-48F0-AFD6-22C9ED6055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im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HIPPS codes are for the nine new categories only, which correspond to nine new RU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changes to assessment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ims with one of the new nine RUG categories with dates of service prior to 1/1/06 will be rejec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77B-C58F-4264-99E8-077E88ACD8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3 RUG-III Case-Mix Classification System (44 RUGs plus 9 new 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ion of the M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umption” of Coverag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upd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y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46C-FC34-4347-9273-768A4F60C5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Rehabilitation Plus Extensive Services:  RUX, RUL, RVX, RVL, RHX, RHL, RMX, RML, RL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habilita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C, RUB, RUA, RVC, RVB, RVA, RHC, RHB, RHA, RMC, RMB, RMA, RLB, R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ve Servic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3, SE2, SE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 Care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SC, SSB, S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72A0-882B-4D5A-B9A5-6B99EFAA6F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 (con’t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ally Complex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C2, CC1, CB2, CB1, CA2, C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ired Cogni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B2, IB1, IA2, I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havior Problems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B2, BB1, BA2, B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 Physical Func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2, PE1, PD2, PD1, PC2, PC1, PB2, PB1, PA2, PA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836-8E5D-4EEE-A5DA-542095F899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 Requirements Necessary to Classify into Rehabilitation Plus Extensive Services Catego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L SC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VE SERVICES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HABILITATION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C243-0EE0-4C61-AEB1-5206768FE2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L Sco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L score must be 7 or hig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requirement is consistent with the  existing requirement for classification into Extensive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7F0-0990-4567-B7AB-F3AF0D50F2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tensive Services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ident must be coded for receiv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more of the following extensive servi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9a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enteral / I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V Med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tio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heostomy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ntilator or respir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41F-F695-428F-8F1D-10D484BEAA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ltra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2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,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nd discipline 3 days/week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751-9E05-46CB-BD5F-FC1BF2EF02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7:28:31Z</dcterms:created>
  <dc:creator>CMS</dc:creator>
  <dc:description/>
  <dc:language>en-US</dc:language>
  <cp:lastModifiedBy>CMS</cp:lastModifiedBy>
  <dcterms:modified xsi:type="dcterms:W3CDTF">2005-11-21T15:13:20Z</dcterms:modified>
  <cp:revision>18</cp:revision>
  <dc:subject/>
  <dc:title>SNF PPS REFINE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