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3FAB-0291-488D-8E95-5BC81324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A7AE-E6B6-449D-93CA-E0C414A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5138-4DC4-4508-8093-7F13C794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14B5-4D5C-4CE2-B00E-B9AFCEE6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738DC-468C-4C1F-9554-C50CA9C2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5B3E5-D71B-43E3-A879-9322D007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65A18-A659-4242-B7EF-192BE602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1E254-4E02-4C64-BF83-64FB52D4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1E7E1-92DE-48A3-8591-3B101E79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D4CAA-0DC3-47D6-939D-1793E285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E50D1-A2C8-4849-ACA5-FC1D3160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2AD0-E624-4931-8189-A269D6FF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56403-62A3-4411-BDC4-AA6C2FC9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4D0AC-A33A-4C88-A85A-53682C10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E1669-FE2A-4486-9D62-CD4E3333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C2FBC-7985-4C4E-905A-192E3198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745D8-C90C-4484-AB4C-B25849BE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BA3EC-76B6-463F-9F9A-15A93E79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7AE1-7F63-4426-9B60-4A8565BB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A0CE-C642-43BD-9627-A7CACC0B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C10F-0563-4A32-B9C9-7006EE19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1259-C8BC-41D0-B663-4DE1FFE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1DB8-030C-4F71-8975-129243D6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C188-3D09-4581-89BA-2CF5AFE0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F17E-6037-4F76-A8E2-23C653A524ED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2690-0112-456D-9A4D-032C2D58D29C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00400" y="5249880"/>
            <a:ext cx="30751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9144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tructure, Process, &amp;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895480"/>
            <a:ext cx="55562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omas B. Valuck, M.D., J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Officer &amp; Senior Adv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63244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C5A5-06C6-4333-8138-FBAE685CEA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gage stakehold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ly experience from Medicare VBP initiatives and from private-sector performance-based payment initi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multiple approaches to accommodate multiple practice arrangements and care sett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904D-B672-423C-BFA4-E10174730F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eneral (continu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void creating additional health care disparities and work to reduce existing o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velop an ongoing evaluation process to assess impact, monitor for unintended consequences, and support improvement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tailed principles will be addressed in relevant pres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936E-A340-4009-8585-1588559025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r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troduction, Context, Overarching Questions, and comments – 75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asures presentation and comments –         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unch – 45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fternoon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centive Structure presentation &amp; comments -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ta Strategy and Public Reporting presentations &amp; comments – 40 minutes ea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al comments – 3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D2BC-F715-4479-964C-E30D376397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ate your name and organiz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mit remarks to 2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ments first from those on-site, then from teleconference participa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l free to leave the room, as needed;  only formal break will be lun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824480" y="223920"/>
            <a:ext cx="56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A45B-E918-4A40-9FEA-80247AFA46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ll the stated objectives, assumptions, and principles support higher quality of care for Medicare beneficiaries and better value from Medicare spending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other planning parameters should be considered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DBFB-D877-4966-AF7D-D7D625624D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s it desirable to have several different approaches to accommodate different practice arrangements across various care setting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so, how should this be accomplished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B286-88B7-4DFC-A959-D129CC4078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eps can CMS take in the design and implementation of the PVBP Plan to reduce health care disparities or, at a minimum, to avoid exacerbating existing dispariti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D1E22-EEDA-4158-BE86-FCB9982FBF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170160" y="223920"/>
            <a:ext cx="27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EB65-733C-4150-83AD-264EEA6BAF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egislative backgrou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view of CMS process to develop the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VBP assumptions and general design princi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roach to conducting the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arching Questions for com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C5DB-B248-4706-B871-F122CA778E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egislative Backgroun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 Improvements for Patients and Providers Act (MIPPA) of 2008 requires Secretary of Health and Human Services to develop a plan to transition to value-based purchasing for physician and other professional servi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 to Congress to be submitted by May 1, 2010 containing Plan with recommendations for legislation and administrative a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0DBE-B55E-4C71-8E61-63A9BB0FB5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Development Structure</a:t>
            </a: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MS PVBP Workgroup with Subgroups to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5B5D-E68E-4657-97AF-1852E014D7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 Subgroup Lead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chael Rapp, MD, J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Clinical Standards &amp; Quality (OCSQ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Karen Milgat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Policy (O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errence Kay &amp; Thomas Valuck, MD, JD, 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enter for Medicare Manage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lliam Matos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CSQ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ne Thorp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yne Hammen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24A1-DC77-4641-ABF8-9C6370E738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CMS PVBP Workgroup Tasks and Expected Timelin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80720" y="1219320"/>
            <a:ext cx="6782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 Workgroup &amp;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Issue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duct Listening Session for          Stakeholder Input on Issue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Option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posed Listening Session for Input on Option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pare draft PVBP Plan Re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bmit Final PVBP Plan Report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371600"/>
            <a:ext cx="990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p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ec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N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ay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938D-4A08-4D37-9A1B-88B84771A9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by CMS PVBP Workgroup and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ted on CMS Website November 24,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nes key design issues for this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sumptions intended to provide flexibility in developing Design Options and draft PVBP Pl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akeholder comments, both presented at this Session and submitted in writing, will assist in developing Design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number of different options will be modeled to explore implications for fee-for-service Medicare population and providers serving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ssues Paper Approa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FC7C-4F8B-486A-AABD-82CFAA1FB8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mary focus will be on performance-based pay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accommodate different practice arrang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recognize the contributions of the members of the health professional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consider multiple levels of accountability, including individual, teams, groups, and “accountable care entitie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1A95-FBDF-48D2-A83D-83B64AC643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be at least budget-neutral across at least Medicare Parts A and B and will seek to identify savin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” options will be considered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itial focus will be fee-for-service Medi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design will have short-term (1 – 3 years) and long-term (&gt;3 years) timefra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FD4A-60DC-4C63-AADE-4292490F6F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8:51Z</dcterms:modified>
  <cp:revision>4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823259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9914282</vt:r8>
  </property>
</Properties>
</file>