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94B347F-D8B4-4F1D-A98A-96D16CDDE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BA4D40B-5682-4BFA-B68D-F898173B3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196B1C4-0BC2-4A3B-8285-93B68EA9B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28D6EC3-FCED-474F-849A-FCC192986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2E032D2-24A7-43FA-B739-D46E0E3B6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B034862-848D-4475-AD36-AF7EAD650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B93B7E7-8671-43D8-B5AE-CBE840C1B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335D5DC-687F-4516-A23C-412B2CEE0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91ED9BA-8D32-4E5C-B6CA-29BCFC253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8D8B9D5-01F8-42D9-B3B2-D1109B9D2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EDFD1F4-080A-468A-90A5-C72E399AB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38430B4-8E82-4100-BC8B-90EC75399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9FDB94B-E57B-4E65-838A-A31C2D3D9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E74-5907-4CEC-A655-0366BC74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E67F-7028-4F7A-9B6D-13DC3E42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B2D-DAED-4F10-BB96-C57138FD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DAA-F934-4AAC-B885-F0A8CD37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B0B7-46ED-434F-AF1E-2934D71C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C93F-8F24-4C57-A7D6-120A9AC4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370-A6FB-4697-B9BF-1A7654B8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3AE-AF09-4C88-947B-3A740424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BA7-129D-4646-A62E-51A3D3A3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45F-ACF0-408A-97F1-559823F1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C1F-DB94-4303-9C30-BE056151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7CB-4C76-48D1-9200-183895EB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F7E3-D14F-4769-B04C-82FA020429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4776-A2BB-4764-AA41-0225C88BF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10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0" lang="en-US" sz="4800" spc="-1" strike="noStrike" u="sng">
                <a:solidFill>
                  <a:srgbClr val="003399"/>
                </a:solidFill>
                <a:uFillTx/>
                <a:latin typeface="Arial"/>
              </a:rPr>
              <a:t>  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437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ane Hyatt Thor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puty Director, Office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ayne H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ffice of Beneficiary Inform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905120" y="121932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05120" y="5181480"/>
            <a:ext cx="52578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27A4-780D-469C-BE6D-54F8E2AD6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Public Report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391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information should be reported?  Are some measures more appropriate for public reporting tha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formation will be driven in large part by measure s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re some measures more suitable for public accountability or informed consumer choice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92E7-A58E-487E-9519-3D1BADE23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resource use information be publicly reported in addition to qualit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resource use information be provided confidentially or publicly repo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resource use information were publicly re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quality and resource use information be reported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resource use information be fra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might patients perceive and use the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FD84-A473-4BF7-981C-9E01C40E1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scored to facilitate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public reporting use the scoring used in determining incentive pay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all performance measurement results be publicly repo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48FA-E7D9-41D7-A725-BA40C2DC2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composi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numbers or st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any information be supp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benchmar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trending information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 what level should information be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information should be reported?  Are some measures more appropriate for public reporting tha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resource use information be publicly reported in addition to qualit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scored to facilitate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1339-8640-4E99-812B-0FD14C3A1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AE6A-5D08-44F8-9561-FDB2CF5E8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oals of Public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urrent CMS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8E0D-EA0E-4D93-896C-FAB0B79B5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Goals of Public Repor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oster greater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rove quality and redu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more informed decision-making by variou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quality and efficiency assessment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improved care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35E2-4F80-4BC6-8EF4-F702608F8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7467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VBP public reporting will build upon CMS’ current public reporting efforts and be modeled after existing Compare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 has multiple audiences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 patients (beneficia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 patients and their friends &amp;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hysicians and other profession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 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7B0D-5865-4BF1-B15B-3881B75EF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s are designed and tested to insure that physicians, patients, their caregivers, and others understand and can use them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s will use performance and other relevant information to help physicians, patients, and other stakeholders in their decisio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6151-D19E-4EB2-B41E-933F51D92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urrent CMS Initiativ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tter Quality Information for Medicare Beneficiaries (BQI)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rtered Value Ex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uture Physician Compar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6EF5-4F14-4E8C-8FDE-21F16F3E2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urrent Physician Dire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3125" r="3127" b="187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4F0E-0205-403F-B935-3BE9AA8F5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Hospital Comp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4688" t="9376" r="4688" b="72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8027-2E3D-4D16-8075-AD56A1879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 what level should information be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roup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pulation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level is most actionable for beneficiaries, physicians and other providers, the Medicare program, and other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level best supports improved care coordination and reflects how beneficiaries receive car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1:45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73352847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