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056-D7B3-4D53-B91A-7805E33D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49C-9878-40C8-858F-28E8BB59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61B-2109-47FD-83D3-798FD75F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15B-EBE3-4EC9-816C-B6579B07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ECD-2C78-432C-B792-F9B2A035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838-CF70-4CAE-BAB7-6BF1C6A4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404-C207-43A8-9DAD-DF721896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B01-7F64-4922-BE1C-0B540EB4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E55-2ADC-4D15-980B-EEB66A6F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48B-C49E-40F2-8070-8433F897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189-4EAC-4B6F-8B4C-4D8F12DF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AE3-CA1B-4F0C-9431-7A91CF46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14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B3FD-C322-47D6-9DC9-C0D7292AB63B}" type="slidenum">
              <a:rPr b="0" lang="en-US" sz="1400" spc="-1" strike="noStrike">
                <a:solidFill>
                  <a:srgbClr val="000514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04920"/>
            <a:ext cx="7772400" cy="28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eveloping a Plan to Transition to    Value-Based Purchasing for Physician     &amp; Other Professional Services (PVB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fining the Opportunit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3282840"/>
            <a:ext cx="555624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effrey Rich, M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3680" y="5103720"/>
            <a:ext cx="323172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05920" y="6172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E02-753D-4689-BB02-681E41280A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Demonstrations and Pilo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Health Support Pi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are Management for High-Cost Beneficiaries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Healthcare Quality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ainsharing Demonst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ute Care Episode (ACE)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tter Quality Information for Medicare Beneficiaries (BQI) Pi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lectronic Health Records (EHR)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l Hom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8A6-2DDB-4F5C-8B41-71D6D578CD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Initia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762120"/>
            <a:ext cx="8153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 Quality Initiative: Inpatient &amp; Outpatient Pay f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 VBP Plan &amp; Report to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-Acquired Conditions &amp; Present on Admission Indicat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Quality Reporting Initia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Resource Use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&amp; Other Professional Services VBP Plan &amp; Report to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me Health Care Pay f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SRD Pay for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id V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D9B-3A27-402F-B8A6-2921C2AE2E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Go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Improve Medicare beneficiary health outcomes and experience of care by using payment incentives and transparency to encourage higher quality, more efficient professional serv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5CE-9F55-44C4-B0BD-D9202A74A2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rogram Objec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mote the practice of evidence-based medic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duce fragmentation and du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effective management of chronic dis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elerate the adoption of effective interoperable health information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imulate investments in effective structural components or 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seminate transparent and useful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o empower consumers to make value-based health care cho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o encourage health professionals to improve the value of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835-0E54-4A1D-A093-860B9E6FC8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ersonal Experiences with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Virginia Cardiac Surgery Quality Initiative (VCSQI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oluntary consortium of 13 cardiac surgical practices and 17 hospitals providing open-heart surgery in the Commonwealth of Virgi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vened since 1996 to improve the quality of surgical care and contain costs by comparing data and exchanging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a type of “accountable care organization” collaborating regionally to implement consensus-based QI projects and create payment mechanisms as a catalyst for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4F0-7D6C-48CD-A90C-F98197EB16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ersonal Experiences with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Virginia Cardiac Surgery Quality Initiative (VCSQI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elped design a proposed global pricing demonstration with CMS in 200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undled pay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 metr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ared sav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and implemented P4P programs with Anthem Blue Cross and Blue Shield of Virgini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-In-Sights: Hospital Incentive Program (Q-HI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 Physician Performance Program (Q-P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lign hospital and physician goals to foster collabor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2008 Eisenberg Patient Safety-Quality Award from NQF-The Joint Commi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F52-5A8F-407A-8A8D-DED88261C4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clu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5000"/>
              </a:lnSpc>
              <a:spcBef>
                <a:spcPts val="349"/>
              </a:spcBef>
              <a:spcAft>
                <a:spcPts val="14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ing this PVBP Plan provides an important opportunity to explore a wide range of options appropriate to the diversity of practice arrangements and settings of c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5000"/>
              </a:lnSpc>
              <a:spcBef>
                <a:spcPts val="349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ocusing on both longer term and short-term timeframes will enable immediate changes to be designed with longer-term objectives in mi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5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D93-41C1-4C8D-83FC-F156F2B678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the Prese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text for PVBP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MS goal and objectives for the PVBP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ighlights of my own experience to illustrate the opportu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ortance of this eff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064-11F7-4CE3-9DF0-4D97C710BF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’ Quality Improvemen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oadma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ision: The right care for every person every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ake ca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af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ffec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ffici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tient-cent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qui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78B-A656-4764-8AEC-38DF083413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’ Quality Improvement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oadma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ork through partner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quality and report comparative resul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alue-Based Purchasing (VBP): improve quality and avoid unnecessar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adoption of effective health information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mote innovation and the evidence base for effective use of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9A4-B946-41C3-8190-AE8D654538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at Does VBP Mean to CM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ransforming Medicare from a passive payer to an active purchaser of higher quality, more efficient health 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ools and initiatives for promoting better quality, while avoiding unnecessar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Tools: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measurement, payment incentives, public reporting, conditions of participation, coverage policy, QIO pro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Initiatives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:  pay for reporting, pay for performance, gainsharing, competi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idding, bundled payment, coverage decisions, direct provider sup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D6F-7236-48D8-B884-D6E7B78617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y VB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Improve Q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Quality improvement opportu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ennberg’s Dartmouth Atlas on variation in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cGlynn’s NEJM findings on lack of evidence-based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OM’s Crossing the Quality Chasm find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void Unnecessary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’s various fee-for-service fee schedules and prospective payment systems based on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resource consumptio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quantity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of care, NOT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quality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or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unnecessary costs avoi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ayment systems’ incentives are not align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835-5520-4397-9C0F-BE57663D11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y VB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Medicare Solvency and Beneficiary Imp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xpenditures up from $219 billion in 2000 to a projected $486 billion in 200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rt A Trust F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cess of expenditures over tax income in 200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jected to be depleted by 201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rt B Trust F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penditures increasing 11% per year over the last 6 yea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premiums, deductibles, and cost-sharing projected to consume 28% of the average beneficiary’s Social Security check in 20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CC5-C366-41FA-A40E-AD85C8ED79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pport for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sident’s Budg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Ys 2006-0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gressional Interest in P4P and Other VBP Tool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IPA, MMA, DRA, TRHCA, MMSEA, MIPP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PAC Reports to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4P recommendations on quality, efficiency, health information technology, and payment re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OM Re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4P recommendations in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To Err Is Huma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Crossing the Quality Cha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port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Rewarding Provider Performance: Aligning Incentives in Medi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ivate Se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vate health pl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mployer coali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7FA-C96C-4A8F-847E-364AA96595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Demonstrations and Pilo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mier Hospital Quality Incentiv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Group Practi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Care Management Performan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Nursing Home Value-Based Purchasing Demonstr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me Health Pay for Performan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DDD-AC03-41AD-A961-EC58EA1068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51:44Z</dcterms:modified>
  <cp:revision>4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8274953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 - one replacement</vt:lpwstr>
  </property>
  <property fmtid="{D5CDD505-2E9C-101B-9397-08002B2CF9AE}" pid="6" name="_NewReviewCycle">
    <vt:lpwstr/>
  </property>
  <property fmtid="{D5CDD505-2E9C-101B-9397-08002B2CF9AE}" pid="7" name="_PreviousAdHocReviewCycleID">
    <vt:r8>1541296745</vt:r8>
  </property>
</Properties>
</file>