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FA00-EF1B-481A-9EDE-75DCE5667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eted the word “submission” from second bullet:  originally read “self-serve submission feedback report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mproving the data submission process” to future data subm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validating data in a VBP program” to future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bulle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FA9-3028-4C46-994D-383DC0CA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D71-9572-48C4-8C37-AA8E794A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FB0-7759-432B-98A3-8B83F37F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3E3-6E3A-4478-B158-370DB090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CB9-C347-4B96-B6C8-87218BE8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EBF-EC66-4D76-9F70-4923013D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7BB-A696-4285-BF23-CFA11067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40C-9B74-43AF-A8C9-35974B8F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92A-17B7-4EFD-89D4-D2F0745B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23D-F71E-4923-A81D-F9F7EF4F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D37-3429-4850-ABC3-A4D0979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DFF-1C67-4B3D-A33F-1D0F9055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7B5B-CE42-4F9F-8E00-D888F038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Infrastructure &amp; Valid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iam 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876920"/>
            <a:ext cx="46483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are the advantages and disadvantages of various data sources, including claims, registries, and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can CMS best build on current data processes and policies to meet PVBP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might various data sources reduce the burden of repo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structure data validation for PVB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provide feedback reports to professionals and thei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174-2DBF-438B-A161-1F691B6850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1E1-B9B7-4F13-A3F8-227A8DAC5A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51F-B8CA-44FF-8EB3-36CAB5DDC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nimize the burden of data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for efficient data valida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 timely feedback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use of 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1C3-D8AB-494D-A11F-727989D791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quality and the data infrastructure are essential building blocks for any successful VB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used to score performance must be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and infrastructure depend on the types of data used for calculating the performance 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BB8-D3BB-49E5-B4BD-79AFEEA38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isting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difi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lemental Clin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FB3-415B-4771-99AB-9BEEA826E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pital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47D-99A1-4B76-B430-CF318715E8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ociation of individual professionals to group practices or system leve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 of a patient to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ing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BCE-4371-4241-9E36-509919E39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600200"/>
            <a:ext cx="80596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univers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rte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targeted at all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of a random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t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lidation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oice depends o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FFC-5D5F-408F-B62B-FB51DA00FC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id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03B-62E4-4EED-BEFD-E3EDEDFBDD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621045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-858718010</vt:r8>
  </property>
</Properties>
</file>