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296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78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99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78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99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296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296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78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899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78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899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296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6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9680">
              <a:spcBef>
                <a:spcPts val="134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2280" indent="-168120">
              <a:spcBef>
                <a:spcPts val="1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2280" indent="-168120">
              <a:spcBef>
                <a:spcPts val="1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2280" indent="-168120">
              <a:spcBef>
                <a:spcPts val="134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336600" indent="0"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690480" algn="ctr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968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265400" indent="15876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265400" indent="15876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265400" indent="15876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Payment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ong-Term Care Hospital Prospective Payment Syste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alifying LTCHs Under PPS For ALO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cedures as existing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cal Intermediary (F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etermine whether existing LTCHs qualify for paym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revised criteria after October 1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 notifies  LTCH if they qualify for payment under LTCH PP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to start of LTCH’s next cost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yment Provisions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A costs not included in LTCH P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dical education progra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d deb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lood Clotting Facto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ertain anesthesia servic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hotocopying and mailing records to QIO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yment Provisions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H PPS applies to inpatient hospital services provided in LT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cluding operating and capital cos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5-year transition, payments calculated based solely on standardized amount per patient dis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tandard Federal Rat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udget Neutralit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tal payments equal amount that would have been paid if PPS had not been implement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neutr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ccounts for behavioral changes following implement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dditional offse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alculation Of Unadjusted Payment R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7440" indent="-21744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3472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ient classification (LTC-DRG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64480" indent="-23472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lative weight of LTC-DR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64480" indent="-23472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ederal payment rat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17440" indent="-21744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TC-DRG relative weigh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Feder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74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djusted Federal PPS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867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108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134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149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yment Classification System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-DR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sed on existing acute care hospital PPS case-mix grouped DRG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-mix grouped based on clin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ER And PRIC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GROUPER software as acute care hospital 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TCH-specific relative weigh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weights updat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R program calculates Medicare payme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hort-stay outliers determined in PRICER logic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Relative Weigh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TC DRG is assigned a specific value representing relative resourc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ology normalizes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weights will be updated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yment R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standard Federal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cludes operating and capital-related cos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oes not include certain pass-through cos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debts, medical educ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Y2003 LTCH PPS unadjusted standard Federal Rate = $34,956.15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annually by excluded hospital with capital market baske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yment R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000b0"/>
                </a:solidFill>
                <a:latin typeface="Times New Roman"/>
              </a:rPr>
              <a:t>LTC-DRG relative weigh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b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6000b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6000b0"/>
                </a:solidFill>
                <a:latin typeface="Times New Roman"/>
              </a:rPr>
              <a:t>Standard Federal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1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00b0"/>
                </a:solidFill>
                <a:latin typeface="Times New Roman"/>
              </a:rPr>
              <a:t>Unadjusted Federal PPS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3526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bjectiv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nderstand background and compon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Par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nderstand case-level adjustm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Par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nderstand facility-specific adjustm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Payment Part II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-Level Adjustm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ase-Level Adjustments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08440" indent="-20844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hort stay outli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errupted stay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 cost outlie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08440" indent="-20844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se can have multiple applicable case-level and/or facility-level 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ample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853200" indent="-20412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stay and interrupted st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3200" indent="-20412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ed stay and high cost out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169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195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210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Short Stay Outliers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217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243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258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eives less than the full course of treatment and therefore would generally be overpaid if full LTC-DRG payment was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se with length of stay between one day and up to and including 5/6 of the geometric average length of stay of the LTC-DR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d the lea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LTC-DRG payment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20% of the LTC-DRG specific per diem amount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20% of cost of cas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determined in PRICER lo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ion of per diem amount for each LTC-D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ivide the full LTC-DRG payment (adjusted by the relative weight, wage index and COLA) by the geometric mean length of stay of the LTC-DR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case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ospital specific cost-to-charge ratio and Medicare allowable charges for cas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re will not pay a full LTC-DRG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patient is discharged before the number of days required to generate a full LTC-DRG payment, o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patient lacks Medicare-covered days to generate a full LTC-DRG payme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discussed further in Billing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271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297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312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troactive adjustments to payments for changes in LTCHs hospital-specific cost-to-charge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319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345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360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 of stay = 10 day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harges = $13,870.33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TC-DRG = 113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TC-DRG 113 relative weight = 1.4103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TC-DRG ALOS 113 = 36.9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st-to-charge-ratio (CCR) = 0.8114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lea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LTC-DRG payment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20% of the LTC-DRG specific per diem payment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20% of cost of cas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Payment Part I  </a:t>
            </a: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ckground and Compon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Full LTC-DRG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(Standard Federal Rate x Labor percentage) x (1/5 Wage Index Value) + Non-labor Share) x LTC-DRG Weigh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,380.1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968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ee Training Guide for full computation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120% of the LTC-DRG specific per diem am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LTC-DRG Payment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LOS LTC-DR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,383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24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ee Training Guide for full computation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352680"/>
            <a:ext cx="365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674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x 1.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1480" y="2971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x  LOS of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28195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029200" y="281952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120% of cost of c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(Charges x Cost-to-charge-ratio = Cost) x 1.2))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3,505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24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ee Training Guide for full computation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62120" y="4724280"/>
            <a:ext cx="4267080" cy="1219320"/>
          </a:xfrm>
          <a:prstGeom prst="ellipse">
            <a:avLst/>
          </a:prstGeom>
          <a:solidFill>
            <a:srgbClr val="ffffff"/>
          </a:solidFill>
          <a:ln cap="rnd" w="12600">
            <a:solidFill>
              <a:srgbClr val="d49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ort Stay Outlier Exampl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ull LTC-DRG payme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,380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20% of the LTC-DRG specific per diem payment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,383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0% of cost of cas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13,505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Interrupted Stays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385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411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426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rupted St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ted upon discharge to inpatient acute care hospital, IRF or SNF/Swing Bed and returns to same LTCH within a fixed period of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ecomes one discharge and one paym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195720" y="1611360"/>
          <a:ext cx="5143320" cy="41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5720" y="1611360"/>
                    <a:ext cx="51433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4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435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461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476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481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507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522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Not Interrupted St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mission to the LTCH generates a separate discharge payme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ngth of stay at “receiving” site of care exceeds fixed perio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ceiving” site of care not an acute care hospital, IRF, Swing Bed or SNF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tient admitted to more than one facility or goes home before returning to LTC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Not Interrupted St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1960" indent="-20196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stay at “receiving” site of care exceeds fixed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4160" indent="-2181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turn to LTCH equals new admiss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24160" indent="-2181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826200" indent="-1976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discharged and admitted to acute care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6200" indent="-1976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o same LTCH in 10 or more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6200" indent="-1976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LTCH is a new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6200" indent="-1976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CH submits new claim for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6200" indent="-1976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as discharge for payment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26200" indent="-1976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eparate payments made to L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Not Interrupted St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” site of care not an acute care hospital, IRF or S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discharged from LTCH and admitted to H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LTCH is new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CH submits new claim for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as discharge for payment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eparate payments made to L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Not Interrupted St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04120" indent="-204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admitted to more than one facility or goes home between LTCH st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2032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discharged from LTCH and admitted to I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F discharges patient to acute care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are hospital discharges patient to original L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LTCH is new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CH submits new claim for 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as discharge for payment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200" indent="-1998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eparate payments made to L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tory Requiremen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BRA of 1999 amended by BIPA of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mplement budget neutral, per discharge PPS for LTCHs based on DRG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st reporting periods beginning on or after October 1, 20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places reasonable cost-based TEFRA payment syste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yments based on standardized amount per patient discharge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rupted Stays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ngth of stay at receiving provider falls within fixed periods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dicare beneficiary did not go hom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 another facility before returning to LTC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ginal LTCH stay and second LTCH stay meet interrupted stay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ill as one Medicare clai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 must reflect period of time at other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rupted Stays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ngth of stay at receiving provider is longer than fixed periods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dicare beneficiary did not go hom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 a third facility before returning to LTC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ginal LTCH stay and second LTCH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pa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t interru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ill as two LTCH Medicare claim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152360" y="2506680"/>
          <a:ext cx="6242040" cy="4411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506680"/>
                    <a:ext cx="624204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rupted Stay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xample 1-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atient acute care hospital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152360" y="2506680"/>
          <a:ext cx="6643800" cy="403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506680"/>
                    <a:ext cx="664380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rupted Stay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xample 2-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atient Rehabilitation Facility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"/>
          <p:cNvGraphicFramePr/>
          <p:nvPr/>
        </p:nvGraphicFramePr>
        <p:xfrm>
          <a:off x="1152360" y="2506680"/>
          <a:ext cx="6392880" cy="390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506680"/>
                    <a:ext cx="639288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rupted Stay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xample 3-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Bed/Skilled Nursing Facility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High Cost Outliers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igh Cost Outli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s made for cases with unusually high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id 80% of costs above outlier threshold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determined using charges from claim and hospital-specific cost-to-charge ratio (CCR) computed from most recent cost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o retroactive adjustments to payments for changes to CC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igh Cost Outlier Threshold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Cost Outlier Threshol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TC-DRG Payment + Fixed-Loss Amou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ost of the case exceeds high cost outlier threshold additional payment is added to LTC-DRG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ixed-Loss Amoun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-loss amount is set such that projected outlier payments are equal to 8% of total national LTCH PPS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Y 2003 fixed-loss amount = $24,4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igh Cost Outlier Paymen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er Payment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ted cost of case minus outlie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TCHs Defined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ed as short-term acute care hospitals excluded from I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State licensure for acute care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d by last four digits of Medicare Provider Number “2000” through “2299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09800" y="1676160"/>
            <a:ext cx="3771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length of stay greater than 25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TCHs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an be free-standing or hospital-within-a-hospital, and may establish satellite facilities within other providers’ facilit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st-To-Charge Ratio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1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-To-Charge Rat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care Cost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dicar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724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se the latest available settled cost report and associated data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0240" indent="-23724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ew providers use the sum of the operating and capital statewide averages under IPP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19600" indent="-21960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operating and capital-related co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724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cludes bad debts, medical education, nurse anesthetist, and blood clotting factor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Payment Part III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acility-Specific Adjustments and  Other Miscellaneous  Issu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cility-Level Adjustmen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individual LTCH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age adjustme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L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cility-level Adjustment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djustments necessar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Geographic reclassific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SH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ME adjustmen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ural Loc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age Index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ment to standard Federal rate for differences in area w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age index phased-in over 5 year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 the labor-related share by applicable wage index value based on physical location of LTCH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age Index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Y 2003 applicable wage index value is 1/5 the value of pre-classification hospital inpatient wage index without regards to re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Y 2003 labor-related share is 72.885 per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age Adjustment = Labor-Related Share of Standard Federal Rate * Wage Index Valu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L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Living Adjustment (CO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pplicable to Hawaii and Alaska onl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 the non-labor-related portion of standard Federal rate by the applicable COLA facto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r FY 2003, the non-labor-related share is 27.115 percen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Co-location Policy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-located Provid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payment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 discourage inappropriate patient-shifting among Medicare Providers that share a physical loc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located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TCH occupies space in a building used by another provider,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, in one or more entire buildings on the same campus of buildings used by another provid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ospital-Within-A-Hospital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H located in or on the campus of an acute car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Not Subject To LTCH PP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erans Administration hos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mbursed under State cost control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mbursed in accordance with demonstratio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hos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articipating Medicare hospit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ospital-Within-A-Hospital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08440" indent="-20844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meet criteria at CFR § 412.22 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parate governing body, CEO, CMO and medical staff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erform basic functions independently from host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ost hospital provides 15% or less of total inpatient operating costs supplied by host hospital, an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41440" indent="-2253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t least 75% of patients admitted from other than the host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atellite LTCH Provid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art of an LTCH that provides services in a building also used by another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atellite LTCH Provid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meet all the criteria in CFR §412.22(h) to be excluded from I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aintains separate admission/discharge records from host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nnot commingle beds with host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viced by same intermediary as the parent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reated as a separate cost center of the parent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579132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81d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055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</a:rPr>
              <a:t>Continued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atellite LTCH Provider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eet all the criteria in CFR §412.22(h) to be excluded from IPP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ccounting system allocates and maintains cost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me fiscal period and method of apportionment of the parent hospital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ualifies for exclusion from acute care hospital PP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mplies with existing bed limit regulation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-location Payment Policy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H or LTCH satellite co-located with on-site acute care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ore than 5% of LTCH patients discharged to an on-site acute care hospital and readmitted during cost reporting period,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one LTC-DRG payment made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such discharges and re-admits during entire cost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-location Payment Polic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5280" indent="-21528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H or LTCH satellite co-located with on-site SNFs/Swing Beds, IRFs or psychiatric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325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ore than (a separate) 5% of LTCH patients discharged to an on-site SNF/Swing Bed, IRF or psychiatric facility and readmitted during cost reporting perio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58720" indent="-2325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one LTC-DRG payment made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880560" indent="-21060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such discharges and re-admits during entire cost repor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-location Payment Policy 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 only applies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mi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nce threshold is met for cost reporting perio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reshold met, paid as one dis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nsite acute care hospit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nsite SNF/Swing Bed, IRF, or psychiatric facilit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-location Notification Requiremen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fiscal intermediary and CMS regional office that co-location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ithin 60 days of first cost reporting period that begins October 1, 20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ithin 60 days of changes to status of co-loc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Transitioning to the Federal Rate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ansition Period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S payments are phased-in over 5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om blend of payments under TEFRA and Federal rate to full 100 percent Federal per-discharge LTC-DRG based PP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verage Length Of Sta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reporting periods prior to October 1, 200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verage length of stay based on hospital’s total inpatients’ total day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covered and non-covered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non-Medicare patients’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09800" y="1676160"/>
            <a:ext cx="3771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reporting periods on or after October 1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verage length of stay based on hospital’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dicar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npatients’ total day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covered and non-covered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lud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Medic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tients’ d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ansition Period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year phase-in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vocable opportunity to elect payment based on 100% of Federal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188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rs are not eligible for blended transition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012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id based on 100% of Federal  rate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491000" y="1673280"/>
          <a:ext cx="6230880" cy="431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1000" y="1673280"/>
                    <a:ext cx="623088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6" name=""/>
          <p:cNvGrpSpPr/>
          <p:nvPr/>
        </p:nvGrpSpPr>
        <p:grpSpPr>
          <a:xfrm>
            <a:off x="6629400" y="5838840"/>
            <a:ext cx="2056680" cy="669960"/>
            <a:chOff x="6629400" y="5838840"/>
            <a:chExt cx="2056680" cy="669960"/>
          </a:xfrm>
        </p:grpSpPr>
        <p:grpSp>
          <p:nvGrpSpPr>
            <p:cNvPr id="607" name=""/>
            <p:cNvGrpSpPr/>
            <p:nvPr/>
          </p:nvGrpSpPr>
          <p:grpSpPr>
            <a:xfrm>
              <a:off x="6629400" y="5838840"/>
              <a:ext cx="1602360" cy="669960"/>
              <a:chOff x="6629400" y="5838840"/>
              <a:chExt cx="1602360" cy="6699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629400" y="5852160"/>
                <a:ext cx="414000" cy="641520"/>
                <a:chOff x="6629400" y="5852160"/>
                <a:chExt cx="414000" cy="6415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818760" y="5852160"/>
                  <a:ext cx="170280" cy="142200"/>
                </a:xfrm>
                <a:custGeom>
                  <a:avLst/>
                  <a:gdLst/>
                  <a:ahLst/>
                  <a:rect l="l" t="t" r="r" b="b"/>
                  <a:pathLst>
                    <a:path w="295" h="315">
                      <a:moveTo>
                        <a:pt x="99" y="150"/>
                      </a:moveTo>
                      <a:lnTo>
                        <a:pt x="93" y="105"/>
                      </a:lnTo>
                      <a:lnTo>
                        <a:pt x="93" y="61"/>
                      </a:lnTo>
                      <a:lnTo>
                        <a:pt x="106" y="25"/>
                      </a:lnTo>
                      <a:lnTo>
                        <a:pt x="134" y="9"/>
                      </a:lnTo>
                      <a:lnTo>
                        <a:pt x="173" y="0"/>
                      </a:lnTo>
                      <a:lnTo>
                        <a:pt x="221" y="16"/>
                      </a:lnTo>
                      <a:lnTo>
                        <a:pt x="256" y="64"/>
                      </a:lnTo>
                      <a:lnTo>
                        <a:pt x="284" y="137"/>
                      </a:lnTo>
                      <a:lnTo>
                        <a:pt x="294" y="192"/>
                      </a:lnTo>
                      <a:lnTo>
                        <a:pt x="295" y="261"/>
                      </a:lnTo>
                      <a:lnTo>
                        <a:pt x="279" y="298"/>
                      </a:lnTo>
                      <a:lnTo>
                        <a:pt x="255" y="315"/>
                      </a:lnTo>
                      <a:lnTo>
                        <a:pt x="206" y="315"/>
                      </a:lnTo>
                      <a:lnTo>
                        <a:pt x="171" y="292"/>
                      </a:lnTo>
                      <a:lnTo>
                        <a:pt x="138" y="244"/>
                      </a:lnTo>
                      <a:lnTo>
                        <a:pt x="112" y="205"/>
                      </a:lnTo>
                      <a:lnTo>
                        <a:pt x="10" y="194"/>
                      </a:lnTo>
                      <a:lnTo>
                        <a:pt x="0" y="177"/>
                      </a:lnTo>
                      <a:lnTo>
                        <a:pt x="4" y="166"/>
                      </a:lnTo>
                      <a:lnTo>
                        <a:pt x="104" y="164"/>
                      </a:lnTo>
                      <a:lnTo>
                        <a:pt x="99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629400" y="5957280"/>
                  <a:ext cx="333720" cy="93960"/>
                </a:xfrm>
                <a:custGeom>
                  <a:avLst/>
                  <a:gdLst/>
                  <a:ahLst/>
                  <a:rect l="l" t="t" r="r" b="b"/>
                  <a:pathLst>
                    <a:path w="578" h="209">
                      <a:moveTo>
                        <a:pt x="576" y="176"/>
                      </a:moveTo>
                      <a:lnTo>
                        <a:pt x="500" y="150"/>
                      </a:lnTo>
                      <a:lnTo>
                        <a:pt x="471" y="143"/>
                      </a:lnTo>
                      <a:lnTo>
                        <a:pt x="383" y="121"/>
                      </a:lnTo>
                      <a:lnTo>
                        <a:pt x="209" y="71"/>
                      </a:lnTo>
                      <a:lnTo>
                        <a:pt x="94" y="37"/>
                      </a:lnTo>
                      <a:lnTo>
                        <a:pt x="17" y="0"/>
                      </a:lnTo>
                      <a:lnTo>
                        <a:pt x="0" y="10"/>
                      </a:lnTo>
                      <a:lnTo>
                        <a:pt x="11" y="26"/>
                      </a:lnTo>
                      <a:lnTo>
                        <a:pt x="67" y="54"/>
                      </a:lnTo>
                      <a:lnTo>
                        <a:pt x="104" y="61"/>
                      </a:lnTo>
                      <a:lnTo>
                        <a:pt x="89" y="78"/>
                      </a:lnTo>
                      <a:lnTo>
                        <a:pt x="94" y="104"/>
                      </a:lnTo>
                      <a:lnTo>
                        <a:pt x="139" y="134"/>
                      </a:lnTo>
                      <a:lnTo>
                        <a:pt x="187" y="145"/>
                      </a:lnTo>
                      <a:lnTo>
                        <a:pt x="215" y="126"/>
                      </a:lnTo>
                      <a:lnTo>
                        <a:pt x="226" y="100"/>
                      </a:lnTo>
                      <a:lnTo>
                        <a:pt x="289" y="111"/>
                      </a:lnTo>
                      <a:lnTo>
                        <a:pt x="350" y="137"/>
                      </a:lnTo>
                      <a:lnTo>
                        <a:pt x="422" y="161"/>
                      </a:lnTo>
                      <a:lnTo>
                        <a:pt x="476" y="187"/>
                      </a:lnTo>
                      <a:lnTo>
                        <a:pt x="532" y="206"/>
                      </a:lnTo>
                      <a:lnTo>
                        <a:pt x="561" y="209"/>
                      </a:lnTo>
                      <a:lnTo>
                        <a:pt x="578" y="195"/>
                      </a:lnTo>
                      <a:lnTo>
                        <a:pt x="576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933240" y="6004800"/>
                  <a:ext cx="110160" cy="273600"/>
                </a:xfrm>
                <a:custGeom>
                  <a:avLst/>
                  <a:gdLst/>
                  <a:ahLst/>
                  <a:rect l="l" t="t" r="r" b="b"/>
                  <a:pathLst>
                    <a:path w="191" h="606">
                      <a:moveTo>
                        <a:pt x="28" y="30"/>
                      </a:moveTo>
                      <a:lnTo>
                        <a:pt x="41" y="7"/>
                      </a:lnTo>
                      <a:lnTo>
                        <a:pt x="75" y="0"/>
                      </a:lnTo>
                      <a:lnTo>
                        <a:pt x="117" y="22"/>
                      </a:lnTo>
                      <a:lnTo>
                        <a:pt x="156" y="94"/>
                      </a:lnTo>
                      <a:lnTo>
                        <a:pt x="173" y="150"/>
                      </a:lnTo>
                      <a:lnTo>
                        <a:pt x="186" y="217"/>
                      </a:lnTo>
                      <a:lnTo>
                        <a:pt x="191" y="308"/>
                      </a:lnTo>
                      <a:lnTo>
                        <a:pt x="190" y="389"/>
                      </a:lnTo>
                      <a:lnTo>
                        <a:pt x="186" y="485"/>
                      </a:lnTo>
                      <a:lnTo>
                        <a:pt x="180" y="558"/>
                      </a:lnTo>
                      <a:lnTo>
                        <a:pt x="164" y="589"/>
                      </a:lnTo>
                      <a:lnTo>
                        <a:pt x="136" y="600"/>
                      </a:lnTo>
                      <a:lnTo>
                        <a:pt x="102" y="606"/>
                      </a:lnTo>
                      <a:lnTo>
                        <a:pt x="58" y="595"/>
                      </a:lnTo>
                      <a:lnTo>
                        <a:pt x="25" y="580"/>
                      </a:lnTo>
                      <a:lnTo>
                        <a:pt x="8" y="547"/>
                      </a:lnTo>
                      <a:lnTo>
                        <a:pt x="0" y="485"/>
                      </a:lnTo>
                      <a:lnTo>
                        <a:pt x="2" y="411"/>
                      </a:lnTo>
                      <a:lnTo>
                        <a:pt x="19" y="361"/>
                      </a:lnTo>
                      <a:lnTo>
                        <a:pt x="25" y="283"/>
                      </a:lnTo>
                      <a:lnTo>
                        <a:pt x="23" y="245"/>
                      </a:lnTo>
                      <a:lnTo>
                        <a:pt x="13" y="200"/>
                      </a:lnTo>
                      <a:lnTo>
                        <a:pt x="6" y="156"/>
                      </a:lnTo>
                      <a:lnTo>
                        <a:pt x="2" y="102"/>
                      </a:lnTo>
                      <a:lnTo>
                        <a:pt x="2" y="63"/>
                      </a:lnTo>
                      <a:lnTo>
                        <a:pt x="17" y="41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899040" y="6232680"/>
                  <a:ext cx="140760" cy="261000"/>
                </a:xfrm>
                <a:custGeom>
                  <a:avLst/>
                  <a:gdLst/>
                  <a:ahLst/>
                  <a:rect l="l" t="t" r="r" b="b"/>
                  <a:pathLst>
                    <a:path w="244" h="578">
                      <a:moveTo>
                        <a:pt x="153" y="0"/>
                      </a:moveTo>
                      <a:lnTo>
                        <a:pt x="198" y="11"/>
                      </a:lnTo>
                      <a:lnTo>
                        <a:pt x="205" y="46"/>
                      </a:lnTo>
                      <a:lnTo>
                        <a:pt x="209" y="111"/>
                      </a:lnTo>
                      <a:lnTo>
                        <a:pt x="198" y="189"/>
                      </a:lnTo>
                      <a:lnTo>
                        <a:pt x="189" y="274"/>
                      </a:lnTo>
                      <a:lnTo>
                        <a:pt x="181" y="369"/>
                      </a:lnTo>
                      <a:lnTo>
                        <a:pt x="187" y="417"/>
                      </a:lnTo>
                      <a:lnTo>
                        <a:pt x="200" y="463"/>
                      </a:lnTo>
                      <a:lnTo>
                        <a:pt x="231" y="506"/>
                      </a:lnTo>
                      <a:lnTo>
                        <a:pt x="244" y="524"/>
                      </a:lnTo>
                      <a:lnTo>
                        <a:pt x="238" y="541"/>
                      </a:lnTo>
                      <a:lnTo>
                        <a:pt x="203" y="541"/>
                      </a:lnTo>
                      <a:lnTo>
                        <a:pt x="150" y="550"/>
                      </a:lnTo>
                      <a:lnTo>
                        <a:pt x="78" y="569"/>
                      </a:lnTo>
                      <a:lnTo>
                        <a:pt x="33" y="578"/>
                      </a:lnTo>
                      <a:lnTo>
                        <a:pt x="6" y="558"/>
                      </a:lnTo>
                      <a:lnTo>
                        <a:pt x="0" y="528"/>
                      </a:lnTo>
                      <a:lnTo>
                        <a:pt x="33" y="519"/>
                      </a:lnTo>
                      <a:lnTo>
                        <a:pt x="92" y="517"/>
                      </a:lnTo>
                      <a:lnTo>
                        <a:pt x="159" y="517"/>
                      </a:lnTo>
                      <a:lnTo>
                        <a:pt x="209" y="519"/>
                      </a:lnTo>
                      <a:lnTo>
                        <a:pt x="205" y="511"/>
                      </a:lnTo>
                      <a:lnTo>
                        <a:pt x="183" y="489"/>
                      </a:lnTo>
                      <a:lnTo>
                        <a:pt x="165" y="450"/>
                      </a:lnTo>
                      <a:lnTo>
                        <a:pt x="150" y="400"/>
                      </a:lnTo>
                      <a:lnTo>
                        <a:pt x="150" y="367"/>
                      </a:lnTo>
                      <a:lnTo>
                        <a:pt x="159" y="267"/>
                      </a:lnTo>
                      <a:lnTo>
                        <a:pt x="159" y="195"/>
                      </a:lnTo>
                      <a:lnTo>
                        <a:pt x="153" y="117"/>
                      </a:lnTo>
                      <a:lnTo>
                        <a:pt x="142" y="80"/>
                      </a:lnTo>
                      <a:lnTo>
                        <a:pt x="133" y="33"/>
                      </a:lnTo>
                      <a:lnTo>
                        <a:pt x="148" y="11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842520" y="6199200"/>
                  <a:ext cx="140760" cy="255600"/>
                </a:xfrm>
                <a:custGeom>
                  <a:avLst/>
                  <a:gdLst/>
                  <a:ahLst/>
                  <a:rect l="l" t="t" r="r" b="b"/>
                  <a:pathLst>
                    <a:path w="244" h="566">
                      <a:moveTo>
                        <a:pt x="190" y="0"/>
                      </a:moveTo>
                      <a:lnTo>
                        <a:pt x="233" y="13"/>
                      </a:lnTo>
                      <a:lnTo>
                        <a:pt x="238" y="48"/>
                      </a:lnTo>
                      <a:lnTo>
                        <a:pt x="238" y="115"/>
                      </a:lnTo>
                      <a:lnTo>
                        <a:pt x="222" y="191"/>
                      </a:lnTo>
                      <a:lnTo>
                        <a:pt x="205" y="276"/>
                      </a:lnTo>
                      <a:lnTo>
                        <a:pt x="192" y="368"/>
                      </a:lnTo>
                      <a:lnTo>
                        <a:pt x="194" y="416"/>
                      </a:lnTo>
                      <a:lnTo>
                        <a:pt x="203" y="464"/>
                      </a:lnTo>
                      <a:lnTo>
                        <a:pt x="233" y="509"/>
                      </a:lnTo>
                      <a:lnTo>
                        <a:pt x="244" y="527"/>
                      </a:lnTo>
                      <a:lnTo>
                        <a:pt x="237" y="544"/>
                      </a:lnTo>
                      <a:lnTo>
                        <a:pt x="201" y="542"/>
                      </a:lnTo>
                      <a:lnTo>
                        <a:pt x="148" y="548"/>
                      </a:lnTo>
                      <a:lnTo>
                        <a:pt x="76" y="560"/>
                      </a:lnTo>
                      <a:lnTo>
                        <a:pt x="30" y="566"/>
                      </a:lnTo>
                      <a:lnTo>
                        <a:pt x="4" y="544"/>
                      </a:lnTo>
                      <a:lnTo>
                        <a:pt x="0" y="514"/>
                      </a:lnTo>
                      <a:lnTo>
                        <a:pt x="33" y="507"/>
                      </a:lnTo>
                      <a:lnTo>
                        <a:pt x="92" y="511"/>
                      </a:lnTo>
                      <a:lnTo>
                        <a:pt x="159" y="514"/>
                      </a:lnTo>
                      <a:lnTo>
                        <a:pt x="209" y="520"/>
                      </a:lnTo>
                      <a:lnTo>
                        <a:pt x="207" y="512"/>
                      </a:lnTo>
                      <a:lnTo>
                        <a:pt x="185" y="488"/>
                      </a:lnTo>
                      <a:lnTo>
                        <a:pt x="170" y="448"/>
                      </a:lnTo>
                      <a:lnTo>
                        <a:pt x="159" y="398"/>
                      </a:lnTo>
                      <a:lnTo>
                        <a:pt x="161" y="364"/>
                      </a:lnTo>
                      <a:lnTo>
                        <a:pt x="177" y="265"/>
                      </a:lnTo>
                      <a:lnTo>
                        <a:pt x="183" y="194"/>
                      </a:lnTo>
                      <a:lnTo>
                        <a:pt x="181" y="115"/>
                      </a:lnTo>
                      <a:lnTo>
                        <a:pt x="174" y="78"/>
                      </a:lnTo>
                      <a:lnTo>
                        <a:pt x="168" y="31"/>
                      </a:lnTo>
                      <a:lnTo>
                        <a:pt x="183" y="9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7940160" y="5916960"/>
                <a:ext cx="291600" cy="584280"/>
                <a:chOff x="7940160" y="5916960"/>
                <a:chExt cx="291600" cy="5842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015760" y="6060240"/>
                  <a:ext cx="119880" cy="235800"/>
                </a:xfrm>
                <a:custGeom>
                  <a:avLst/>
                  <a:gdLst/>
                  <a:ahLst/>
                  <a:rect l="l" t="t" r="r" b="b"/>
                  <a:pathLst>
                    <a:path w="208" h="522">
                      <a:moveTo>
                        <a:pt x="56" y="22"/>
                      </a:moveTo>
                      <a:lnTo>
                        <a:pt x="78" y="6"/>
                      </a:lnTo>
                      <a:lnTo>
                        <a:pt x="106" y="0"/>
                      </a:lnTo>
                      <a:lnTo>
                        <a:pt x="128" y="4"/>
                      </a:lnTo>
                      <a:lnTo>
                        <a:pt x="147" y="28"/>
                      </a:lnTo>
                      <a:lnTo>
                        <a:pt x="162" y="78"/>
                      </a:lnTo>
                      <a:lnTo>
                        <a:pt x="175" y="144"/>
                      </a:lnTo>
                      <a:lnTo>
                        <a:pt x="189" y="209"/>
                      </a:lnTo>
                      <a:lnTo>
                        <a:pt x="201" y="265"/>
                      </a:lnTo>
                      <a:lnTo>
                        <a:pt x="201" y="328"/>
                      </a:lnTo>
                      <a:lnTo>
                        <a:pt x="208" y="405"/>
                      </a:lnTo>
                      <a:lnTo>
                        <a:pt x="201" y="450"/>
                      </a:lnTo>
                      <a:lnTo>
                        <a:pt x="191" y="489"/>
                      </a:lnTo>
                      <a:lnTo>
                        <a:pt x="158" y="511"/>
                      </a:lnTo>
                      <a:lnTo>
                        <a:pt x="97" y="522"/>
                      </a:lnTo>
                      <a:lnTo>
                        <a:pt x="52" y="509"/>
                      </a:lnTo>
                      <a:lnTo>
                        <a:pt x="11" y="478"/>
                      </a:lnTo>
                      <a:lnTo>
                        <a:pt x="0" y="428"/>
                      </a:lnTo>
                      <a:lnTo>
                        <a:pt x="0" y="376"/>
                      </a:lnTo>
                      <a:lnTo>
                        <a:pt x="13" y="281"/>
                      </a:lnTo>
                      <a:lnTo>
                        <a:pt x="13" y="205"/>
                      </a:lnTo>
                      <a:lnTo>
                        <a:pt x="17" y="133"/>
                      </a:lnTo>
                      <a:lnTo>
                        <a:pt x="33" y="87"/>
                      </a:lnTo>
                      <a:lnTo>
                        <a:pt x="52" y="56"/>
                      </a:lnTo>
                      <a:lnTo>
                        <a:pt x="5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087400" y="6252840"/>
                  <a:ext cx="144360" cy="233280"/>
                </a:xfrm>
                <a:custGeom>
                  <a:avLst/>
                  <a:gdLst/>
                  <a:ahLst/>
                  <a:rect l="l" t="t" r="r" b="b"/>
                  <a:pathLst>
                    <a:path w="250" h="517">
                      <a:moveTo>
                        <a:pt x="0" y="45"/>
                      </a:moveTo>
                      <a:lnTo>
                        <a:pt x="2" y="6"/>
                      </a:lnTo>
                      <a:lnTo>
                        <a:pt x="22" y="0"/>
                      </a:lnTo>
                      <a:lnTo>
                        <a:pt x="61" y="2"/>
                      </a:lnTo>
                      <a:lnTo>
                        <a:pt x="72" y="36"/>
                      </a:lnTo>
                      <a:lnTo>
                        <a:pt x="105" y="106"/>
                      </a:lnTo>
                      <a:lnTo>
                        <a:pt x="122" y="162"/>
                      </a:lnTo>
                      <a:lnTo>
                        <a:pt x="133" y="228"/>
                      </a:lnTo>
                      <a:lnTo>
                        <a:pt x="130" y="267"/>
                      </a:lnTo>
                      <a:lnTo>
                        <a:pt x="107" y="328"/>
                      </a:lnTo>
                      <a:lnTo>
                        <a:pt x="85" y="386"/>
                      </a:lnTo>
                      <a:lnTo>
                        <a:pt x="78" y="434"/>
                      </a:lnTo>
                      <a:lnTo>
                        <a:pt x="78" y="453"/>
                      </a:lnTo>
                      <a:lnTo>
                        <a:pt x="102" y="456"/>
                      </a:lnTo>
                      <a:lnTo>
                        <a:pt x="133" y="445"/>
                      </a:lnTo>
                      <a:lnTo>
                        <a:pt x="217" y="453"/>
                      </a:lnTo>
                      <a:lnTo>
                        <a:pt x="250" y="473"/>
                      </a:lnTo>
                      <a:lnTo>
                        <a:pt x="244" y="486"/>
                      </a:lnTo>
                      <a:lnTo>
                        <a:pt x="200" y="512"/>
                      </a:lnTo>
                      <a:lnTo>
                        <a:pt x="174" y="517"/>
                      </a:lnTo>
                      <a:lnTo>
                        <a:pt x="150" y="495"/>
                      </a:lnTo>
                      <a:lnTo>
                        <a:pt x="94" y="484"/>
                      </a:lnTo>
                      <a:lnTo>
                        <a:pt x="46" y="484"/>
                      </a:lnTo>
                      <a:lnTo>
                        <a:pt x="30" y="479"/>
                      </a:lnTo>
                      <a:lnTo>
                        <a:pt x="28" y="462"/>
                      </a:lnTo>
                      <a:lnTo>
                        <a:pt x="57" y="375"/>
                      </a:lnTo>
                      <a:lnTo>
                        <a:pt x="85" y="308"/>
                      </a:lnTo>
                      <a:lnTo>
                        <a:pt x="96" y="264"/>
                      </a:lnTo>
                      <a:lnTo>
                        <a:pt x="96" y="202"/>
                      </a:lnTo>
                      <a:lnTo>
                        <a:pt x="74" y="147"/>
                      </a:lnTo>
                      <a:lnTo>
                        <a:pt x="28" y="89"/>
                      </a:lnTo>
                      <a:lnTo>
                        <a:pt x="7" y="6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940160" y="6256080"/>
                  <a:ext cx="128160" cy="245160"/>
                </a:xfrm>
                <a:custGeom>
                  <a:avLst/>
                  <a:gdLst/>
                  <a:ahLst/>
                  <a:rect l="l" t="t" r="r" b="b"/>
                  <a:pathLst>
                    <a:path w="222" h="543">
                      <a:moveTo>
                        <a:pt x="131" y="88"/>
                      </a:moveTo>
                      <a:lnTo>
                        <a:pt x="144" y="43"/>
                      </a:lnTo>
                      <a:lnTo>
                        <a:pt x="172" y="0"/>
                      </a:lnTo>
                      <a:lnTo>
                        <a:pt x="198" y="0"/>
                      </a:lnTo>
                      <a:lnTo>
                        <a:pt x="222" y="23"/>
                      </a:lnTo>
                      <a:lnTo>
                        <a:pt x="220" y="50"/>
                      </a:lnTo>
                      <a:lnTo>
                        <a:pt x="187" y="89"/>
                      </a:lnTo>
                      <a:lnTo>
                        <a:pt x="154" y="160"/>
                      </a:lnTo>
                      <a:lnTo>
                        <a:pt x="139" y="223"/>
                      </a:lnTo>
                      <a:lnTo>
                        <a:pt x="137" y="295"/>
                      </a:lnTo>
                      <a:lnTo>
                        <a:pt x="154" y="377"/>
                      </a:lnTo>
                      <a:lnTo>
                        <a:pt x="170" y="423"/>
                      </a:lnTo>
                      <a:lnTo>
                        <a:pt x="187" y="460"/>
                      </a:lnTo>
                      <a:lnTo>
                        <a:pt x="192" y="479"/>
                      </a:lnTo>
                      <a:lnTo>
                        <a:pt x="189" y="505"/>
                      </a:lnTo>
                      <a:lnTo>
                        <a:pt x="161" y="506"/>
                      </a:lnTo>
                      <a:lnTo>
                        <a:pt x="94" y="521"/>
                      </a:lnTo>
                      <a:lnTo>
                        <a:pt x="33" y="543"/>
                      </a:lnTo>
                      <a:lnTo>
                        <a:pt x="20" y="534"/>
                      </a:lnTo>
                      <a:lnTo>
                        <a:pt x="0" y="510"/>
                      </a:lnTo>
                      <a:lnTo>
                        <a:pt x="6" y="495"/>
                      </a:lnTo>
                      <a:lnTo>
                        <a:pt x="65" y="488"/>
                      </a:lnTo>
                      <a:lnTo>
                        <a:pt x="117" y="488"/>
                      </a:lnTo>
                      <a:lnTo>
                        <a:pt x="144" y="488"/>
                      </a:lnTo>
                      <a:lnTo>
                        <a:pt x="161" y="473"/>
                      </a:lnTo>
                      <a:lnTo>
                        <a:pt x="154" y="440"/>
                      </a:lnTo>
                      <a:lnTo>
                        <a:pt x="126" y="373"/>
                      </a:lnTo>
                      <a:lnTo>
                        <a:pt x="109" y="310"/>
                      </a:lnTo>
                      <a:lnTo>
                        <a:pt x="104" y="245"/>
                      </a:lnTo>
                      <a:lnTo>
                        <a:pt x="109" y="184"/>
                      </a:lnTo>
                      <a:lnTo>
                        <a:pt x="120" y="132"/>
                      </a:lnTo>
                      <a:lnTo>
                        <a:pt x="131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958520" y="6065280"/>
                  <a:ext cx="91080" cy="197280"/>
                </a:xfrm>
                <a:custGeom>
                  <a:avLst/>
                  <a:gdLst/>
                  <a:ahLst/>
                  <a:rect l="l" t="t" r="r" b="b"/>
                  <a:pathLst>
                    <a:path w="158" h="437">
                      <a:moveTo>
                        <a:pt x="80" y="11"/>
                      </a:moveTo>
                      <a:lnTo>
                        <a:pt x="111" y="0"/>
                      </a:lnTo>
                      <a:lnTo>
                        <a:pt x="145" y="3"/>
                      </a:lnTo>
                      <a:lnTo>
                        <a:pt x="158" y="22"/>
                      </a:lnTo>
                      <a:lnTo>
                        <a:pt x="150" y="72"/>
                      </a:lnTo>
                      <a:lnTo>
                        <a:pt x="113" y="88"/>
                      </a:lnTo>
                      <a:lnTo>
                        <a:pt x="69" y="120"/>
                      </a:lnTo>
                      <a:lnTo>
                        <a:pt x="52" y="164"/>
                      </a:lnTo>
                      <a:lnTo>
                        <a:pt x="39" y="205"/>
                      </a:lnTo>
                      <a:lnTo>
                        <a:pt x="35" y="266"/>
                      </a:lnTo>
                      <a:lnTo>
                        <a:pt x="41" y="325"/>
                      </a:lnTo>
                      <a:lnTo>
                        <a:pt x="50" y="349"/>
                      </a:lnTo>
                      <a:lnTo>
                        <a:pt x="63" y="366"/>
                      </a:lnTo>
                      <a:lnTo>
                        <a:pt x="85" y="372"/>
                      </a:lnTo>
                      <a:lnTo>
                        <a:pt x="85" y="399"/>
                      </a:lnTo>
                      <a:lnTo>
                        <a:pt x="52" y="425"/>
                      </a:lnTo>
                      <a:lnTo>
                        <a:pt x="35" y="437"/>
                      </a:lnTo>
                      <a:lnTo>
                        <a:pt x="13" y="420"/>
                      </a:lnTo>
                      <a:lnTo>
                        <a:pt x="0" y="372"/>
                      </a:lnTo>
                      <a:lnTo>
                        <a:pt x="0" y="311"/>
                      </a:lnTo>
                      <a:lnTo>
                        <a:pt x="2" y="233"/>
                      </a:lnTo>
                      <a:lnTo>
                        <a:pt x="24" y="153"/>
                      </a:lnTo>
                      <a:lnTo>
                        <a:pt x="50" y="87"/>
                      </a:lnTo>
                      <a:lnTo>
                        <a:pt x="69" y="37"/>
                      </a:lnTo>
                      <a:lnTo>
                        <a:pt x="8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950240" y="5916960"/>
                  <a:ext cx="156240" cy="139680"/>
                </a:xfrm>
                <a:custGeom>
                  <a:avLst/>
                  <a:gdLst/>
                  <a:ahLst/>
                  <a:rect l="l" t="t" r="r" b="b"/>
                  <a:pathLst>
                    <a:path w="271" h="310">
                      <a:moveTo>
                        <a:pt x="142" y="4"/>
                      </a:moveTo>
                      <a:lnTo>
                        <a:pt x="168" y="0"/>
                      </a:lnTo>
                      <a:lnTo>
                        <a:pt x="204" y="15"/>
                      </a:lnTo>
                      <a:lnTo>
                        <a:pt x="245" y="63"/>
                      </a:lnTo>
                      <a:lnTo>
                        <a:pt x="271" y="134"/>
                      </a:lnTo>
                      <a:lnTo>
                        <a:pt x="267" y="180"/>
                      </a:lnTo>
                      <a:lnTo>
                        <a:pt x="259" y="238"/>
                      </a:lnTo>
                      <a:lnTo>
                        <a:pt x="241" y="278"/>
                      </a:lnTo>
                      <a:lnTo>
                        <a:pt x="202" y="310"/>
                      </a:lnTo>
                      <a:lnTo>
                        <a:pt x="161" y="303"/>
                      </a:lnTo>
                      <a:lnTo>
                        <a:pt x="116" y="271"/>
                      </a:lnTo>
                      <a:lnTo>
                        <a:pt x="96" y="223"/>
                      </a:lnTo>
                      <a:lnTo>
                        <a:pt x="79" y="191"/>
                      </a:lnTo>
                      <a:lnTo>
                        <a:pt x="31" y="212"/>
                      </a:lnTo>
                      <a:lnTo>
                        <a:pt x="9" y="212"/>
                      </a:lnTo>
                      <a:lnTo>
                        <a:pt x="0" y="208"/>
                      </a:lnTo>
                      <a:lnTo>
                        <a:pt x="7" y="191"/>
                      </a:lnTo>
                      <a:lnTo>
                        <a:pt x="53" y="178"/>
                      </a:lnTo>
                      <a:lnTo>
                        <a:pt x="76" y="174"/>
                      </a:lnTo>
                      <a:lnTo>
                        <a:pt x="74" y="137"/>
                      </a:lnTo>
                      <a:lnTo>
                        <a:pt x="85" y="100"/>
                      </a:lnTo>
                      <a:lnTo>
                        <a:pt x="96" y="61"/>
                      </a:lnTo>
                      <a:lnTo>
                        <a:pt x="118" y="18"/>
                      </a:lnTo>
                      <a:lnTo>
                        <a:pt x="14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7549560" y="5869440"/>
                <a:ext cx="244080" cy="639360"/>
                <a:chOff x="7549560" y="5869440"/>
                <a:chExt cx="244080" cy="6393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7631280" y="6024600"/>
                  <a:ext cx="119520" cy="273600"/>
                </a:xfrm>
                <a:custGeom>
                  <a:avLst/>
                  <a:gdLst/>
                  <a:ahLst/>
                  <a:rect l="l" t="t" r="r" b="b"/>
                  <a:pathLst>
                    <a:path w="207" h="606">
                      <a:moveTo>
                        <a:pt x="71" y="52"/>
                      </a:moveTo>
                      <a:lnTo>
                        <a:pt x="96" y="13"/>
                      </a:lnTo>
                      <a:lnTo>
                        <a:pt x="122" y="0"/>
                      </a:lnTo>
                      <a:lnTo>
                        <a:pt x="144" y="7"/>
                      </a:lnTo>
                      <a:lnTo>
                        <a:pt x="172" y="41"/>
                      </a:lnTo>
                      <a:lnTo>
                        <a:pt x="194" y="94"/>
                      </a:lnTo>
                      <a:lnTo>
                        <a:pt x="207" y="163"/>
                      </a:lnTo>
                      <a:lnTo>
                        <a:pt x="207" y="261"/>
                      </a:lnTo>
                      <a:lnTo>
                        <a:pt x="196" y="374"/>
                      </a:lnTo>
                      <a:lnTo>
                        <a:pt x="188" y="489"/>
                      </a:lnTo>
                      <a:lnTo>
                        <a:pt x="172" y="545"/>
                      </a:lnTo>
                      <a:lnTo>
                        <a:pt x="155" y="574"/>
                      </a:lnTo>
                      <a:lnTo>
                        <a:pt x="135" y="595"/>
                      </a:lnTo>
                      <a:lnTo>
                        <a:pt x="107" y="606"/>
                      </a:lnTo>
                      <a:lnTo>
                        <a:pt x="57" y="606"/>
                      </a:lnTo>
                      <a:lnTo>
                        <a:pt x="28" y="595"/>
                      </a:lnTo>
                      <a:lnTo>
                        <a:pt x="4" y="545"/>
                      </a:lnTo>
                      <a:lnTo>
                        <a:pt x="0" y="474"/>
                      </a:lnTo>
                      <a:lnTo>
                        <a:pt x="0" y="385"/>
                      </a:lnTo>
                      <a:lnTo>
                        <a:pt x="11" y="267"/>
                      </a:lnTo>
                      <a:lnTo>
                        <a:pt x="26" y="172"/>
                      </a:lnTo>
                      <a:lnTo>
                        <a:pt x="49" y="89"/>
                      </a:lnTo>
                      <a:lnTo>
                        <a:pt x="71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578360" y="6027480"/>
                  <a:ext cx="110520" cy="240120"/>
                </a:xfrm>
                <a:custGeom>
                  <a:avLst/>
                  <a:gdLst/>
                  <a:ahLst/>
                  <a:rect l="l" t="t" r="r" b="b"/>
                  <a:pathLst>
                    <a:path w="192" h="532">
                      <a:moveTo>
                        <a:pt x="101" y="43"/>
                      </a:moveTo>
                      <a:lnTo>
                        <a:pt x="132" y="0"/>
                      </a:lnTo>
                      <a:lnTo>
                        <a:pt x="172" y="0"/>
                      </a:lnTo>
                      <a:lnTo>
                        <a:pt x="192" y="33"/>
                      </a:lnTo>
                      <a:lnTo>
                        <a:pt x="183" y="69"/>
                      </a:lnTo>
                      <a:lnTo>
                        <a:pt x="159" y="76"/>
                      </a:lnTo>
                      <a:lnTo>
                        <a:pt x="128" y="94"/>
                      </a:lnTo>
                      <a:lnTo>
                        <a:pt x="102" y="124"/>
                      </a:lnTo>
                      <a:lnTo>
                        <a:pt x="84" y="157"/>
                      </a:lnTo>
                      <a:lnTo>
                        <a:pt x="62" y="217"/>
                      </a:lnTo>
                      <a:lnTo>
                        <a:pt x="36" y="293"/>
                      </a:lnTo>
                      <a:lnTo>
                        <a:pt x="28" y="374"/>
                      </a:lnTo>
                      <a:lnTo>
                        <a:pt x="39" y="428"/>
                      </a:lnTo>
                      <a:lnTo>
                        <a:pt x="45" y="467"/>
                      </a:lnTo>
                      <a:lnTo>
                        <a:pt x="58" y="495"/>
                      </a:lnTo>
                      <a:lnTo>
                        <a:pt x="54" y="523"/>
                      </a:lnTo>
                      <a:lnTo>
                        <a:pt x="34" y="532"/>
                      </a:lnTo>
                      <a:lnTo>
                        <a:pt x="17" y="510"/>
                      </a:lnTo>
                      <a:lnTo>
                        <a:pt x="0" y="478"/>
                      </a:lnTo>
                      <a:lnTo>
                        <a:pt x="6" y="452"/>
                      </a:lnTo>
                      <a:lnTo>
                        <a:pt x="10" y="369"/>
                      </a:lnTo>
                      <a:lnTo>
                        <a:pt x="10" y="308"/>
                      </a:lnTo>
                      <a:lnTo>
                        <a:pt x="19" y="245"/>
                      </a:lnTo>
                      <a:lnTo>
                        <a:pt x="39" y="159"/>
                      </a:lnTo>
                      <a:lnTo>
                        <a:pt x="73" y="93"/>
                      </a:lnTo>
                      <a:lnTo>
                        <a:pt x="10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549560" y="6240240"/>
                  <a:ext cx="123480" cy="246960"/>
                </a:xfrm>
                <a:custGeom>
                  <a:avLst/>
                  <a:gdLst/>
                  <a:ahLst/>
                  <a:rect l="l" t="t" r="r" b="b"/>
                  <a:pathLst>
                    <a:path w="214" h="547">
                      <a:moveTo>
                        <a:pt x="180" y="0"/>
                      </a:moveTo>
                      <a:lnTo>
                        <a:pt x="214" y="28"/>
                      </a:lnTo>
                      <a:lnTo>
                        <a:pt x="213" y="75"/>
                      </a:lnTo>
                      <a:lnTo>
                        <a:pt x="198" y="117"/>
                      </a:lnTo>
                      <a:lnTo>
                        <a:pt x="178" y="197"/>
                      </a:lnTo>
                      <a:lnTo>
                        <a:pt x="163" y="279"/>
                      </a:lnTo>
                      <a:lnTo>
                        <a:pt x="163" y="342"/>
                      </a:lnTo>
                      <a:lnTo>
                        <a:pt x="169" y="425"/>
                      </a:lnTo>
                      <a:lnTo>
                        <a:pt x="180" y="473"/>
                      </a:lnTo>
                      <a:lnTo>
                        <a:pt x="198" y="496"/>
                      </a:lnTo>
                      <a:lnTo>
                        <a:pt x="198" y="525"/>
                      </a:lnTo>
                      <a:lnTo>
                        <a:pt x="169" y="531"/>
                      </a:lnTo>
                      <a:lnTo>
                        <a:pt x="130" y="542"/>
                      </a:lnTo>
                      <a:lnTo>
                        <a:pt x="80" y="547"/>
                      </a:lnTo>
                      <a:lnTo>
                        <a:pt x="19" y="547"/>
                      </a:lnTo>
                      <a:lnTo>
                        <a:pt x="0" y="531"/>
                      </a:lnTo>
                      <a:lnTo>
                        <a:pt x="13" y="512"/>
                      </a:lnTo>
                      <a:lnTo>
                        <a:pt x="67" y="514"/>
                      </a:lnTo>
                      <a:lnTo>
                        <a:pt x="102" y="514"/>
                      </a:lnTo>
                      <a:lnTo>
                        <a:pt x="147" y="507"/>
                      </a:lnTo>
                      <a:lnTo>
                        <a:pt x="158" y="492"/>
                      </a:lnTo>
                      <a:lnTo>
                        <a:pt x="152" y="453"/>
                      </a:lnTo>
                      <a:lnTo>
                        <a:pt x="136" y="379"/>
                      </a:lnTo>
                      <a:lnTo>
                        <a:pt x="136" y="303"/>
                      </a:lnTo>
                      <a:lnTo>
                        <a:pt x="141" y="208"/>
                      </a:lnTo>
                      <a:lnTo>
                        <a:pt x="147" y="112"/>
                      </a:lnTo>
                      <a:lnTo>
                        <a:pt x="162" y="39"/>
                      </a:lnTo>
                      <a:lnTo>
                        <a:pt x="175" y="13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653240" y="6246000"/>
                  <a:ext cx="86040" cy="262800"/>
                </a:xfrm>
                <a:custGeom>
                  <a:avLst/>
                  <a:gdLst/>
                  <a:ahLst/>
                  <a:rect l="l" t="t" r="r" b="b"/>
                  <a:pathLst>
                    <a:path w="149" h="582">
                      <a:moveTo>
                        <a:pt x="101" y="11"/>
                      </a:moveTo>
                      <a:lnTo>
                        <a:pt x="68" y="0"/>
                      </a:lnTo>
                      <a:lnTo>
                        <a:pt x="49" y="26"/>
                      </a:lnTo>
                      <a:lnTo>
                        <a:pt x="45" y="67"/>
                      </a:lnTo>
                      <a:lnTo>
                        <a:pt x="57" y="104"/>
                      </a:lnTo>
                      <a:lnTo>
                        <a:pt x="73" y="143"/>
                      </a:lnTo>
                      <a:lnTo>
                        <a:pt x="88" y="204"/>
                      </a:lnTo>
                      <a:lnTo>
                        <a:pt x="90" y="265"/>
                      </a:lnTo>
                      <a:lnTo>
                        <a:pt x="90" y="328"/>
                      </a:lnTo>
                      <a:lnTo>
                        <a:pt x="94" y="460"/>
                      </a:lnTo>
                      <a:lnTo>
                        <a:pt x="99" y="495"/>
                      </a:lnTo>
                      <a:lnTo>
                        <a:pt x="51" y="515"/>
                      </a:lnTo>
                      <a:lnTo>
                        <a:pt x="16" y="550"/>
                      </a:lnTo>
                      <a:lnTo>
                        <a:pt x="0" y="565"/>
                      </a:lnTo>
                      <a:lnTo>
                        <a:pt x="10" y="576"/>
                      </a:lnTo>
                      <a:lnTo>
                        <a:pt x="57" y="582"/>
                      </a:lnTo>
                      <a:lnTo>
                        <a:pt x="68" y="549"/>
                      </a:lnTo>
                      <a:lnTo>
                        <a:pt x="106" y="517"/>
                      </a:lnTo>
                      <a:lnTo>
                        <a:pt x="140" y="499"/>
                      </a:lnTo>
                      <a:lnTo>
                        <a:pt x="149" y="484"/>
                      </a:lnTo>
                      <a:lnTo>
                        <a:pt x="134" y="471"/>
                      </a:lnTo>
                      <a:lnTo>
                        <a:pt x="121" y="445"/>
                      </a:lnTo>
                      <a:lnTo>
                        <a:pt x="121" y="384"/>
                      </a:lnTo>
                      <a:lnTo>
                        <a:pt x="116" y="272"/>
                      </a:lnTo>
                      <a:lnTo>
                        <a:pt x="112" y="183"/>
                      </a:lnTo>
                      <a:lnTo>
                        <a:pt x="112" y="111"/>
                      </a:lnTo>
                      <a:lnTo>
                        <a:pt x="112" y="43"/>
                      </a:lnTo>
                      <a:lnTo>
                        <a:pt x="10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629120" y="5869440"/>
                  <a:ext cx="164520" cy="145440"/>
                </a:xfrm>
                <a:custGeom>
                  <a:avLst/>
                  <a:gdLst/>
                  <a:ahLst/>
                  <a:rect l="l" t="t" r="r" b="b"/>
                  <a:pathLst>
                    <a:path w="285" h="322">
                      <a:moveTo>
                        <a:pt x="266" y="183"/>
                      </a:moveTo>
                      <a:lnTo>
                        <a:pt x="275" y="146"/>
                      </a:lnTo>
                      <a:lnTo>
                        <a:pt x="285" y="94"/>
                      </a:lnTo>
                      <a:lnTo>
                        <a:pt x="262" y="44"/>
                      </a:lnTo>
                      <a:lnTo>
                        <a:pt x="217" y="0"/>
                      </a:lnTo>
                      <a:lnTo>
                        <a:pt x="179" y="4"/>
                      </a:lnTo>
                      <a:lnTo>
                        <a:pt x="147" y="28"/>
                      </a:lnTo>
                      <a:lnTo>
                        <a:pt x="108" y="75"/>
                      </a:lnTo>
                      <a:lnTo>
                        <a:pt x="86" y="127"/>
                      </a:lnTo>
                      <a:lnTo>
                        <a:pt x="60" y="145"/>
                      </a:lnTo>
                      <a:lnTo>
                        <a:pt x="18" y="158"/>
                      </a:lnTo>
                      <a:lnTo>
                        <a:pt x="0" y="179"/>
                      </a:lnTo>
                      <a:lnTo>
                        <a:pt x="9" y="189"/>
                      </a:lnTo>
                      <a:lnTo>
                        <a:pt x="49" y="177"/>
                      </a:lnTo>
                      <a:lnTo>
                        <a:pt x="72" y="176"/>
                      </a:lnTo>
                      <a:lnTo>
                        <a:pt x="68" y="224"/>
                      </a:lnTo>
                      <a:lnTo>
                        <a:pt x="76" y="274"/>
                      </a:lnTo>
                      <a:lnTo>
                        <a:pt x="92" y="303"/>
                      </a:lnTo>
                      <a:lnTo>
                        <a:pt x="115" y="322"/>
                      </a:lnTo>
                      <a:lnTo>
                        <a:pt x="170" y="306"/>
                      </a:lnTo>
                      <a:lnTo>
                        <a:pt x="221" y="274"/>
                      </a:lnTo>
                      <a:lnTo>
                        <a:pt x="250" y="233"/>
                      </a:lnTo>
                      <a:lnTo>
                        <a:pt x="266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7232400" y="5838840"/>
                <a:ext cx="202680" cy="657360"/>
                <a:chOff x="7232400" y="5838840"/>
                <a:chExt cx="202680" cy="6573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7314840" y="5990040"/>
                  <a:ext cx="119520" cy="286200"/>
                </a:xfrm>
                <a:custGeom>
                  <a:avLst/>
                  <a:gdLst/>
                  <a:ahLst/>
                  <a:rect l="l" t="t" r="r" b="b"/>
                  <a:pathLst>
                    <a:path w="207" h="634">
                      <a:moveTo>
                        <a:pt x="34" y="48"/>
                      </a:moveTo>
                      <a:lnTo>
                        <a:pt x="50" y="17"/>
                      </a:lnTo>
                      <a:lnTo>
                        <a:pt x="78" y="0"/>
                      </a:lnTo>
                      <a:lnTo>
                        <a:pt x="108" y="0"/>
                      </a:lnTo>
                      <a:lnTo>
                        <a:pt x="161" y="11"/>
                      </a:lnTo>
                      <a:lnTo>
                        <a:pt x="174" y="61"/>
                      </a:lnTo>
                      <a:lnTo>
                        <a:pt x="195" y="165"/>
                      </a:lnTo>
                      <a:lnTo>
                        <a:pt x="202" y="250"/>
                      </a:lnTo>
                      <a:lnTo>
                        <a:pt x="207" y="334"/>
                      </a:lnTo>
                      <a:lnTo>
                        <a:pt x="207" y="456"/>
                      </a:lnTo>
                      <a:lnTo>
                        <a:pt x="195" y="567"/>
                      </a:lnTo>
                      <a:lnTo>
                        <a:pt x="172" y="628"/>
                      </a:lnTo>
                      <a:lnTo>
                        <a:pt x="134" y="634"/>
                      </a:lnTo>
                      <a:lnTo>
                        <a:pt x="52" y="634"/>
                      </a:lnTo>
                      <a:lnTo>
                        <a:pt x="13" y="601"/>
                      </a:lnTo>
                      <a:lnTo>
                        <a:pt x="0" y="523"/>
                      </a:lnTo>
                      <a:lnTo>
                        <a:pt x="6" y="421"/>
                      </a:lnTo>
                      <a:lnTo>
                        <a:pt x="13" y="339"/>
                      </a:lnTo>
                      <a:lnTo>
                        <a:pt x="36" y="289"/>
                      </a:lnTo>
                      <a:lnTo>
                        <a:pt x="36" y="217"/>
                      </a:lnTo>
                      <a:lnTo>
                        <a:pt x="36" y="139"/>
                      </a:lnTo>
                      <a:lnTo>
                        <a:pt x="30" y="82"/>
                      </a:lnTo>
                      <a:lnTo>
                        <a:pt x="34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306920" y="6233040"/>
                  <a:ext cx="128160" cy="263160"/>
                </a:xfrm>
                <a:custGeom>
                  <a:avLst/>
                  <a:gdLst/>
                  <a:ahLst/>
                  <a:rect l="l" t="t" r="r" b="b"/>
                  <a:pathLst>
                    <a:path w="222" h="583">
                      <a:moveTo>
                        <a:pt x="139" y="0"/>
                      </a:moveTo>
                      <a:lnTo>
                        <a:pt x="172" y="23"/>
                      </a:lnTo>
                      <a:lnTo>
                        <a:pt x="183" y="58"/>
                      </a:lnTo>
                      <a:lnTo>
                        <a:pt x="187" y="139"/>
                      </a:lnTo>
                      <a:lnTo>
                        <a:pt x="194" y="217"/>
                      </a:lnTo>
                      <a:lnTo>
                        <a:pt x="203" y="308"/>
                      </a:lnTo>
                      <a:lnTo>
                        <a:pt x="209" y="400"/>
                      </a:lnTo>
                      <a:lnTo>
                        <a:pt x="211" y="461"/>
                      </a:lnTo>
                      <a:lnTo>
                        <a:pt x="220" y="495"/>
                      </a:lnTo>
                      <a:lnTo>
                        <a:pt x="222" y="511"/>
                      </a:lnTo>
                      <a:lnTo>
                        <a:pt x="209" y="524"/>
                      </a:lnTo>
                      <a:lnTo>
                        <a:pt x="178" y="530"/>
                      </a:lnTo>
                      <a:lnTo>
                        <a:pt x="128" y="541"/>
                      </a:lnTo>
                      <a:lnTo>
                        <a:pt x="78" y="567"/>
                      </a:lnTo>
                      <a:lnTo>
                        <a:pt x="39" y="583"/>
                      </a:lnTo>
                      <a:lnTo>
                        <a:pt x="17" y="572"/>
                      </a:lnTo>
                      <a:lnTo>
                        <a:pt x="0" y="545"/>
                      </a:lnTo>
                      <a:lnTo>
                        <a:pt x="20" y="530"/>
                      </a:lnTo>
                      <a:lnTo>
                        <a:pt x="81" y="519"/>
                      </a:lnTo>
                      <a:lnTo>
                        <a:pt x="150" y="511"/>
                      </a:lnTo>
                      <a:lnTo>
                        <a:pt x="181" y="511"/>
                      </a:lnTo>
                      <a:lnTo>
                        <a:pt x="189" y="491"/>
                      </a:lnTo>
                      <a:lnTo>
                        <a:pt x="187" y="434"/>
                      </a:lnTo>
                      <a:lnTo>
                        <a:pt x="178" y="345"/>
                      </a:lnTo>
                      <a:lnTo>
                        <a:pt x="165" y="252"/>
                      </a:lnTo>
                      <a:lnTo>
                        <a:pt x="154" y="158"/>
                      </a:lnTo>
                      <a:lnTo>
                        <a:pt x="122" y="86"/>
                      </a:lnTo>
                      <a:lnTo>
                        <a:pt x="105" y="30"/>
                      </a:lnTo>
                      <a:lnTo>
                        <a:pt x="117" y="12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232400" y="6239160"/>
                  <a:ext cx="131760" cy="232920"/>
                </a:xfrm>
                <a:custGeom>
                  <a:avLst/>
                  <a:gdLst/>
                  <a:ahLst/>
                  <a:rect l="l" t="t" r="r" b="b"/>
                  <a:pathLst>
                    <a:path w="228" h="516">
                      <a:moveTo>
                        <a:pt x="145" y="109"/>
                      </a:moveTo>
                      <a:lnTo>
                        <a:pt x="156" y="44"/>
                      </a:lnTo>
                      <a:lnTo>
                        <a:pt x="191" y="0"/>
                      </a:lnTo>
                      <a:lnTo>
                        <a:pt x="211" y="11"/>
                      </a:lnTo>
                      <a:lnTo>
                        <a:pt x="228" y="39"/>
                      </a:lnTo>
                      <a:lnTo>
                        <a:pt x="219" y="70"/>
                      </a:lnTo>
                      <a:lnTo>
                        <a:pt x="202" y="87"/>
                      </a:lnTo>
                      <a:lnTo>
                        <a:pt x="185" y="142"/>
                      </a:lnTo>
                      <a:lnTo>
                        <a:pt x="178" y="194"/>
                      </a:lnTo>
                      <a:lnTo>
                        <a:pt x="178" y="264"/>
                      </a:lnTo>
                      <a:lnTo>
                        <a:pt x="174" y="325"/>
                      </a:lnTo>
                      <a:lnTo>
                        <a:pt x="178" y="403"/>
                      </a:lnTo>
                      <a:lnTo>
                        <a:pt x="185" y="447"/>
                      </a:lnTo>
                      <a:lnTo>
                        <a:pt x="189" y="466"/>
                      </a:lnTo>
                      <a:lnTo>
                        <a:pt x="180" y="477"/>
                      </a:lnTo>
                      <a:lnTo>
                        <a:pt x="152" y="481"/>
                      </a:lnTo>
                      <a:lnTo>
                        <a:pt x="102" y="488"/>
                      </a:lnTo>
                      <a:lnTo>
                        <a:pt x="57" y="510"/>
                      </a:lnTo>
                      <a:lnTo>
                        <a:pt x="35" y="516"/>
                      </a:lnTo>
                      <a:lnTo>
                        <a:pt x="0" y="494"/>
                      </a:lnTo>
                      <a:lnTo>
                        <a:pt x="0" y="483"/>
                      </a:lnTo>
                      <a:lnTo>
                        <a:pt x="33" y="477"/>
                      </a:lnTo>
                      <a:lnTo>
                        <a:pt x="119" y="466"/>
                      </a:lnTo>
                      <a:lnTo>
                        <a:pt x="156" y="466"/>
                      </a:lnTo>
                      <a:lnTo>
                        <a:pt x="163" y="449"/>
                      </a:lnTo>
                      <a:lnTo>
                        <a:pt x="161" y="403"/>
                      </a:lnTo>
                      <a:lnTo>
                        <a:pt x="156" y="320"/>
                      </a:lnTo>
                      <a:lnTo>
                        <a:pt x="152" y="242"/>
                      </a:lnTo>
                      <a:lnTo>
                        <a:pt x="150" y="161"/>
                      </a:lnTo>
                      <a:lnTo>
                        <a:pt x="14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264080" y="6000840"/>
                  <a:ext cx="87480" cy="257400"/>
                </a:xfrm>
                <a:custGeom>
                  <a:avLst/>
                  <a:gdLst/>
                  <a:ahLst/>
                  <a:rect l="l" t="t" r="r" b="b"/>
                  <a:pathLst>
                    <a:path w="152" h="570">
                      <a:moveTo>
                        <a:pt x="63" y="52"/>
                      </a:moveTo>
                      <a:lnTo>
                        <a:pt x="89" y="4"/>
                      </a:lnTo>
                      <a:lnTo>
                        <a:pt x="128" y="0"/>
                      </a:lnTo>
                      <a:lnTo>
                        <a:pt x="152" y="33"/>
                      </a:lnTo>
                      <a:lnTo>
                        <a:pt x="146" y="70"/>
                      </a:lnTo>
                      <a:lnTo>
                        <a:pt x="122" y="82"/>
                      </a:lnTo>
                      <a:lnTo>
                        <a:pt x="95" y="103"/>
                      </a:lnTo>
                      <a:lnTo>
                        <a:pt x="72" y="138"/>
                      </a:lnTo>
                      <a:lnTo>
                        <a:pt x="57" y="175"/>
                      </a:lnTo>
                      <a:lnTo>
                        <a:pt x="41" y="239"/>
                      </a:lnTo>
                      <a:lnTo>
                        <a:pt x="24" y="321"/>
                      </a:lnTo>
                      <a:lnTo>
                        <a:pt x="24" y="407"/>
                      </a:lnTo>
                      <a:lnTo>
                        <a:pt x="41" y="461"/>
                      </a:lnTo>
                      <a:lnTo>
                        <a:pt x="52" y="502"/>
                      </a:lnTo>
                      <a:lnTo>
                        <a:pt x="67" y="529"/>
                      </a:lnTo>
                      <a:lnTo>
                        <a:pt x="67" y="558"/>
                      </a:lnTo>
                      <a:lnTo>
                        <a:pt x="46" y="570"/>
                      </a:lnTo>
                      <a:lnTo>
                        <a:pt x="28" y="549"/>
                      </a:lnTo>
                      <a:lnTo>
                        <a:pt x="7" y="519"/>
                      </a:lnTo>
                      <a:lnTo>
                        <a:pt x="11" y="490"/>
                      </a:lnTo>
                      <a:lnTo>
                        <a:pt x="6" y="403"/>
                      </a:lnTo>
                      <a:lnTo>
                        <a:pt x="0" y="338"/>
                      </a:lnTo>
                      <a:lnTo>
                        <a:pt x="2" y="272"/>
                      </a:lnTo>
                      <a:lnTo>
                        <a:pt x="13" y="181"/>
                      </a:lnTo>
                      <a:lnTo>
                        <a:pt x="39" y="109"/>
                      </a:lnTo>
                      <a:lnTo>
                        <a:pt x="63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239600" y="5838840"/>
                  <a:ext cx="164160" cy="14112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72" y="152"/>
                      </a:moveTo>
                      <a:lnTo>
                        <a:pt x="67" y="108"/>
                      </a:lnTo>
                      <a:lnTo>
                        <a:pt x="67" y="63"/>
                      </a:lnTo>
                      <a:lnTo>
                        <a:pt x="78" y="30"/>
                      </a:lnTo>
                      <a:lnTo>
                        <a:pt x="100" y="12"/>
                      </a:lnTo>
                      <a:lnTo>
                        <a:pt x="145" y="0"/>
                      </a:lnTo>
                      <a:lnTo>
                        <a:pt x="178" y="2"/>
                      </a:lnTo>
                      <a:lnTo>
                        <a:pt x="213" y="17"/>
                      </a:lnTo>
                      <a:lnTo>
                        <a:pt x="241" y="52"/>
                      </a:lnTo>
                      <a:lnTo>
                        <a:pt x="262" y="91"/>
                      </a:lnTo>
                      <a:lnTo>
                        <a:pt x="275" y="145"/>
                      </a:lnTo>
                      <a:lnTo>
                        <a:pt x="284" y="197"/>
                      </a:lnTo>
                      <a:lnTo>
                        <a:pt x="284" y="236"/>
                      </a:lnTo>
                      <a:lnTo>
                        <a:pt x="273" y="278"/>
                      </a:lnTo>
                      <a:lnTo>
                        <a:pt x="247" y="302"/>
                      </a:lnTo>
                      <a:lnTo>
                        <a:pt x="208" y="313"/>
                      </a:lnTo>
                      <a:lnTo>
                        <a:pt x="184" y="312"/>
                      </a:lnTo>
                      <a:lnTo>
                        <a:pt x="156" y="295"/>
                      </a:lnTo>
                      <a:lnTo>
                        <a:pt x="128" y="258"/>
                      </a:lnTo>
                      <a:lnTo>
                        <a:pt x="106" y="223"/>
                      </a:lnTo>
                      <a:lnTo>
                        <a:pt x="35" y="245"/>
                      </a:lnTo>
                      <a:lnTo>
                        <a:pt x="13" y="252"/>
                      </a:lnTo>
                      <a:lnTo>
                        <a:pt x="0" y="247"/>
                      </a:lnTo>
                      <a:lnTo>
                        <a:pt x="2" y="234"/>
                      </a:lnTo>
                      <a:lnTo>
                        <a:pt x="85" y="197"/>
                      </a:lnTo>
                      <a:lnTo>
                        <a:pt x="72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6702480" y="6001560"/>
              <a:ext cx="1983600" cy="442080"/>
              <a:chOff x="6702480" y="6001560"/>
              <a:chExt cx="1983600" cy="442080"/>
            </a:xfrm>
          </p:grpSpPr>
          <p:sp>
            <p:nvSpPr>
              <p:cNvPr id="633" name=""/>
              <p:cNvSpPr/>
              <p:nvPr/>
            </p:nvSpPr>
            <p:spPr>
              <a:xfrm>
                <a:off x="8227080" y="6018840"/>
                <a:ext cx="459000" cy="424800"/>
              </a:xfrm>
              <a:custGeom>
                <a:avLst/>
                <a:gdLst/>
                <a:ahLst/>
                <a:rect l="l" t="t" r="r" b="b"/>
                <a:pathLst>
                  <a:path w="795" h="941">
                    <a:moveTo>
                      <a:pt x="78" y="476"/>
                    </a:moveTo>
                    <a:lnTo>
                      <a:pt x="45" y="524"/>
                    </a:lnTo>
                    <a:lnTo>
                      <a:pt x="13" y="607"/>
                    </a:lnTo>
                    <a:lnTo>
                      <a:pt x="0" y="713"/>
                    </a:lnTo>
                    <a:lnTo>
                      <a:pt x="12" y="792"/>
                    </a:lnTo>
                    <a:lnTo>
                      <a:pt x="52" y="857"/>
                    </a:lnTo>
                    <a:lnTo>
                      <a:pt x="106" y="913"/>
                    </a:lnTo>
                    <a:lnTo>
                      <a:pt x="164" y="941"/>
                    </a:lnTo>
                    <a:lnTo>
                      <a:pt x="238" y="929"/>
                    </a:lnTo>
                    <a:lnTo>
                      <a:pt x="299" y="913"/>
                    </a:lnTo>
                    <a:lnTo>
                      <a:pt x="351" y="885"/>
                    </a:lnTo>
                    <a:lnTo>
                      <a:pt x="395" y="822"/>
                    </a:lnTo>
                    <a:lnTo>
                      <a:pt x="421" y="765"/>
                    </a:lnTo>
                    <a:lnTo>
                      <a:pt x="425" y="689"/>
                    </a:lnTo>
                    <a:lnTo>
                      <a:pt x="425" y="652"/>
                    </a:lnTo>
                    <a:lnTo>
                      <a:pt x="469" y="713"/>
                    </a:lnTo>
                    <a:lnTo>
                      <a:pt x="553" y="757"/>
                    </a:lnTo>
                    <a:lnTo>
                      <a:pt x="593" y="765"/>
                    </a:lnTo>
                    <a:lnTo>
                      <a:pt x="662" y="753"/>
                    </a:lnTo>
                    <a:lnTo>
                      <a:pt x="710" y="733"/>
                    </a:lnTo>
                    <a:lnTo>
                      <a:pt x="747" y="670"/>
                    </a:lnTo>
                    <a:lnTo>
                      <a:pt x="790" y="611"/>
                    </a:lnTo>
                    <a:lnTo>
                      <a:pt x="792" y="522"/>
                    </a:lnTo>
                    <a:lnTo>
                      <a:pt x="795" y="457"/>
                    </a:lnTo>
                    <a:lnTo>
                      <a:pt x="792" y="400"/>
                    </a:lnTo>
                    <a:lnTo>
                      <a:pt x="738" y="320"/>
                    </a:lnTo>
                    <a:lnTo>
                      <a:pt x="686" y="283"/>
                    </a:lnTo>
                    <a:lnTo>
                      <a:pt x="625" y="266"/>
                    </a:lnTo>
                    <a:lnTo>
                      <a:pt x="555" y="266"/>
                    </a:lnTo>
                    <a:lnTo>
                      <a:pt x="499" y="276"/>
                    </a:lnTo>
                    <a:lnTo>
                      <a:pt x="475" y="309"/>
                    </a:lnTo>
                    <a:lnTo>
                      <a:pt x="445" y="335"/>
                    </a:lnTo>
                    <a:lnTo>
                      <a:pt x="447" y="251"/>
                    </a:lnTo>
                    <a:lnTo>
                      <a:pt x="440" y="157"/>
                    </a:lnTo>
                    <a:lnTo>
                      <a:pt x="388" y="83"/>
                    </a:lnTo>
                    <a:lnTo>
                      <a:pt x="343" y="38"/>
                    </a:lnTo>
                    <a:lnTo>
                      <a:pt x="293" y="7"/>
                    </a:lnTo>
                    <a:lnTo>
                      <a:pt x="258" y="0"/>
                    </a:lnTo>
                    <a:lnTo>
                      <a:pt x="206" y="1"/>
                    </a:lnTo>
                    <a:lnTo>
                      <a:pt x="156" y="16"/>
                    </a:lnTo>
                    <a:lnTo>
                      <a:pt x="102" y="44"/>
                    </a:lnTo>
                    <a:lnTo>
                      <a:pt x="63" y="96"/>
                    </a:lnTo>
                    <a:lnTo>
                      <a:pt x="43" y="148"/>
                    </a:lnTo>
                    <a:lnTo>
                      <a:pt x="36" y="240"/>
                    </a:lnTo>
                    <a:lnTo>
                      <a:pt x="32" y="285"/>
                    </a:lnTo>
                    <a:lnTo>
                      <a:pt x="47" y="340"/>
                    </a:lnTo>
                    <a:lnTo>
                      <a:pt x="62" y="376"/>
                    </a:lnTo>
                    <a:lnTo>
                      <a:pt x="73" y="400"/>
                    </a:lnTo>
                    <a:lnTo>
                      <a:pt x="78" y="47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17000" y="6001560"/>
                <a:ext cx="459720" cy="423720"/>
              </a:xfrm>
              <a:custGeom>
                <a:avLst/>
                <a:gdLst/>
                <a:ahLst/>
                <a:rect l="l" t="t" r="r" b="b"/>
                <a:pathLst>
                  <a:path w="796" h="938">
                    <a:moveTo>
                      <a:pt x="74" y="475"/>
                    </a:moveTo>
                    <a:lnTo>
                      <a:pt x="48" y="528"/>
                    </a:lnTo>
                    <a:lnTo>
                      <a:pt x="13" y="604"/>
                    </a:lnTo>
                    <a:lnTo>
                      <a:pt x="0" y="708"/>
                    </a:lnTo>
                    <a:lnTo>
                      <a:pt x="17" y="797"/>
                    </a:lnTo>
                    <a:lnTo>
                      <a:pt x="48" y="855"/>
                    </a:lnTo>
                    <a:lnTo>
                      <a:pt x="111" y="914"/>
                    </a:lnTo>
                    <a:lnTo>
                      <a:pt x="165" y="938"/>
                    </a:lnTo>
                    <a:lnTo>
                      <a:pt x="233" y="929"/>
                    </a:lnTo>
                    <a:lnTo>
                      <a:pt x="302" y="918"/>
                    </a:lnTo>
                    <a:lnTo>
                      <a:pt x="354" y="882"/>
                    </a:lnTo>
                    <a:lnTo>
                      <a:pt x="389" y="821"/>
                    </a:lnTo>
                    <a:lnTo>
                      <a:pt x="422" y="764"/>
                    </a:lnTo>
                    <a:lnTo>
                      <a:pt x="420" y="686"/>
                    </a:lnTo>
                    <a:lnTo>
                      <a:pt x="428" y="653"/>
                    </a:lnTo>
                    <a:lnTo>
                      <a:pt x="466" y="712"/>
                    </a:lnTo>
                    <a:lnTo>
                      <a:pt x="555" y="762"/>
                    </a:lnTo>
                    <a:lnTo>
                      <a:pt x="591" y="762"/>
                    </a:lnTo>
                    <a:lnTo>
                      <a:pt x="663" y="751"/>
                    </a:lnTo>
                    <a:lnTo>
                      <a:pt x="705" y="732"/>
                    </a:lnTo>
                    <a:lnTo>
                      <a:pt x="748" y="665"/>
                    </a:lnTo>
                    <a:lnTo>
                      <a:pt x="787" y="610"/>
                    </a:lnTo>
                    <a:lnTo>
                      <a:pt x="794" y="519"/>
                    </a:lnTo>
                    <a:lnTo>
                      <a:pt x="796" y="462"/>
                    </a:lnTo>
                    <a:lnTo>
                      <a:pt x="787" y="399"/>
                    </a:lnTo>
                    <a:lnTo>
                      <a:pt x="733" y="319"/>
                    </a:lnTo>
                    <a:lnTo>
                      <a:pt x="687" y="280"/>
                    </a:lnTo>
                    <a:lnTo>
                      <a:pt x="622" y="273"/>
                    </a:lnTo>
                    <a:lnTo>
                      <a:pt x="557" y="263"/>
                    </a:lnTo>
                    <a:lnTo>
                      <a:pt x="494" y="273"/>
                    </a:lnTo>
                    <a:lnTo>
                      <a:pt x="476" y="308"/>
                    </a:lnTo>
                    <a:lnTo>
                      <a:pt x="441" y="332"/>
                    </a:lnTo>
                    <a:lnTo>
                      <a:pt x="444" y="248"/>
                    </a:lnTo>
                    <a:lnTo>
                      <a:pt x="435" y="154"/>
                    </a:lnTo>
                    <a:lnTo>
                      <a:pt x="387" y="78"/>
                    </a:lnTo>
                    <a:lnTo>
                      <a:pt x="346" y="35"/>
                    </a:lnTo>
                    <a:lnTo>
                      <a:pt x="296" y="6"/>
                    </a:lnTo>
                    <a:lnTo>
                      <a:pt x="255" y="4"/>
                    </a:lnTo>
                    <a:lnTo>
                      <a:pt x="202" y="0"/>
                    </a:lnTo>
                    <a:lnTo>
                      <a:pt x="159" y="13"/>
                    </a:lnTo>
                    <a:lnTo>
                      <a:pt x="104" y="41"/>
                    </a:lnTo>
                    <a:lnTo>
                      <a:pt x="67" y="91"/>
                    </a:lnTo>
                    <a:lnTo>
                      <a:pt x="46" y="146"/>
                    </a:lnTo>
                    <a:lnTo>
                      <a:pt x="31" y="245"/>
                    </a:lnTo>
                    <a:lnTo>
                      <a:pt x="26" y="284"/>
                    </a:lnTo>
                    <a:lnTo>
                      <a:pt x="41" y="339"/>
                    </a:lnTo>
                    <a:lnTo>
                      <a:pt x="67" y="378"/>
                    </a:lnTo>
                    <a:lnTo>
                      <a:pt x="74" y="399"/>
                    </a:lnTo>
                    <a:lnTo>
                      <a:pt x="74" y="47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702480" y="6069600"/>
                <a:ext cx="1657440" cy="183240"/>
              </a:xfrm>
              <a:custGeom>
                <a:avLst/>
                <a:gdLst/>
                <a:ahLst/>
                <a:rect l="l" t="t" r="r" b="b"/>
                <a:pathLst>
                  <a:path w="2870" h="406">
                    <a:moveTo>
                      <a:pt x="2869" y="328"/>
                    </a:moveTo>
                    <a:lnTo>
                      <a:pt x="2870" y="313"/>
                    </a:lnTo>
                    <a:lnTo>
                      <a:pt x="2867" y="299"/>
                    </a:lnTo>
                    <a:lnTo>
                      <a:pt x="2862" y="286"/>
                    </a:lnTo>
                    <a:lnTo>
                      <a:pt x="2854" y="272"/>
                    </a:lnTo>
                    <a:lnTo>
                      <a:pt x="2845" y="261"/>
                    </a:lnTo>
                    <a:lnTo>
                      <a:pt x="2833" y="251"/>
                    </a:lnTo>
                    <a:lnTo>
                      <a:pt x="2821" y="244"/>
                    </a:lnTo>
                    <a:lnTo>
                      <a:pt x="2807" y="239"/>
                    </a:lnTo>
                    <a:lnTo>
                      <a:pt x="2792" y="236"/>
                    </a:lnTo>
                    <a:lnTo>
                      <a:pt x="93" y="0"/>
                    </a:lnTo>
                    <a:lnTo>
                      <a:pt x="78" y="0"/>
                    </a:lnTo>
                    <a:lnTo>
                      <a:pt x="63" y="3"/>
                    </a:lnTo>
                    <a:lnTo>
                      <a:pt x="50" y="8"/>
                    </a:lnTo>
                    <a:lnTo>
                      <a:pt x="36" y="15"/>
                    </a:lnTo>
                    <a:lnTo>
                      <a:pt x="25" y="24"/>
                    </a:lnTo>
                    <a:lnTo>
                      <a:pt x="15" y="37"/>
                    </a:lnTo>
                    <a:lnTo>
                      <a:pt x="8" y="49"/>
                    </a:lnTo>
                    <a:lnTo>
                      <a:pt x="3" y="63"/>
                    </a:lnTo>
                    <a:lnTo>
                      <a:pt x="1" y="78"/>
                    </a:lnTo>
                    <a:lnTo>
                      <a:pt x="1" y="78"/>
                    </a:lnTo>
                    <a:lnTo>
                      <a:pt x="0" y="93"/>
                    </a:lnTo>
                    <a:lnTo>
                      <a:pt x="3" y="107"/>
                    </a:lnTo>
                    <a:lnTo>
                      <a:pt x="8" y="120"/>
                    </a:lnTo>
                    <a:lnTo>
                      <a:pt x="16" y="134"/>
                    </a:lnTo>
                    <a:lnTo>
                      <a:pt x="25" y="145"/>
                    </a:lnTo>
                    <a:lnTo>
                      <a:pt x="37" y="155"/>
                    </a:lnTo>
                    <a:lnTo>
                      <a:pt x="49" y="162"/>
                    </a:lnTo>
                    <a:lnTo>
                      <a:pt x="63" y="167"/>
                    </a:lnTo>
                    <a:lnTo>
                      <a:pt x="78" y="170"/>
                    </a:lnTo>
                    <a:lnTo>
                      <a:pt x="2777" y="406"/>
                    </a:lnTo>
                    <a:lnTo>
                      <a:pt x="2792" y="406"/>
                    </a:lnTo>
                    <a:lnTo>
                      <a:pt x="2807" y="403"/>
                    </a:lnTo>
                    <a:lnTo>
                      <a:pt x="2820" y="398"/>
                    </a:lnTo>
                    <a:lnTo>
                      <a:pt x="2834" y="391"/>
                    </a:lnTo>
                    <a:lnTo>
                      <a:pt x="2845" y="381"/>
                    </a:lnTo>
                    <a:lnTo>
                      <a:pt x="2855" y="369"/>
                    </a:lnTo>
                    <a:lnTo>
                      <a:pt x="2862" y="357"/>
                    </a:lnTo>
                    <a:lnTo>
                      <a:pt x="2867" y="343"/>
                    </a:lnTo>
                    <a:lnTo>
                      <a:pt x="2869" y="3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505720" y="6184080"/>
                <a:ext cx="101520" cy="94680"/>
              </a:xfrm>
              <a:custGeom>
                <a:avLst/>
                <a:gdLst/>
                <a:ahLst/>
                <a:rect l="l" t="t" r="r" b="b"/>
                <a:pathLst>
                  <a:path w="176" h="210">
                    <a:moveTo>
                      <a:pt x="79" y="210"/>
                    </a:moveTo>
                    <a:lnTo>
                      <a:pt x="94" y="209"/>
                    </a:lnTo>
                    <a:lnTo>
                      <a:pt x="109" y="206"/>
                    </a:lnTo>
                    <a:lnTo>
                      <a:pt x="124" y="199"/>
                    </a:lnTo>
                    <a:lnTo>
                      <a:pt x="138" y="190"/>
                    </a:lnTo>
                    <a:lnTo>
                      <a:pt x="149" y="178"/>
                    </a:lnTo>
                    <a:lnTo>
                      <a:pt x="159" y="163"/>
                    </a:lnTo>
                    <a:lnTo>
                      <a:pt x="168" y="148"/>
                    </a:lnTo>
                    <a:lnTo>
                      <a:pt x="173" y="131"/>
                    </a:lnTo>
                    <a:lnTo>
                      <a:pt x="176" y="113"/>
                    </a:lnTo>
                    <a:lnTo>
                      <a:pt x="176" y="95"/>
                    </a:lnTo>
                    <a:lnTo>
                      <a:pt x="174" y="76"/>
                    </a:lnTo>
                    <a:lnTo>
                      <a:pt x="168" y="60"/>
                    </a:lnTo>
                    <a:lnTo>
                      <a:pt x="161" y="44"/>
                    </a:lnTo>
                    <a:lnTo>
                      <a:pt x="152" y="30"/>
                    </a:lnTo>
                    <a:lnTo>
                      <a:pt x="140" y="18"/>
                    </a:lnTo>
                    <a:lnTo>
                      <a:pt x="127" y="9"/>
                    </a:lnTo>
                    <a:lnTo>
                      <a:pt x="112" y="4"/>
                    </a:lnTo>
                    <a:lnTo>
                      <a:pt x="97" y="0"/>
                    </a:lnTo>
                    <a:lnTo>
                      <a:pt x="82" y="1"/>
                    </a:lnTo>
                    <a:lnTo>
                      <a:pt x="67" y="4"/>
                    </a:lnTo>
                    <a:lnTo>
                      <a:pt x="52" y="11"/>
                    </a:lnTo>
                    <a:lnTo>
                      <a:pt x="38" y="20"/>
                    </a:lnTo>
                    <a:lnTo>
                      <a:pt x="27" y="32"/>
                    </a:lnTo>
                    <a:lnTo>
                      <a:pt x="17" y="47"/>
                    </a:lnTo>
                    <a:lnTo>
                      <a:pt x="8" y="62"/>
                    </a:lnTo>
                    <a:lnTo>
                      <a:pt x="3" y="79"/>
                    </a:lnTo>
                    <a:lnTo>
                      <a:pt x="0" y="97"/>
                    </a:lnTo>
                    <a:lnTo>
                      <a:pt x="0" y="115"/>
                    </a:lnTo>
                    <a:lnTo>
                      <a:pt x="2" y="134"/>
                    </a:lnTo>
                    <a:lnTo>
                      <a:pt x="8" y="150"/>
                    </a:lnTo>
                    <a:lnTo>
                      <a:pt x="15" y="166"/>
                    </a:lnTo>
                    <a:lnTo>
                      <a:pt x="24" y="180"/>
                    </a:lnTo>
                    <a:lnTo>
                      <a:pt x="36" y="192"/>
                    </a:lnTo>
                    <a:lnTo>
                      <a:pt x="49" y="201"/>
                    </a:lnTo>
                    <a:lnTo>
                      <a:pt x="64" y="206"/>
                    </a:lnTo>
                    <a:lnTo>
                      <a:pt x="79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6814800" y="6126840"/>
                <a:ext cx="559080" cy="191520"/>
                <a:chOff x="6814800" y="6126840"/>
                <a:chExt cx="559080" cy="191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6814800" y="6126840"/>
                  <a:ext cx="105120" cy="140760"/>
                </a:xfrm>
                <a:custGeom>
                  <a:avLst/>
                  <a:gdLst/>
                  <a:ahLst/>
                  <a:rect l="l" t="t" r="r" b="b"/>
                  <a:pathLst>
                    <a:path w="182" h="312">
                      <a:moveTo>
                        <a:pt x="182" y="13"/>
                      </a:moveTo>
                      <a:lnTo>
                        <a:pt x="26" y="0"/>
                      </a:lnTo>
                      <a:lnTo>
                        <a:pt x="0" y="299"/>
                      </a:lnTo>
                      <a:lnTo>
                        <a:pt x="156" y="312"/>
                      </a:lnTo>
                      <a:lnTo>
                        <a:pt x="182" y="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994800" y="6144120"/>
                  <a:ext cx="111960" cy="103320"/>
                </a:xfrm>
                <a:custGeom>
                  <a:avLst/>
                  <a:gdLst/>
                  <a:ahLst/>
                  <a:rect l="l" t="t" r="r" b="b"/>
                  <a:pathLst>
                    <a:path w="194" h="229">
                      <a:moveTo>
                        <a:pt x="194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75" y="229"/>
                      </a:lnTo>
                      <a:lnTo>
                        <a:pt x="194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168680" y="6158880"/>
                  <a:ext cx="113760" cy="159480"/>
                </a:xfrm>
                <a:custGeom>
                  <a:avLst/>
                  <a:gdLst/>
                  <a:ahLst/>
                  <a:rect l="l" t="t" r="r" b="b"/>
                  <a:pathLst>
                    <a:path w="197" h="353">
                      <a:moveTo>
                        <a:pt x="197" y="15"/>
                      </a:moveTo>
                      <a:lnTo>
                        <a:pt x="29" y="0"/>
                      </a:lnTo>
                      <a:lnTo>
                        <a:pt x="0" y="338"/>
                      </a:lnTo>
                      <a:lnTo>
                        <a:pt x="168" y="353"/>
                      </a:lnTo>
                      <a:lnTo>
                        <a:pt x="19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266240" y="6167520"/>
                  <a:ext cx="107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212">
                      <a:moveTo>
                        <a:pt x="187" y="15"/>
                      </a:moveTo>
                      <a:lnTo>
                        <a:pt x="17" y="0"/>
                      </a:lnTo>
                      <a:lnTo>
                        <a:pt x="0" y="197"/>
                      </a:lnTo>
                      <a:lnTo>
                        <a:pt x="170" y="212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6792480" y="6105240"/>
                <a:ext cx="559080" cy="194040"/>
                <a:chOff x="6792480" y="6105240"/>
                <a:chExt cx="559080" cy="1940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6792480" y="6105240"/>
                  <a:ext cx="111240" cy="145440"/>
                </a:xfrm>
                <a:custGeom>
                  <a:avLst/>
                  <a:gdLst/>
                  <a:ahLst/>
                  <a:rect l="l" t="t" r="r" b="b"/>
                  <a:pathLst>
                    <a:path w="193" h="322">
                      <a:moveTo>
                        <a:pt x="193" y="15"/>
                      </a:moveTo>
                      <a:lnTo>
                        <a:pt x="27" y="0"/>
                      </a:lnTo>
                      <a:lnTo>
                        <a:pt x="0" y="307"/>
                      </a:lnTo>
                      <a:lnTo>
                        <a:pt x="166" y="322"/>
                      </a:lnTo>
                      <a:lnTo>
                        <a:pt x="193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981120" y="6125760"/>
                  <a:ext cx="108000" cy="103320"/>
                </a:xfrm>
                <a:custGeom>
                  <a:avLst/>
                  <a:gdLst/>
                  <a:ahLst/>
                  <a:rect l="l" t="t" r="r" b="b"/>
                  <a:pathLst>
                    <a:path w="187" h="229">
                      <a:moveTo>
                        <a:pt x="187" y="15"/>
                      </a:moveTo>
                      <a:lnTo>
                        <a:pt x="19" y="0"/>
                      </a:lnTo>
                      <a:lnTo>
                        <a:pt x="0" y="214"/>
                      </a:lnTo>
                      <a:lnTo>
                        <a:pt x="168" y="229"/>
                      </a:lnTo>
                      <a:lnTo>
                        <a:pt x="187" y="1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154640" y="6142680"/>
                  <a:ext cx="106560" cy="156600"/>
                </a:xfrm>
                <a:custGeom>
                  <a:avLst/>
                  <a:gdLst/>
                  <a:ahLst/>
                  <a:rect l="l" t="t" r="r" b="b"/>
                  <a:pathLst>
                    <a:path w="185" h="347">
                      <a:moveTo>
                        <a:pt x="185" y="13"/>
                      </a:moveTo>
                      <a:lnTo>
                        <a:pt x="29" y="0"/>
                      </a:lnTo>
                      <a:lnTo>
                        <a:pt x="0" y="333"/>
                      </a:lnTo>
                      <a:lnTo>
                        <a:pt x="156" y="347"/>
                      </a:lnTo>
                      <a:lnTo>
                        <a:pt x="185" y="13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248240" y="6146280"/>
                  <a:ext cx="103320" cy="100800"/>
                </a:xfrm>
                <a:custGeom>
                  <a:avLst/>
                  <a:gdLst/>
                  <a:ahLst/>
                  <a:rect l="l" t="t" r="r" b="b"/>
                  <a:pathLst>
                    <a:path w="179" h="223">
                      <a:moveTo>
                        <a:pt x="179" y="14"/>
                      </a:moveTo>
                      <a:lnTo>
                        <a:pt x="18" y="0"/>
                      </a:lnTo>
                      <a:lnTo>
                        <a:pt x="0" y="209"/>
                      </a:lnTo>
                      <a:lnTo>
                        <a:pt x="161" y="223"/>
                      </a:lnTo>
                      <a:lnTo>
                        <a:pt x="179" y="1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7" name=""/>
            <p:cNvGrpSpPr/>
            <p:nvPr/>
          </p:nvGrpSpPr>
          <p:grpSpPr>
            <a:xfrm>
              <a:off x="6960240" y="5987880"/>
              <a:ext cx="1243080" cy="273600"/>
              <a:chOff x="6960240" y="5987880"/>
              <a:chExt cx="1243080" cy="273600"/>
            </a:xfrm>
          </p:grpSpPr>
          <p:sp>
            <p:nvSpPr>
              <p:cNvPr id="648" name=""/>
              <p:cNvSpPr/>
              <p:nvPr/>
            </p:nvSpPr>
            <p:spPr>
              <a:xfrm>
                <a:off x="7392960" y="5987880"/>
                <a:ext cx="84240" cy="222480"/>
              </a:xfrm>
              <a:custGeom>
                <a:avLst/>
                <a:gdLst/>
                <a:ahLst/>
                <a:rect l="l" t="t" r="r" b="b"/>
                <a:pathLst>
                  <a:path w="146" h="493">
                    <a:moveTo>
                      <a:pt x="0" y="20"/>
                    </a:moveTo>
                    <a:lnTo>
                      <a:pt x="13" y="3"/>
                    </a:lnTo>
                    <a:lnTo>
                      <a:pt x="33" y="0"/>
                    </a:lnTo>
                    <a:lnTo>
                      <a:pt x="55" y="16"/>
                    </a:lnTo>
                    <a:lnTo>
                      <a:pt x="85" y="61"/>
                    </a:lnTo>
                    <a:lnTo>
                      <a:pt x="107" y="126"/>
                    </a:lnTo>
                    <a:lnTo>
                      <a:pt x="127" y="203"/>
                    </a:lnTo>
                    <a:lnTo>
                      <a:pt x="140" y="289"/>
                    </a:lnTo>
                    <a:lnTo>
                      <a:pt x="146" y="361"/>
                    </a:lnTo>
                    <a:lnTo>
                      <a:pt x="140" y="428"/>
                    </a:lnTo>
                    <a:lnTo>
                      <a:pt x="122" y="467"/>
                    </a:lnTo>
                    <a:lnTo>
                      <a:pt x="90" y="493"/>
                    </a:lnTo>
                    <a:lnTo>
                      <a:pt x="55" y="493"/>
                    </a:lnTo>
                    <a:lnTo>
                      <a:pt x="39" y="481"/>
                    </a:lnTo>
                    <a:lnTo>
                      <a:pt x="39" y="455"/>
                    </a:lnTo>
                    <a:lnTo>
                      <a:pt x="55" y="431"/>
                    </a:lnTo>
                    <a:lnTo>
                      <a:pt x="96" y="455"/>
                    </a:lnTo>
                    <a:lnTo>
                      <a:pt x="113" y="439"/>
                    </a:lnTo>
                    <a:lnTo>
                      <a:pt x="124" y="378"/>
                    </a:lnTo>
                    <a:lnTo>
                      <a:pt x="116" y="311"/>
                    </a:lnTo>
                    <a:lnTo>
                      <a:pt x="96" y="250"/>
                    </a:lnTo>
                    <a:lnTo>
                      <a:pt x="66" y="164"/>
                    </a:lnTo>
                    <a:lnTo>
                      <a:pt x="29" y="116"/>
                    </a:lnTo>
                    <a:lnTo>
                      <a:pt x="2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63320" y="6030000"/>
                <a:ext cx="156960" cy="197280"/>
              </a:xfrm>
              <a:custGeom>
                <a:avLst/>
                <a:gdLst/>
                <a:ahLst/>
                <a:rect l="l" t="t" r="r" b="b"/>
                <a:pathLst>
                  <a:path w="272" h="437">
                    <a:moveTo>
                      <a:pt x="96" y="14"/>
                    </a:moveTo>
                    <a:lnTo>
                      <a:pt x="122" y="0"/>
                    </a:lnTo>
                    <a:lnTo>
                      <a:pt x="141" y="0"/>
                    </a:lnTo>
                    <a:lnTo>
                      <a:pt x="185" y="48"/>
                    </a:lnTo>
                    <a:lnTo>
                      <a:pt x="211" y="94"/>
                    </a:lnTo>
                    <a:lnTo>
                      <a:pt x="246" y="153"/>
                    </a:lnTo>
                    <a:lnTo>
                      <a:pt x="268" y="214"/>
                    </a:lnTo>
                    <a:lnTo>
                      <a:pt x="272" y="281"/>
                    </a:lnTo>
                    <a:lnTo>
                      <a:pt x="263" y="298"/>
                    </a:lnTo>
                    <a:lnTo>
                      <a:pt x="196" y="327"/>
                    </a:lnTo>
                    <a:lnTo>
                      <a:pt x="129" y="366"/>
                    </a:lnTo>
                    <a:lnTo>
                      <a:pt x="83" y="403"/>
                    </a:lnTo>
                    <a:lnTo>
                      <a:pt x="74" y="416"/>
                    </a:lnTo>
                    <a:lnTo>
                      <a:pt x="44" y="437"/>
                    </a:lnTo>
                    <a:lnTo>
                      <a:pt x="18" y="427"/>
                    </a:lnTo>
                    <a:lnTo>
                      <a:pt x="2" y="399"/>
                    </a:lnTo>
                    <a:lnTo>
                      <a:pt x="0" y="383"/>
                    </a:lnTo>
                    <a:lnTo>
                      <a:pt x="7" y="372"/>
                    </a:lnTo>
                    <a:lnTo>
                      <a:pt x="33" y="370"/>
                    </a:lnTo>
                    <a:lnTo>
                      <a:pt x="57" y="366"/>
                    </a:lnTo>
                    <a:lnTo>
                      <a:pt x="122" y="344"/>
                    </a:lnTo>
                    <a:lnTo>
                      <a:pt x="179" y="314"/>
                    </a:lnTo>
                    <a:lnTo>
                      <a:pt x="228" y="281"/>
                    </a:lnTo>
                    <a:lnTo>
                      <a:pt x="244" y="259"/>
                    </a:lnTo>
                    <a:lnTo>
                      <a:pt x="235" y="211"/>
                    </a:lnTo>
                    <a:lnTo>
                      <a:pt x="202" y="155"/>
                    </a:lnTo>
                    <a:lnTo>
                      <a:pt x="163" y="114"/>
                    </a:lnTo>
                    <a:lnTo>
                      <a:pt x="122" y="94"/>
                    </a:lnTo>
                    <a:lnTo>
                      <a:pt x="89" y="61"/>
                    </a:lnTo>
                    <a:lnTo>
                      <a:pt x="91" y="31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44560" y="6057720"/>
                <a:ext cx="158760" cy="203760"/>
              </a:xfrm>
              <a:custGeom>
                <a:avLst/>
                <a:gdLst/>
                <a:ahLst/>
                <a:rect l="l" t="t" r="r" b="b"/>
                <a:pathLst>
                  <a:path w="275" h="451">
                    <a:moveTo>
                      <a:pt x="78" y="17"/>
                    </a:moveTo>
                    <a:lnTo>
                      <a:pt x="102" y="0"/>
                    </a:lnTo>
                    <a:lnTo>
                      <a:pt x="163" y="17"/>
                    </a:lnTo>
                    <a:lnTo>
                      <a:pt x="200" y="60"/>
                    </a:lnTo>
                    <a:lnTo>
                      <a:pt x="222" y="115"/>
                    </a:lnTo>
                    <a:lnTo>
                      <a:pt x="250" y="171"/>
                    </a:lnTo>
                    <a:lnTo>
                      <a:pt x="275" y="232"/>
                    </a:lnTo>
                    <a:lnTo>
                      <a:pt x="273" y="260"/>
                    </a:lnTo>
                    <a:lnTo>
                      <a:pt x="252" y="296"/>
                    </a:lnTo>
                    <a:lnTo>
                      <a:pt x="180" y="355"/>
                    </a:lnTo>
                    <a:lnTo>
                      <a:pt x="113" y="396"/>
                    </a:lnTo>
                    <a:lnTo>
                      <a:pt x="111" y="416"/>
                    </a:lnTo>
                    <a:lnTo>
                      <a:pt x="105" y="427"/>
                    </a:lnTo>
                    <a:lnTo>
                      <a:pt x="78" y="446"/>
                    </a:lnTo>
                    <a:lnTo>
                      <a:pt x="46" y="451"/>
                    </a:lnTo>
                    <a:lnTo>
                      <a:pt x="22" y="438"/>
                    </a:lnTo>
                    <a:lnTo>
                      <a:pt x="1" y="416"/>
                    </a:lnTo>
                    <a:lnTo>
                      <a:pt x="0" y="399"/>
                    </a:lnTo>
                    <a:lnTo>
                      <a:pt x="13" y="390"/>
                    </a:lnTo>
                    <a:lnTo>
                      <a:pt x="50" y="396"/>
                    </a:lnTo>
                    <a:lnTo>
                      <a:pt x="83" y="388"/>
                    </a:lnTo>
                    <a:lnTo>
                      <a:pt x="91" y="377"/>
                    </a:lnTo>
                    <a:lnTo>
                      <a:pt x="124" y="362"/>
                    </a:lnTo>
                    <a:lnTo>
                      <a:pt x="180" y="323"/>
                    </a:lnTo>
                    <a:lnTo>
                      <a:pt x="222" y="290"/>
                    </a:lnTo>
                    <a:lnTo>
                      <a:pt x="235" y="251"/>
                    </a:lnTo>
                    <a:lnTo>
                      <a:pt x="222" y="188"/>
                    </a:lnTo>
                    <a:lnTo>
                      <a:pt x="180" y="121"/>
                    </a:lnTo>
                    <a:lnTo>
                      <a:pt x="128" y="90"/>
                    </a:lnTo>
                    <a:lnTo>
                      <a:pt x="91" y="82"/>
                    </a:lnTo>
                    <a:lnTo>
                      <a:pt x="78" y="51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60240" y="6010200"/>
                <a:ext cx="130320" cy="200520"/>
              </a:xfrm>
              <a:custGeom>
                <a:avLst/>
                <a:gdLst/>
                <a:ahLst/>
                <a:rect l="l" t="t" r="r" b="b"/>
                <a:pathLst>
                  <a:path w="226" h="444">
                    <a:moveTo>
                      <a:pt x="20" y="81"/>
                    </a:moveTo>
                    <a:lnTo>
                      <a:pt x="0" y="43"/>
                    </a:lnTo>
                    <a:lnTo>
                      <a:pt x="6" y="9"/>
                    </a:lnTo>
                    <a:lnTo>
                      <a:pt x="28" y="0"/>
                    </a:lnTo>
                    <a:lnTo>
                      <a:pt x="50" y="6"/>
                    </a:lnTo>
                    <a:lnTo>
                      <a:pt x="87" y="33"/>
                    </a:lnTo>
                    <a:lnTo>
                      <a:pt x="117" y="81"/>
                    </a:lnTo>
                    <a:lnTo>
                      <a:pt x="161" y="165"/>
                    </a:lnTo>
                    <a:lnTo>
                      <a:pt x="195" y="216"/>
                    </a:lnTo>
                    <a:lnTo>
                      <a:pt x="217" y="266"/>
                    </a:lnTo>
                    <a:lnTo>
                      <a:pt x="226" y="292"/>
                    </a:lnTo>
                    <a:lnTo>
                      <a:pt x="209" y="311"/>
                    </a:lnTo>
                    <a:lnTo>
                      <a:pt x="159" y="316"/>
                    </a:lnTo>
                    <a:lnTo>
                      <a:pt x="98" y="331"/>
                    </a:lnTo>
                    <a:lnTo>
                      <a:pt x="72" y="344"/>
                    </a:lnTo>
                    <a:lnTo>
                      <a:pt x="61" y="383"/>
                    </a:lnTo>
                    <a:lnTo>
                      <a:pt x="72" y="400"/>
                    </a:lnTo>
                    <a:lnTo>
                      <a:pt x="65" y="426"/>
                    </a:lnTo>
                    <a:lnTo>
                      <a:pt x="31" y="444"/>
                    </a:lnTo>
                    <a:lnTo>
                      <a:pt x="26" y="431"/>
                    </a:lnTo>
                    <a:lnTo>
                      <a:pt x="9" y="409"/>
                    </a:lnTo>
                    <a:lnTo>
                      <a:pt x="6" y="377"/>
                    </a:lnTo>
                    <a:lnTo>
                      <a:pt x="20" y="361"/>
                    </a:lnTo>
                    <a:lnTo>
                      <a:pt x="48" y="337"/>
                    </a:lnTo>
                    <a:lnTo>
                      <a:pt x="87" y="303"/>
                    </a:lnTo>
                    <a:lnTo>
                      <a:pt x="144" y="292"/>
                    </a:lnTo>
                    <a:lnTo>
                      <a:pt x="182" y="278"/>
                    </a:lnTo>
                    <a:lnTo>
                      <a:pt x="172" y="250"/>
                    </a:lnTo>
                    <a:lnTo>
                      <a:pt x="133" y="205"/>
                    </a:lnTo>
                    <a:lnTo>
                      <a:pt x="70" y="161"/>
                    </a:lnTo>
                    <a:lnTo>
                      <a:pt x="28" y="109"/>
                    </a:lnTo>
                    <a:lnTo>
                      <a:pt x="2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eriodic Interim Payment (PIP)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s may elect PIP, if qual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P based on transition bl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P excludes outlier payments or estimated prospective pa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utliers are paid on submission of discharge bill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rs not to receiving PIP payments can submit interim b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415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66"/>
                </a:solidFill>
                <a:latin typeface="Arial"/>
              </a:rPr>
              <a:t>Beneficiary Liability</a:t>
            </a:r>
            <a:endParaRPr b="1" lang="en-US" sz="5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706320" y="3429000"/>
            <a:ext cx="4540320" cy="13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eneficiary Liabilit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ame as previous pay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f Medicare pays below the LTCH’s cost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cannot be billed differences for covered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eneficiary Liabilit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ciary is generally responsibl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eductibl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insuran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ifetime reserve day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Non-covered services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vices not covered due to benefit exhaus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patient services if no entitlement to Part A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eneficiary Liability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hort stay outlier applies, also responsibl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tems and services not the basis for short-stay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eneficiary Liability - Short Stay Outlier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a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rt-stay outlie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tire stay paid up to the high cost outlier threshol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igh cost outlier threshold must have benefit days available for pa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968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ame as IPPS 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a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not exce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rt-stay outlier thresh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dicare pays only for benefit-covered day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eneficiary Liability - Exampl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457200" y="1854360"/>
          <a:ext cx="8131320" cy="7995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54360"/>
                    <a:ext cx="8131320" cy="79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Using LTR D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ciary runs out of regular benefit days before the short-stay outlier threshold is exc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maining days of the patient’s stay will be counted towards the beneficiary’s lifetime reserve days for the remainder of the episode of car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nce a beneficiary starts using lifetime reserve days, must continue to use the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22212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igh Cost Outlier Benefit D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edicare coverage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eneficiary must use either regular benefit days or lifetime reserve days for the period (or portion) of the stay beyond the high cost outlier threshol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I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edical Necessity And ALO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s of a stay failing medical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xcluded from the provider’s 25-day average length of stay computation for the LTCH’s cost reporting perio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Beneficiary Liability - Using LTR Day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461880" y="1862280"/>
          <a:ext cx="8153640" cy="803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880" y="1862280"/>
                    <a:ext cx="8153640" cy="80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scellaneous Payment Issu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yment methodology continues to apply to Part B ancillar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ttance advices, Medicare Summary Notices and Explanation of Benefits un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etermine And Maintain LTCH Statu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2120" indent="-222120">
              <a:spcBef>
                <a:spcPts val="1349"/>
              </a:spcBef>
              <a:buClr>
                <a:srgbClr val="000066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S is based on discharge data from the most recently filed cost reporting 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9760">
              <a:spcBef>
                <a:spcPts val="1188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Or most recent six-month period, if: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evious cost report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indent="-217440"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st report does not accurately reflect current A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6T20:23:08Z</dcterms:created>
  <dc:creator>Patty Yard</dc:creator>
  <dc:description>Designed for cross training project</dc:description>
  <dc:language>en-US</dc:language>
  <cp:lastModifiedBy>MLH</cp:lastModifiedBy>
  <cp:lastPrinted>2002-10-30T01:23:59Z</cp:lastPrinted>
  <dcterms:modified xsi:type="dcterms:W3CDTF">2002-11-08T12:59:32Z</dcterms:modified>
  <cp:revision>133</cp:revision>
  <dc:subject>Training For Power Point</dc:subject>
  <dc:title>Building Presentations  in Power Point</dc:title>
</cp:coreProperties>
</file>