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8D3-14DB-44B1-B521-9BC045D7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DF2-E781-4F23-9024-C9678D6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1CB-A57D-4661-BF41-6553AE0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ACD-FE49-4EFE-84C1-009F8244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382-AD11-4475-A8F3-D8F25894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0CD-3B26-4128-9953-46380BF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088-F406-4BF5-A76C-1DD9C2C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C9C-BBDB-47EE-93F6-BB210D48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734-9E95-4427-9190-FEBD565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837-0F24-46BE-9A3D-28E05E5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E69-230C-467B-ADD6-D54CE75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F0C-C5C2-43B0-B890-C626A30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29EE-BC2A-453B-B1DF-EF4326F2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2666880"/>
          <a:ext cx="32767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66880"/>
                    <a:ext cx="327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6320" y="2590920"/>
          <a:ext cx="33526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590920"/>
                    <a:ext cx="3352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7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8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0680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5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9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40 Million (2.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8276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10.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30 Million (2.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Outpatient PPS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dicare payments increase, the beneficiary co-pay also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289080"/>
          <a:ext cx="67816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6781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80880" y="3668760"/>
          <a:ext cx="6477120" cy="318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68760"/>
                    <a:ext cx="6477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121760" y="3733920"/>
            <a:ext cx="62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Service Payment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6320" y="365040"/>
            <a:ext cx="51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APC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05084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jority of the APCs will have higher payments under the final rule than they did in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26708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utilization into account, a large majority of the service payments will be hig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957240"/>
          <a:ext cx="396252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7240"/>
                    <a:ext cx="3962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3962520"/>
          <a:ext cx="4267080" cy="267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962520"/>
                    <a:ext cx="42670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Procrit (non-ESRD epoetin al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Lu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Cisp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880920"/>
          <a:ext cx="4495680" cy="2853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80920"/>
                    <a:ext cx="44956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3962520"/>
          <a:ext cx="4572000" cy="2654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62520"/>
                    <a:ext cx="4572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95288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Factor vii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1920" y="15228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Drug Payme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7:35Z</dcterms:created>
  <dc:creator>Bill Roger</dc:creator>
  <dc:description/>
  <dc:language>en-US</dc:language>
  <cp:lastModifiedBy>CMS</cp:lastModifiedBy>
  <dcterms:modified xsi:type="dcterms:W3CDTF">2002-10-31T17:47:17Z</dcterms:modified>
  <cp:revision>36</cp:revision>
  <dc:subject/>
  <dc:title>PowerPoint Presentation</dc:title>
</cp:coreProperties>
</file>