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E5C7B1A-9965-4008-94D0-AB44521E3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AB27DAE-47A1-4CCD-87FA-D8E84AD1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quality grade can translate into HICPAC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285C282-06BE-439C-8A26-9D8F188B4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OutpatientPPS" TargetMode="External"/><Relationship Id="rId2" Type="http://schemas.openxmlformats.org/officeDocument/2006/relationships/hyperlink" Target="http://www.cms.hhs.gov/HospitalAcqCond" TargetMode="External"/><Relationship Id="rId3" Type="http://schemas.openxmlformats.org/officeDocument/2006/relationships/hyperlink" Target="mailto:heather.hostetler@cms.hhs.gov" TargetMode="External"/><Relationship Id="rId4" Type="http://schemas.openxmlformats.org/officeDocument/2006/relationships/hyperlink" Target="mailto:carol.bazell@cms.hhs.gov" TargetMode="External"/><Relationship Id="rId5" Type="http://schemas.openxmlformats.org/officeDocument/2006/relationships/hyperlink" Target="mailto:sheila.roman@cms.hhs.gov" TargetMode="External"/><Relationship Id="rId6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dc.gov/od/oc/media/pressrel/r2k0306b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docket.access.gpo.gov/2008/pdf/E8-17914.pdf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dc.gov/ncidod/dhqp/hicpac.html" TargetMode="Externa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AcqCond/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dc.gov/nchs/datawh/ftpserv/ftpicd9/icdguide08.pdf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808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&amp; Quality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Hospital Outpatient Healthcare-Associated Conditions Listening Sess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December 18, 200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mprovement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berg’s Dartmouth Atlas on variation in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lynn’s NEJM findings on lack of evidence-base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M’s Crossing the Quality Chasm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Unnecessar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’s various fee-for-service fee schedules and prospective payment system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ource consum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are,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necessary costs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systems’ incentives are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estions to Addr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ommon in the HOP set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guidelines/prevention interventions exi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 of the term “…reasonably…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effective are prevention interven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identif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ICD-9 codes or other HOP claim reporting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P conditions that result in inpatient ad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sequential evaluation of Medicare cl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-based vs. rate-b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 a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gister/ Vol. 73, No. 223/ p.68781-68787 at: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HospitalOutpatient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AC information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ospitalAcq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eather.hostetler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carol.bazell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sheila.roman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no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Solvency and Beneficia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s up from $219 billion in 2000 to a projected $486 bill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A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of expenditures over tax income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to be depleted by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B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s increasing 11% per year over the last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premiums, deductibles, and cost-sharing are projected to consume 28% of the average beneficiaries’ Social Security check i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V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s 2006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ional Interest in P4P and Other Value-Based Purchas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A, MMA, DRA, TRCHA, MMSEA, MIP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PAC Reports to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related to quality, efficiency, health information technology, and payment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M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Err Is Hu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ossing the Quality Ch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warding Provider Performance: Aligning Incentives in Med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health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coal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er Hospital Quality Incentiv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Group Practi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Care Management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Home Value-Based Purchasing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Pay for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 Support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Management for High-Cost Beneficiaries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care Qualit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haring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Care Episode (ACE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Quality Information (BQI)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Health Records (EHR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Hom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Quality Reporting Init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Resource Us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Care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RD Pay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Initia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-Acquired Conditions and Present on Admission Indicat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505320"/>
            <a:ext cx="6324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M estimated in 1999 that as many as 98,000 Americans die each year as a result of medic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ational costs of these errors estimated at $17-29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M:  To Err is Human: Building a Safer Health System, November 1999.  Available at:  http://www.iom.edu/Object.File/Master/4/117/ToErr-8pager.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, CDC estimated that hospital-acquired infections add nearly $5 billion to U.S. health care cost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s for Disease Control and Prevention:  Press Release, March 2000.  Available at: 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od/oc/media/pressrel/r2k0306b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study found that, in 2002, 1.7 million hospital-acquired infections were associated with 99,000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vens et al.  Estimating Health Care-Associated Infection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ths in U.S. Hospitals, 2002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blic Health Repo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March-Apr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Volume 1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Leapfrog Group survey of 1,256 hospitals found that 87% of those hospitals do not consistently follow recommendations to prevent many of the most common hospital-acquired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Leapfrog Group Hospital Survey.  The Leapfrog Group 200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at:  http://www.leapfroggroup.org/media/file/Leapfrog_hospital_acquired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s_release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b Kuh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Authority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 Section 5001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7, IPPS hospitals were required to submit data on their claims for payment indicating whether diagnoses were present on admission (P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8, CMS cannot assign a case to a higher DRG based on the occurrence of one of the selected conditions, if that condition was acquired during the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must select conditions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, high volume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to a higher paying DRG when present as a secondary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reventable through the application of evidence-based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elec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MS and Centers for Disease Control and Prevention (CDC) internal Workgroup selected the H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comments from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/CDC sponsored List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7, 2007 &amp; December 1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meetings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Prospective Payment System (IPPS) rul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and Final rules for Fiscal Years (FY) 2007, 2008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Hospital &amp; Ambulatory Poli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and Candidate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e Kelly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object retained afte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ul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II &amp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cranial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hing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 of poor glyce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glycemic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keototic hyperosmolar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hyperosmo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eter-associated urinary tract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catheter-associated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vein thrombosis (DVT)/pulmonary embolism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knee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Surgical site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stinitis after coronary artery bypass graft (CAB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orthoped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iatric surgery for obe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rascopic gastric by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troenteros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aroscopic gastric restrictiv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Year 2009 Inpatient Prospective Payment System (IPPS)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edocket.access.gpo.gov/2008/pdf/E8-17914.pd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page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 following devic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r disability associated with drugs, devices, or biolog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-born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s following procedures – orthopedic and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-associated pneu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tridium diffic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ssociated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Polic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Disease Control &amp;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Haddix, Ph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Director, CDC – Division of Healthcare Quality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-Based Guidelin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ley Richards, MD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supports CMS efforts to align payment a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and elimination eventually, of healthcare-associated infections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ly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n effective value-bas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, payment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he application of evidence-based preven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ranspa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centivize payment for preventabl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lly, payment will reward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31880" y="868320"/>
            <a:ext cx="76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 is working to prevent hospital-acquir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51040" y="114300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792960" y="-705240"/>
            <a:ext cx="1558080" cy="63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265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2651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Healthcare-associated Inf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5016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timicrobial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1782720"/>
            <a:ext cx="0" cy="73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1782720"/>
            <a:ext cx="0" cy="73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dverse Drug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668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fusion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plant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520" y="3611520"/>
            <a:ext cx="11890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evice/ Procedure -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46280" y="3611520"/>
            <a:ext cx="11890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ettings/ Practices-relate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22240" y="3246480"/>
            <a:ext cx="1096920" cy="365040"/>
            <a:chOff x="822240" y="3246480"/>
            <a:chExt cx="1096920" cy="365040"/>
          </a:xfrm>
        </p:grpSpPr>
        <p:sp>
          <p:nvSpPr>
            <p:cNvPr id="129" name=""/>
            <p:cNvSpPr/>
            <p:nvPr/>
          </p:nvSpPr>
          <p:spPr>
            <a:xfrm flipH="1">
              <a:off x="82224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980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22240" y="4343400"/>
            <a:ext cx="1096920" cy="365040"/>
            <a:chOff x="822240" y="4343400"/>
            <a:chExt cx="1096920" cy="365040"/>
          </a:xfrm>
        </p:grpSpPr>
        <p:sp>
          <p:nvSpPr>
            <p:cNvPr id="132" name=""/>
            <p:cNvSpPr/>
            <p:nvPr/>
          </p:nvSpPr>
          <p:spPr>
            <a:xfrm flipH="1" flipV="1">
              <a:off x="82224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36980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74680" y="480060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RS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C. Difficile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Acinetobact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581280"/>
            <a:ext cx="4206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break Inves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ion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mural Applied Preventio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Research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Preventing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guideline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organizations, Task Forces, Government agencies, academ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for interventions based scientific evidence or 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velops and use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,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makers,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Infection Control Practices Advisory Committee (HICP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ecretary…and the Director, 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vice and guidance regarding the practice of infection control and strategies for surveillance, prevention, and control of healthcare-associated infections … in settings … including hospitals, long-term care facilities, and home health a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updating of existing guidelines, development of new guidelines, guideline evaluation; and other policy statements regarding the prevention of healthcare-associated infections and healthcare-related condi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 shall consist of 14 public members, including the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able in the fields of infectious diseases, healthcare-associated infections and healthcare-related events, epidemiology, health policy, health services research, public health, and related fie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Federal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Drug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Resources and Service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stitutes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liaison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rofessionals in Infection Control and Epidemiology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y for Healthcare Epidemiology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erioperative Registered N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lth Care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ollege of Occupational and Environmental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Commission on Accreditation of 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uncil for the Elimination of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onvoting liaison representatives as the Secretary deem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Pub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200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Preca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Multidrug-Resistant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za Vaccination of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 Public Reporting of Healthcare-Associated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Healthcare Associated Pneu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Infection Control in Healthcare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mallpox Vaccine in a Pre-Event Vaccin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Intravascular Device-Related Inf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ygiene in Healthcar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-1999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of Surgical Site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 Control in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 of Health Car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est on the hori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infection Sterilization (in 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ion of catheter-associated 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ovirus in healthcare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cinations for healthca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eillance and risk assessment, 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846000" y="-1305000"/>
            <a:ext cx="10836000" cy="9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S’ Value-Based Purchasing Initiativ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3750" t="9657" r="0" b="0"/>
          <a:stretch/>
        </p:blipFill>
        <p:spPr>
          <a:xfrm>
            <a:off x="0" y="0"/>
            <a:ext cx="94489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Guidelin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600" y="1980720"/>
            <a:ext cx="7815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guidelines vs. “guid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 and Norovirus Guidelines as te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apid production an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ansparency and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228600"/>
          <a:ext cx="9144000" cy="5873760"/>
        </p:xfrm>
        <a:graphic>
          <a:graphicData uri="http://schemas.openxmlformats.org/drawingml/2006/table">
            <a:tbl>
              <a:tblPr/>
              <a:tblGrid>
                <a:gridCol w="2133720"/>
                <a:gridCol w="2166840"/>
                <a:gridCol w="2506680"/>
                <a:gridCol w="2336760"/>
              </a:tblGrid>
              <a:tr h="87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CP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Benefit / H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 -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- 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 – High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– Low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further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 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commendation / Unresolved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41972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-driven 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6160" y="1981080"/>
            <a:ext cx="89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1. Which patients should receive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. What practices/factors decrease the risk of infection associated with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3. What are the best methods to manage urinary catheter-associated com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3480" y="0"/>
          <a:ext cx="9110520" cy="6095880"/>
        </p:xfrm>
        <a:graphic>
          <a:graphicData uri="http://schemas.openxmlformats.org/drawingml/2006/table">
            <a:tbl>
              <a:tblPr/>
              <a:tblGrid>
                <a:gridCol w="920520"/>
                <a:gridCol w="776520"/>
                <a:gridCol w="182520"/>
                <a:gridCol w="490320"/>
                <a:gridCol w="1516320"/>
                <a:gridCol w="1261800"/>
                <a:gridCol w="182520"/>
                <a:gridCol w="495360"/>
                <a:gridCol w="2301840"/>
                <a:gridCol w="182880"/>
                <a:gridCol w="799920"/>
              </a:tblGrid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thor, Yr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pulation and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Operative Cathete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hipps, 2006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ystematic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2,3,4,5,6,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 establish the optimal way to manage urinary catheters following urogenital surgery in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domized and quasi-randomized tr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 R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Times New Roman"/>
                        </a:rPr>
                        <a:t>1. Using a urinary catheter vs. not using a urinary cath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ention of ur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12(0.03-0.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T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4 studies) – 1.35(0.75-2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catheteriz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3 studies) – 0.32(0.14-0.7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urethral strict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1.14(0.90-1.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hematuri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73(0.40-1.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520" y="2130120"/>
            <a:ext cx="860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idod/dhqp/hicpac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12193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CPAC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a Grabert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nd popul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of HACs for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for some H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of POA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125 codes capturing size, depth, and location of pressure ul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of the IPPS HAC payment provision to other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in the IRF, OPPS/ASC, SNF, LTCH               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ies for HAC &amp; POA 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the CMS HAC &amp; POA website: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cms.hhs.gov/HospitalAcqCond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10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Open Door Foru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Listserv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s in Practice – Mediastinitis Following CAB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alue-Based Purchasing (VBP)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Demonstrations and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Scanning and Opportunities f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ing for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y Hue, RHIA, C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must trigger higher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s, including infections, can be designated complicating conditions (CCs) or major complicating conditions (MC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may split into three different levels of severity, based on complications (no CC or MCC, CC, or M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a CC or MCC condition as a secondary diagnosis on a claim generates higher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on admission (POA) is defined as present at the time the order for inpatient admis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that develop during an outpatient encounter, including emergency department, observation, or outpatient surgery, are considered P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indicator is assign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diagno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ause of injury codes (Medicare requires reporting only if E-code is reported as an           additional diagno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990720"/>
          <a:ext cx="9144000" cy="5833800"/>
        </p:xfrm>
        <a:graphic>
          <a:graphicData uri="http://schemas.openxmlformats.org/drawingml/2006/table">
            <a:tbl>
              <a:tblPr/>
              <a:tblGrid>
                <a:gridCol w="1225440"/>
                <a:gridCol w="7918560"/>
              </a:tblGrid>
              <a:tr h="544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Indicator Options and Definition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for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not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 insufficient to determine if condition w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at the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ly undetermined.  Provider unable to clinic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 whether the condition was present at the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ported/Not used.  Exempt from POA reporting.  This co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equivalent code of a blank on the UB-04; however, it w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d that blanks are undesirable when submitting th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via the 4010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A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pays the CC/MCC condition for selected HACs that are coded as “Y” &amp; “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does NOT pay the CC/MCC condition for selected HACs that are coded “N” &amp;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04920" y="0"/>
          <a:ext cx="8534160" cy="6943680"/>
        </p:xfrm>
        <a:graphic>
          <a:graphicData uri="http://schemas.openxmlformats.org/drawingml/2006/table">
            <a:tbl>
              <a:tblPr/>
              <a:tblGrid>
                <a:gridCol w="5263920"/>
                <a:gridCol w="1917720"/>
                <a:gridCol w="1352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xamples for a single  secondary diagnos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Status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out CC/MC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,177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,030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Provider Bill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fe of an Inpatient Acute Care HAC Clai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rah Shirey-Lo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PS hospital submits a claim to the Medicare Con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comes into Medicare Claims Processing System and goes through various edit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ffere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A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stream en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OAs does not equal # diagnoses on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a POA indicator is included for all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e POA stream indicator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ll ICD-9-CM codes for HAC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MS-DRG assignment if an HAC is coded as “N” or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other CC/MCCs ar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reimbursement is determined  by Pr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passes though the Common Working File (CW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is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:  The right care for every person e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ystems Administ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 – National Center for Heal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ance for POA Indicator Codin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na Pickett, RHIA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:  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hs/datawh/ftpserv/ftpicd9/icdguide08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, 2008 update contains an Appendix of instructions for proper coding  of POA indicat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effort between the healthcare provider and the coder is essential to achieve complete and accurate documentation, code assignment, and reporting of diagnoses and procedur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D-9-CM  Official Guidelines for Coding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for POA Coding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Hospital Association’s Coding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ooperating Pa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ealth Information Management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ial Advisory Board (E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Quarterly Publications Addressing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Quarter 2008 – FA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ning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AHRQ -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ene Fra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cience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–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Elixhau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tudy: Adding clinical data el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the enhancement of administrative claims data: State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dministrative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wide data readily available from mo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Quali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Quality Indicators (mortality, utilization,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urrently used for public reporting on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ations of Current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clinically import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o ICD-9-CM diagnosi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regarding use of only administrative data for hospital-specif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risk adjustment – additional data needed to predict individual patient’s risk of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about penalizing providers with the sickest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hrough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quality and report compara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-Based Purchasing:  improve quality and avoid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adoption of effective health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novation and the evidence base for effective us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Between Value of Data and Cost of Obtaining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 hospitals provided chart-abstracted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oncern about costs of medical record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medical records not yet poised to provide data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b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impact of incrementally ad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codes for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diagnosi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documentation (ICD-9-CM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obtain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-effective enhanc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Reported i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Enhancement of claims data to improve risk adjustment of hospital mortality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67(1):71-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rdan HS, Pine M, Elixhauser A, et al. Cost-effective enhancement of claims data to improve comparisons of patient safe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Patient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3(2) 82-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y DR, Pine M, Jordan HS, et al. Combining administrative and clinical data to stratify surgical risk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als of Sur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46(5): 875-8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Modifying claims data to improve risk-adjustment of inpatient mortality rate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dical 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thco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 Pennsylvania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data from July 2000 to Jun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Atlas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day recorded for each data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and California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which conditions were comorbidities versus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isk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ors Stu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G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o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rovascular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hemor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487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/deep vein thromb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/metabolic abn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476360"/>
          <a:ext cx="8686800" cy="5029200"/>
        </p:xfrm>
        <a:graphic>
          <a:graphicData uri="http://schemas.openxmlformats.org/drawingml/2006/table">
            <a:tbl>
              <a:tblPr/>
              <a:tblGrid>
                <a:gridCol w="1581120"/>
                <a:gridCol w="7105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, sex, principal diagnosis, up to 8 secondary diagnoses only infrequently acquired during hospitalization, selected surgical proced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 + secondary diagnoses not included in ADM-8, when clinical data establish that they were present on ad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POA-8 with up to 24 secondary diagno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676520"/>
          <a:ext cx="8610480" cy="4633920"/>
        </p:xfrm>
        <a:graphic>
          <a:graphicData uri="http://schemas.openxmlformats.org/drawingml/2006/table">
            <a:tbl>
              <a:tblPr/>
              <a:tblGrid>
                <a:gridCol w="1855800"/>
                <a:gridCol w="6754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numerical laboratory data on admission (e.g., creatinine, white blood cell count) generally available in electronic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vital signs and lab data not in LAB (e.g., blood culture results) + key clinical findings abstracted from medical records (e.g., immunocompromised) + composite clinical scores (i.e., ASA Classifi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Lab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3276360"/>
            <a:ext cx="327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T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32763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OT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n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in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K-MB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447920"/>
            <a:ext cx="79250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22 lab tests entered at least on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14 of these tests entered four or more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statistic for  pure administrative model = 0.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A = 0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ab data = 0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linical model = 0.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ncrease in c-statistic is for POA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biggest increase when we add laboratory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linical model adds little additional discrimina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models showed a similar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Hospital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how hospital rankings would vary depending on amount of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line: With less clinical information, more hospitals will be misassigned to “high quality” or “low qu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aboratory information, about 18% of hospitals are misassigned, compared to full clinic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lso improve ICD coding, only 5% of hospitals are misassigned, compared to full clin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590480"/>
            <a:ext cx="649476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lin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dverse events and improve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patient-centere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costs in the delivery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investments in effective structural components 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erformance results transparent and comprehen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mpower consumers to make value-based decisions about thei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courage hospitals and clinicians to improve quality of c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qu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l Signs and Other Clinic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ital sign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s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tion fraction and culture results entered two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score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 classification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gow Coma Scor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ed Key Clinical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9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clinical findings entered at least o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ree findings entered more than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malnutrition 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osuppressed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of these clinical findings have corresponding ICD-9-CM codes (e.g., coma, malnu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ost-Effec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OA and lab data has the smallest incremental costs for the improvement in clinical specificity = Most cost-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5 per hospital correctly assigned, compared to over $80 per correct assignment for full clin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naly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an be improved at relatively low cos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PO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numerical lab data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Study Resul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Clinical Data to Statewide Administrativ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data capacities for statewide data organizations participating in H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to add or link hospital clinical information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for completion 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 of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564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asibility of linking clinical and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producible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stage for integrating clinical and administrative data stream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select clinical data elements to add to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clinical data from electroni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ransfer data from hospitals to the data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ata into a multi-hospital database and conduct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eliability of POA coding through algorithms applied to dischar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with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in peer-to-peer learning, information sharing,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report that provides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ous addition of a few clinical data elements can significantly improve ability to do quality assessment using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 on 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tentially)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ICD-9-CM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of POA coding needs to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will jumpstart the enhancement of administrative data by statewide data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Bazell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Hostetler, 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ension of IPPS HAC Program to Hospital Outpatient (HOP) C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CMS’ activities to drive quality improvement, value, and patient safety in the HOP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encounters cover a large number and broad array 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in services from hospital inpatient to outpatient signals likelihood that healthcare-associated conditions will increase in HOP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services often precede inpat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VBP Mean to C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ing Medicare from a passive payer to an active purchaser of higher quality, more efficient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initiatives for promoting better quality, while avoiding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:  measurement, payment incentives, public reporting, conditions of participation, coverage policy, QI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s:  pay for reporting, pay for performance, gainsharing, competitive bidding, bundled payment, coverage decisions, direct provid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(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Uniform Billing Committee (NU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atient Prospective Payment System (OPPS)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payment based on relative costs from hospital claims for services assigned to Ambulatory Payment Classification (APC)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payment rate for each A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Cs include HCPCS codes for items or services that are clinically similar and that have comparable resour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often receive multiple APC payments for a single HOP 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fferential payment adjustment for disease severity; more complex patients may require additional services, which may be separately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on Admission Indic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currently lacks the infrastructure to identify and collect POA indicat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approach could identify services for conditions present on hospital arrival by HCPCS modif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ddress current ICD-9-CM POA reporting guidelines that consider conditions that occur during outpatient encounters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nditions present on hospital arrival for HOP-HACs should be administratively manageable for hospit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Infrastructure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departments or clinics during an outpatient encoun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settings (hospital and nonhospital) over many 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s generally of 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 versus patient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-specif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lat payment rate reduction or nonpayment for some (HOP-HAC related) or all services provided during HOP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ed rate could be derived from analysis of OPPS claims with and without HOP-HACs, analysis of IPPS DRG payment relationships, rates paid to hospitals that do not meet quality reporting standards, or other method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could identify non-covered charges for HOP-HAC rela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would not collect deductibles and copayments for HOP-HAC related servi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specific approaches (rate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stablishing hospital rate of healthcare-associated conditions and define a benchmark or best practice rate above which a hospital payment adjustment would be made for some or all services in a time perio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require hospitals to specifically identify HOP-HAC 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pisode-based payment across the continuum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didate Healthcare-Associated Conditions (HACs) for the Hospital Outpatient (HOP) 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3886200"/>
            <a:ext cx="6324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ila H. Roman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riteria for Possible Candidate HOP-H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IPPS H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Conditions that occur during and result from care provided in a single HOP en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onditions that do not require longitudinal examination of a beneficiary’s healthcar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POA/disease severity would have little influence on occurrence of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Provider attribution 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andidate HOP-HA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left in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s and Trauma – fractures, dislocations, intracranial injuries, crushing injuries, and b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ditions identified by ICD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HOP-HACs for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medication administration/medication errors in the HOP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surgery or oth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 related to HOP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patien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 </dc:creator>
  <dc:description/>
  <dc:language>en-US</dc:language>
  <cp:lastModifiedBy>g29r</cp:lastModifiedBy>
  <dcterms:modified xsi:type="dcterms:W3CDTF">2008-12-11T18:22:54Z</dcterms:modified>
  <cp:revision>2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186640</vt:r8>
  </property>
  <property fmtid="{D5CDD505-2E9C-101B-9397-08002B2CF9AE}" pid="3" name="_AuthorEmail">
    <vt:lpwstr>Lisa.Grabert@cms.hhs.gov</vt:lpwstr>
  </property>
  <property fmtid="{D5CDD505-2E9C-101B-9397-08002B2CF9AE}" pid="4" name="_AuthorEmailDisplayName">
    <vt:lpwstr>Grabert, Lisa (CMS/CMM)</vt:lpwstr>
  </property>
  <property fmtid="{D5CDD505-2E9C-101B-9397-08002B2CF9AE}" pid="5" name="_EmailSubject">
    <vt:lpwstr>Round Bullets</vt:lpwstr>
  </property>
  <property fmtid="{D5CDD505-2E9C-101B-9397-08002B2CF9AE}" pid="6" name="_NewReviewCycle">
    <vt:lpwstr/>
  </property>
</Properties>
</file>