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2.png" ContentType="image/png"/>
  <Override PartName="/ppt/media/image20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8F3E-55E5-4816-A1B6-B1169F7B2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A2F5-0201-498D-8ED0-449D8CB2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5D23-E2DF-4BB3-A179-AC8554C8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05FB-AB59-41E4-ADCE-8FECF60E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AC2C-8FFC-49D0-9964-1601DC90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272D-FE03-496A-968E-CD9BC148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7312-75E0-482E-AB82-E616A6CF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01C7-FF97-41AF-B921-9D9353D0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D610-5515-4CAF-8DFE-BBB0F6C3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42CC-E61A-4FDA-BC29-1DC9C450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03B8-ED79-49C1-AECC-00810273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F395-D716-40D8-A352-5621530F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234A-523D-4ACB-9A61-2FFACB53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D42C-2FA7-47B2-B928-D13DF53D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3E40-FE00-44E9-8A38-DF09CEAE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9AE2-D539-4499-925A-05F7AE36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1995-009E-4702-86CF-6B32A039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DB18-2896-4561-8490-ED6BF539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B342-3334-4793-B903-2507913C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6F80-85C8-424F-BCF4-D44B0141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F1E2-E214-4D10-B455-F082EDC7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5F77-628A-48AA-910A-66E5EA12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9B8F-1DC8-4AD3-BBE1-99DF4F1B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9B73-A12F-48ED-B230-39A1DD91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DE16-4F7D-4CDB-9530-9ADF5ED2C6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7021-3698-4669-ADA1-175AD73FCE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CD-9-CM Coordination and Maintenance Committee</a:t>
            </a:r>
            <a:br>
              <a:rPr sz="44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nters for Medicare &amp; Medicaid Services</a:t>
            </a:r>
            <a:br>
              <a:rPr sz="28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i-ventricular Replacement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tember 27,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rtley P. Griffith, M.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ief Cardiac Surgery Director, Heart and Lung Transplant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versity of Maryland Medical Center (UMM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0" t="20231" r="0" b="0"/>
          <a:stretch/>
        </p:blipFill>
        <p:spPr>
          <a:xfrm>
            <a:off x="1676520" y="3446640"/>
            <a:ext cx="5181480" cy="31176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5053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8242"/>
                </a:solidFill>
                <a:latin typeface="Arial"/>
              </a:rPr>
              <a:t>1985-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162920" y="62485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Dr. Griffit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438280" y="990720"/>
            <a:ext cx="4210200" cy="56354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842160" y="6132600"/>
            <a:ext cx="207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373480" y="469800"/>
            <a:ext cx="4395600" cy="5916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918480" y="5904000"/>
            <a:ext cx="199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666880" y="685800"/>
            <a:ext cx="3865680" cy="54165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781680" y="6324480"/>
            <a:ext cx="214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392200" y="341280"/>
            <a:ext cx="4359600" cy="61754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918480" y="6361200"/>
            <a:ext cx="199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384960" y="6284880"/>
            <a:ext cx="24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Dr. Arusogl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699160" y="6056280"/>
            <a:ext cx="283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Dr. Arusogl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anted CardioWest TAH-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4459320" cy="50626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375680" y="6132600"/>
            <a:ext cx="1463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75680" y="6208560"/>
            <a:ext cx="131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00800" y="630720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entricular Assist Device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(VAD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38862" t="1469" r="1709" b="4415"/>
          <a:stretch/>
        </p:blipFill>
        <p:spPr>
          <a:xfrm>
            <a:off x="533520" y="1600200"/>
            <a:ext cx="1981080" cy="4876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rcRect l="12859" t="1512" r="15535" b="1512"/>
          <a:stretch/>
        </p:blipFill>
        <p:spPr>
          <a:xfrm>
            <a:off x="2743200" y="1600200"/>
            <a:ext cx="2971800" cy="4876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rcRect l="32183" t="1512" r="1609" b="1512"/>
          <a:stretch/>
        </p:blipFill>
        <p:spPr>
          <a:xfrm>
            <a:off x="5943600" y="1600200"/>
            <a:ext cx="2743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562720" cy="5268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620120" y="601992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presentative Resected Hea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197000" y="1176480"/>
            <a:ext cx="6918480" cy="5271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290080" y="6002280"/>
            <a:ext cx="853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courtes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r. Copel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4341960" cy="54835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086600" y="64008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362320" y="1066680"/>
            <a:ext cx="4003560" cy="51246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613560" y="6132600"/>
            <a:ext cx="1539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19920" y="6002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6883560" cy="4562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010280" y="6172200"/>
            <a:ext cx="192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590920" y="914400"/>
            <a:ext cx="4029120" cy="56944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918480" y="6056280"/>
            <a:ext cx="199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urtesy SynCard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20:30:28Z</dcterms:created>
  <dc:creator>cmarcot</dc:creator>
  <dc:description/>
  <dc:language>en-US</dc:language>
  <cp:lastModifiedBy>cmarcot</cp:lastModifiedBy>
  <dcterms:modified xsi:type="dcterms:W3CDTF">2007-10-05T18:55:02Z</dcterms:modified>
  <cp:revision>10</cp:revision>
  <dc:subject/>
  <dc:title>Slide 1</dc:title>
</cp:coreProperties>
</file>