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949-371F-4529-A6D4-9C36EF7C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182-32CC-4FC1-B743-48D733C5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C94-C9C5-44D4-9704-332BB55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45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9920" y="383904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031-1A29-4E04-B859-DE8CD3CE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55D-68D8-44E1-921A-8E6217A5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84D-7276-4C9D-B8A1-02332002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076-F399-4278-B91B-E010FC1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EB4-57CA-487E-AA34-5119A72C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001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290-7EF1-4460-BD8D-83687CF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58E-0A09-4581-8CF4-D17B32C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8800" y="38390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B3D5-E950-4DBD-9A93-C6B4BDE9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83904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51A-B63A-43CE-B992-797CE368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4876920"/>
          </a:xfrm>
          <a:prstGeom prst="rect">
            <a:avLst/>
          </a:prstGeom>
          <a:gradFill rotWithShape="0">
            <a:gsLst>
              <a:gs pos="0">
                <a:srgbClr val="5e5e46"/>
              </a:gs>
              <a:gs pos="100000">
                <a:srgbClr val="cc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1143000"/>
            <a:ext cx="8229600" cy="182520"/>
            <a:chOff x="457200" y="1143000"/>
            <a:chExt cx="8229600" cy="182520"/>
          </a:xfrm>
        </p:grpSpPr>
        <p:sp>
          <p:nvSpPr>
            <p:cNvPr id="2" name=""/>
            <p:cNvSpPr/>
            <p:nvPr/>
          </p:nvSpPr>
          <p:spPr>
            <a:xfrm>
              <a:off x="6874560" y="1143000"/>
              <a:ext cx="1811880" cy="182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1219320"/>
              <a:ext cx="8229600" cy="0"/>
            </a:xfrm>
            <a:prstGeom prst="line">
              <a:avLst/>
            </a:prstGeom>
            <a:ln w="1908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0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320" y="63241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C05E-06CD-4CEE-9195-E71878AD01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"/>
              </a:rPr>
              <a:t>ICD-9-CM Procedure Code for Anular Repair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4267080"/>
            <a:ext cx="487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Neurosurgery          Greater Baltimore Medica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D-9-CM Coding &amp; Maintenance Committee September 27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665-3FF3-43B4-9C41-3B86D7AA8C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e-operations and improve patient outcome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ng nucleus material from re-extrudin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inflammation and scar formatio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,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ing less extensive disc remov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21957" t="39335" r="32211" b="32222"/>
          <a:stretch/>
        </p:blipFill>
        <p:spPr>
          <a:xfrm>
            <a:off x="2971800" y="3124080"/>
            <a:ext cx="3048120" cy="232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Why Repair the Anulus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5781600"/>
            <a:ext cx="89154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wakami M, et al. The Role of Phospholipase A2 and Nitric Oxide in Pain-Related Behavior Produced by an Allograft of Intervertebral Disc Material to the Sciatic Nerve of the Rat. Spine 22(10):1074-1079, 199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arker K, et al. Pathogenesis of Sciatic Pain: Role of Herniated Nucleus Pulposus and Deformation of Spinal Nerve Root and Dorsal Root Ganglion. Pain 78(2):99-105, 1998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ragee et al.  A Prospective Controlled Study of Limited Versus Subtotal Posterior Discectomy:  Short-Term Outcomes in Patients with Herniated Lumbar Intervertebral Discs and Large Posterior Anular Defect.  Spine 2006: 31:  pp653-657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6E3-03E8-4D5D-8D1D-A0233A9A41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Current Procedure Op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739880" cy="1752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752480" cy="167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rcRect l="8627" t="25790" r="29001" b="8864"/>
          <a:stretch/>
        </p:blipFill>
        <p:spPr>
          <a:xfrm>
            <a:off x="6629400" y="1447920"/>
            <a:ext cx="1752480" cy="145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B2BF-E50F-40E7-B4F6-2D88D2043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Microsurgical Suture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9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ly difficult and time consuming (approx 45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often achieves closure with two or three 4-0 absorbable sutures with manual knot t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cial autograft may be used to augment the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 human clinical data has shown a 68% reduction in reop rates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3009960" cy="246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457200" y="6172200"/>
            <a:ext cx="8283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, JC. Chapter 11. Microsurgical Anular Reconstruction (Anuloplasty) Following Lumbar Microdiscectomy: pp 155-177 . In: Spinal Arthroplasty; A New Era in Spine Care, Guyer RD, editor. St. Louis MO: Quality Medical Publishing, 2005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486-3EAB-491A-8B35-3F8EA65583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oft Tissue Re-Approximation Repair with Tension Band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is re-approximated with the use of Tension Band System consisting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T-anc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on 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llows for easier and more efficient repair than microsurgical sut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1746000" cy="1854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24480" y="3809880"/>
            <a:ext cx="2163960" cy="228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43800" y="3886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-Anch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584120" y="4133880"/>
            <a:ext cx="1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41911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5791320"/>
            <a:ext cx="144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nsion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934320" y="52574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934320" y="54864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76B-DF96-40DC-A8A4-5F89A87640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rgical Mesh Repai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49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6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System consist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ester (PET)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hor band assemb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 delivery tools facilitate placement and inser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system allows for repair of larger size defects than microsurgical suturing or tension band re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68480" cy="2892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4B8-46E8-4C95-BA6F-42A9B1FAC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ular repair following lumbar discectomy is a worthwhile procedure to improve patient outc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 by using various procedur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4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ique ICD-9-CM procedure code(s) exist to report use of instruments and insertion of devices to repair the anulus fibr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8EE-9564-42C4-9BC9-9C47F1B97B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3619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205-2B1A-4388-9B15-5016B3A5C9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Speaker Background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nald Davis, MD, F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nder of Baltimore Neurosurgical Associates, Baltimore, M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ef of Neurosurgery at Greater Baltimore Medical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ulty Member at John Hopkins School of Medicine and University of Maryl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llow of the American College of Surge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plomate of the American Board of Surg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D9B-98B5-4B94-8B09-298189813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Anular Repair Application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ubmitted by David Wong, M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pedic Spine Surgeon, Denver 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 President, North American Spine Society (N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code creation to report repair of the anulus fibrosus with graft or prosthesis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urgical suture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tissue re-approximation repair with tension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mesh re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B35-CFE3-44BF-A74A-A1B241EB13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Issue 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181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ular Repa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bar discectomy surgery is performed to remove a herniated disc of the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ly, an open pathway was left in the anulus following discectomy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, surgeons are beginning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ng Iss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codes exist for discectomy, there is no unique code(s) to report use of instruments and insertion of devices to repair the anulus fibro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9660" t="24720" r="19611" b="23596"/>
          <a:stretch/>
        </p:blipFill>
        <p:spPr>
          <a:xfrm>
            <a:off x="6172200" y="1981080"/>
            <a:ext cx="2654280" cy="2772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655-AB2E-4CE9-93D2-C4FF90444A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 Anatom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c is Compri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cleus Pulp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oft, gel-like inner sub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ulus Fibro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ugh, outer ring that contains the nucleus pulp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635" t="20337" r="15139" b="20337"/>
          <a:stretch/>
        </p:blipFill>
        <p:spPr>
          <a:xfrm>
            <a:off x="5410080" y="1828800"/>
            <a:ext cx="3200400" cy="3139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D0A-D50A-4BEC-9E95-BE883AF5F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Herniated Disc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niated Dis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ture or protrusion in anulus fibro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 compresses nerve root causing p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7867" t="17336" r="20728" b="36111"/>
          <a:stretch/>
        </p:blipFill>
        <p:spPr>
          <a:xfrm>
            <a:off x="5257800" y="1828800"/>
            <a:ext cx="3279600" cy="305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D92-9CFE-4C5D-965D-FFF1BA3DEB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Background – Lumbar Discectomy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2674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procedure to remove a herniated di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ly performed spinal surg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UP data shows majority of procedures performed in the inpatient hospital setting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8955" t="24524" r="30015" b="29733"/>
          <a:stretch/>
        </p:blipFill>
        <p:spPr>
          <a:xfrm>
            <a:off x="5562720" y="1676520"/>
            <a:ext cx="2909880" cy="3198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28600" y="617148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en &amp; Anders, Ltd (2002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576-869C-43BE-8AEF-8043FD75E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Arial"/>
              </a:rPr>
              <a:t>Discectomy Clinical Outcom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bar discectomy surgery is a well accepted procedure with a proven track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still room for improved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8% of patients continue to suffer from back or leg pain following discectomy surgery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,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patients either continue with conservative treatment or require a re-ope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942880"/>
            <a:ext cx="7010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upasis et al.  Seven-to-20-Year Outcome of Lumbar Discectomy.  Spine 1999;24:  pp 2313-231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uthen et al.  Economic Impact of Improving Outcomes of Lumbar Discectomy.  Study presented at the 23rd Annual Meeting of the AANS/CNS Section on Disorders of the Spine and Peripheral Nerves.  Phoenix, AZ – March 200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0D6F-E124-49CA-9CCC-1562E789BB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ectomy Reoperation R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666880"/>
          <a:ext cx="7467480" cy="2081160"/>
        </p:xfrm>
        <a:graphic>
          <a:graphicData uri="http://schemas.openxmlformats.org/drawingml/2006/table">
            <a:tbl>
              <a:tblPr/>
              <a:tblGrid>
                <a:gridCol w="1366560"/>
                <a:gridCol w="1438560"/>
                <a:gridCol w="1422360"/>
                <a:gridCol w="1420560"/>
                <a:gridCol w="1819440"/>
              </a:tblGrid>
              <a:tr h="39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O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ati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, 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ington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r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 of M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6324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334120"/>
            <a:ext cx="8305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u R, et al.  A Population Based Study of Reoperations After Back Surgery. Spine 1997;22:2265-2271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alter A., et al.  5-Year Reoperation Rates After Different Types of Lumbar Surgery.  Spine 1998;23:814-820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S., et al.  Surgical and Nonsurgical Management of Sciatica Secondary to Lumbar Disc Herniation:  Five-Year Outcomes from the Maine Lumbar Spine Study.  Spine 2001;26:1179-118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sterman H., et al.  Risk of Multiple Reoperations After Lumbar Disecectomy: A Population Based Study.  Spine 2003;28:621-62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tlas et. al.  Long-Term Outcomes of Surgical and Nonsurgical Management of Sciatica to a Lumbar Herniation:  10 Year Results from the Maine Lumbar Spine Study.  Spine 2005;30:927-93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23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, published, population based studies report re-operation rate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9-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5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DE6-E376-4DBE-B66D-5875FD918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5:45:13Z</dcterms:created>
  <dc:creator> </dc:creator>
  <dc:description/>
  <dc:language>en-US</dc:language>
  <cp:lastModifiedBy> </cp:lastModifiedBy>
  <dcterms:modified xsi:type="dcterms:W3CDTF">2007-09-11T18:46:16Z</dcterms:modified>
  <cp:revision>100</cp:revision>
  <dc:subject/>
  <dc:title>Lumbar Discectomy:  New Surgical Advances  Dr.__________ Hospital________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6147188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