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817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329-BEB9-40BB-A703-861DEF20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86960" y="37771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2DC-F03B-41A2-AD96-35A79BC1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32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810-A722-4B1B-8793-462525E5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644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5560" y="12697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8696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644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5560" y="3777120"/>
            <a:ext cx="2465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68C-F31D-4692-8F2C-F58B7550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C07-AE1A-4E23-BB86-238F1180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512-6E51-425B-8C1E-EF6D7D6C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58C-DF5B-4936-A921-31608BDC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BAF-1A9C-4231-94AD-B1FF58B7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2520"/>
            <a:ext cx="777240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F91-E32C-4947-B5C3-991B80D0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ADF-798B-40E5-BE67-63CB5DE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320" y="37771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9A4-B3F9-4E7B-B1FB-99D14BC6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320" y="1269720"/>
            <a:ext cx="3737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86960" y="3777120"/>
            <a:ext cx="7658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A69-0246-4EE4-B3A0-29BC2E9F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2" marL="1257480" indent="-34308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4" marL="2006640" indent="-177840">
              <a:lnSpc>
                <a:spcPct val="95000"/>
              </a:lnSpc>
              <a:spcBef>
                <a:spcPts val="499"/>
              </a:spcBef>
              <a:buClr>
                <a:srgbClr val="1245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5" marL="2006640" indent="-177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6" marL="2006640" indent="-177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04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1920" y="6235560"/>
            <a:ext cx="82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5667-6E51-43EC-9E32-48F889E69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11400"/>
            <a:ext cx="7772400" cy="6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24574"/>
                </a:solidFill>
                <a:latin typeface="Arial"/>
              </a:rPr>
              <a:t>Colon Diseases</a:t>
            </a:r>
            <a:endParaRPr b="0" lang="en-US" sz="40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Diverticular disease / diverticuliti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Ulcerative Coliti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Chrohns disease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Polyp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Trauma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Volvulu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4120" y="1945800"/>
            <a:ext cx="6334200" cy="14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24574"/>
                </a:solidFill>
                <a:latin typeface="Arial"/>
              </a:rPr>
              <a:t>Heralding the Comparisons </a:t>
            </a:r>
            <a:br>
              <a:rPr sz="3600"/>
            </a:br>
            <a:r>
              <a:rPr b="0" lang="en-US" sz="3600" spc="-1" strike="noStrike">
                <a:solidFill>
                  <a:srgbClr val="124574"/>
                </a:solidFill>
                <a:latin typeface="Arial"/>
              </a:rPr>
              <a:t>of Minimally Invasive and Open Colon Surgery</a:t>
            </a:r>
            <a:endParaRPr b="0" lang="en-US" sz="36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Referring Physicians Already Know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Minimally invasive colon surgery is a patient-friendly option with meaningful advantages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scarring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pain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Less recovery time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Referring Physicians Need To Know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4343"/>
                </a:solidFill>
                <a:latin typeface="Arial"/>
              </a:rPr>
              <a:t>Numerous advantages of minimally invasive surgery (MIS) for colon cancer </a:t>
            </a:r>
            <a:endParaRPr b="0" lang="en-US" sz="20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Equal oncological clearance to open colectomy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Fewer complications of wound infection, anastomotic leak, etc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Greater range of patients than previously thought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349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4343"/>
                </a:solidFill>
                <a:latin typeface="Arial"/>
              </a:rPr>
              <a:t>Patient-friendly (shorter hospital stay, less pain, etc)</a:t>
            </a: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Efficacy comparisons via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COST Trial – 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At 3 years, rates of recurrence were similar: 16% MIS and 18% open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32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Recurrence rates in surgical wounds were less than 1% in both</a:t>
            </a: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50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At 3 years, overall survival rates was similar in both groups: 86% MIS and 85% open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51, 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Barcelona Trial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MIS associated with reduced risk of tumor relap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07,95% CI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Overall Survival - MIS associated with reduced risk of death from any cau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22)</a:t>
            </a: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187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Cancer Survival - MIS associated with reduced risk death from a cancer-related cause 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434343"/>
                </a:solidFill>
                <a:latin typeface="Arial"/>
              </a:rPr>
              <a:t>=.03)</a:t>
            </a:r>
            <a:endParaRPr b="0" lang="en-US" sz="1000" spc="-1" strike="noStrike">
              <a:solidFill>
                <a:srgbClr val="434343"/>
              </a:solidFill>
              <a:latin typeface="Arial"/>
            </a:endParaRPr>
          </a:p>
          <a:p>
            <a:pPr lvl="1" marL="671760" indent="-22392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COLOR Trial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Postoperative exam showed no differences between resected samples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No difference in morbidity/mortality 28 days after colectomy according to location of resection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Elderly patients were not excluded from trial </a:t>
            </a:r>
            <a:br>
              <a:rPr sz="1400"/>
            </a:b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(median age=71)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  <a:p>
            <a:pPr lvl="2" marL="1232280" indent="-335880">
              <a:lnSpc>
                <a:spcPct val="100000"/>
              </a:lnSpc>
              <a:spcBef>
                <a:spcPts val="264"/>
              </a:spcBef>
              <a:buClr>
                <a:srgbClr val="124574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34343"/>
                </a:solidFill>
                <a:latin typeface="Arial"/>
              </a:rPr>
              <a:t>Obesity no longer regarded as contraindication</a:t>
            </a:r>
            <a:endParaRPr b="0" lang="en-US" sz="14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M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inimally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I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nvasive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C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olorectal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R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esection </a:t>
            </a:r>
            <a:r>
              <a:rPr b="1" lang="en-US" sz="2800" spc="-1" strike="noStrike">
                <a:solidFill>
                  <a:srgbClr val="124574"/>
                </a:solidFill>
                <a:latin typeface="FranklinGothic-Demi"/>
              </a:rPr>
              <a:t>O</a:t>
            </a:r>
            <a:r>
              <a:rPr b="0" lang="en-US" sz="2800" spc="-1" strike="noStrike">
                <a:solidFill>
                  <a:srgbClr val="124574"/>
                </a:solidFill>
                <a:latin typeface="FranklinGothic-Demi"/>
              </a:rPr>
              <a:t>utcomes</a:t>
            </a:r>
            <a:r>
              <a:rPr b="0" lang="en-US" sz="2400" spc="-1" strike="noStrike">
                <a:solidFill>
                  <a:srgbClr val="124574"/>
                </a:solidFill>
                <a:latin typeface="FranklinGothic-Demi"/>
              </a:rPr>
              <a:t>: Short-term Comparison with Open Procedures: </a:t>
            </a:r>
            <a:r>
              <a:rPr b="0" lang="en-US" sz="2000" spc="-1" strike="noStrike">
                <a:solidFill>
                  <a:srgbClr val="124574"/>
                </a:solidFill>
                <a:latin typeface="FranklinGothic-Demi"/>
              </a:rPr>
              <a:t>MICRO Review</a:t>
            </a:r>
            <a:br>
              <a:rPr sz="2000"/>
            </a:br>
            <a:endParaRPr b="0" lang="en-US" sz="20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Minimally invasive colon surgery means fewer intraoperative and perioperative complications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lower rates of wound infection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&lt;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Lower rates of anastomotic leak and venous thromboembolism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Lower rates of cardiac events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Despite minimally invasive colon surgery requiring longer surgical time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smaller incisions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Significantly less blood loss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Fewer transfusions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51"/>
              </a:spcBef>
              <a:buSzPct val="108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Arial"/>
              </a:rPr>
              <a:t>Mean GI recovery times were faster for minimally invasive colon surgery than open surgery:</a:t>
            </a:r>
            <a:endParaRPr b="0" lang="en-US" sz="18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First bowel movement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Time to oral intake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12"/>
              </a:spcBef>
              <a:buClr>
                <a:srgbClr val="124574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Time to normal diet (</a:t>
            </a:r>
            <a:r>
              <a:rPr b="0" i="1" lang="en-US" sz="1700" spc="-1" strike="noStrike">
                <a:solidFill>
                  <a:srgbClr val="434343"/>
                </a:solidFill>
                <a:latin typeface="Arial"/>
              </a:rPr>
              <a:t>P</a:t>
            </a:r>
            <a:r>
              <a:rPr b="0" lang="en-US" sz="1700" spc="-1" strike="noStrike">
                <a:solidFill>
                  <a:srgbClr val="434343"/>
                </a:solidFill>
                <a:latin typeface="Arial"/>
              </a:rPr>
              <a:t>=.001)</a:t>
            </a:r>
            <a:endParaRPr b="0" lang="en-US" sz="17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400"/>
              </a:spcBef>
              <a:buSzPct val="12234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Benefits consistent across all conditions </a:t>
            </a:r>
            <a:br>
              <a:rPr sz="1600"/>
            </a:br>
            <a:r>
              <a:rPr b="0" lang="en-US" sz="1600" spc="-1" strike="noStrike">
                <a:solidFill>
                  <a:srgbClr val="434343"/>
                </a:solidFill>
                <a:latin typeface="Arial"/>
              </a:rPr>
              <a:t>(cancer, IBD, diverticular disease)</a:t>
            </a: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Colon Surgery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Abdominal Incision 6-10 inche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Wound edges held apart to allow access to abdominal contents.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Portion of diseased colon mobilized and resected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43"/>
                </a:solidFill>
                <a:latin typeface="Arial"/>
              </a:rPr>
              <a:t>After operation completed abdominal wound is closed with sutures</a:t>
            </a: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Laparoscopic Colon Surgery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86960" y="126972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Abdomen insufflated with CO2 gas to create working space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Trocars placed to allow camera and instrument insertion into the abdomen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Operation performed by viewing on video monitor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Diseased colon mobilized and removed through small abdominal incision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After operation completed small incisions closed with suture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43"/>
                </a:solidFill>
                <a:latin typeface="Arial"/>
              </a:rPr>
              <a:t>See video / pictures</a:t>
            </a: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  <a:p>
            <a:pPr marL="2919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43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v. Lap Colectomy Video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Open Colon / Video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Lap Colon Set Up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Anastomosis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Stapler on Colon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625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4574"/>
                </a:solidFill>
                <a:latin typeface="Arial"/>
              </a:rPr>
              <a:t>Stapled Colon</a:t>
            </a:r>
            <a:endParaRPr b="0" lang="en-US" sz="3200" spc="-1" strike="noStrike">
              <a:solidFill>
                <a:srgbClr val="124574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L06-1457.3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7:33:32Z</dcterms:created>
  <dc:creator>John Hart</dc:creator>
  <dc:description/>
  <dc:language>en-US</dc:language>
  <cp:lastModifiedBy>MMoore2</cp:lastModifiedBy>
  <dcterms:modified xsi:type="dcterms:W3CDTF">2007-09-24T21:18:45Z</dcterms:modified>
  <cp:revision>96</cp:revision>
  <dc:subject/>
  <dc:title>Comparison of Short-term Outcomes for Minimally Invasive versus Open Surgery for Colorectal Resection:  A Systematic Literature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76019270</vt:r8>
  </property>
  <property fmtid="{D5CDD505-2E9C-101B-9397-08002B2CF9AE}" pid="3" name="_AuthorEmail">
    <vt:lpwstr>Marilu.Hue@cms.hhs.gov</vt:lpwstr>
  </property>
  <property fmtid="{D5CDD505-2E9C-101B-9397-08002B2CF9AE}" pid="4" name="_AuthorEmailDisplayName">
    <vt:lpwstr>Hue, Marilu (CMS/CMM)</vt:lpwstr>
  </property>
  <property fmtid="{D5CDD505-2E9C-101B-9397-08002B2CF9AE}" pid="5" name="_EmailSubject">
    <vt:lpwstr/>
  </property>
  <property fmtid="{D5CDD505-2E9C-101B-9397-08002B2CF9AE}" pid="6" name="_NewReviewCycle">
    <vt:lpwstr/>
  </property>
</Properties>
</file>