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0D76C-85F0-4F60-9D1D-BBEBD33AC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22BD3-5EB0-45FE-A08B-6CEDE48D2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F64E2-824E-4999-ADBB-5CBDCB06E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3C672-0FAD-4184-9F86-B0B5411AA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B9780-1A02-43A6-8925-C318820A9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DA7B9-988B-4899-8E3E-CFA84D19D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F03CF-DAFA-4EDD-958A-4AE314201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18E59-6C99-4C85-AA43-5FABEF46B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DF1A4-D8EB-4189-8D11-A18625554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38507-5CF9-4084-9B06-9DF271A9E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362E6-28B2-4565-A4A1-4AA257925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F5E65-7DB4-469C-B8F4-2DE4A98FA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C6C3-33CC-431F-BF23-1C4DE082C4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ms.hhs.gov/AcuteInpatientPPS/FFD/itemdetail.asp?filterType=none&amp;filterByDID=-99&amp;sortByDID=2&amp;sortOrder=ascending&amp;itemID=CMS1201740&amp;intNumPerPage=10"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cms.hhs.gov/quarterlyproviderupdates/downloads/cms1533fc.pdf" TargetMode="External"/><Relationship Id="rId2" Type="http://schemas.openxmlformats.org/officeDocument/2006/relationships/hyperlink" Target="http://www.cms.hhs.gov/MLNMattersArticles/downloads/MM5499.pdf" TargetMode="External"/><Relationship Id="rId3" Type="http://schemas.openxmlformats.org/officeDocument/2006/relationships/hyperlink" Target="http://www.cdc.gov/nchs/datawh/ftpserv/ftpicd9/ftpicd9.ht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5001(c) of Deficit Reduction Act  (DRA) requires Secretary to select at least two conditions by 10/1/07 that 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igh cost or high volume or bo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ssigned to a higher paying DRG when present as a secondary diagnos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Reasonably preventable through application of evidence based guidelin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22B5EE7-772E-4605-8F4C-B9CA4E64CF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K3 segment reads as follow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OAYNUW1YZ” - Represents claim with 1 principal and 5 secondary diagnoses (6 PO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POA (Y) and 5 secondary POAs ar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POA (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known if POA (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ly undetermined (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t from reporting (1)</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 (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indicates the end of the POA data element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8222B01-7E7B-4D71-B743-C90A66FB61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Hospital-acquired conditions (HACs) for 10/1/08 implementation</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eventable event – object left in surger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8.4 - CC</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eventable event - air embolism</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9.1 - MCC</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preventable event- blood incompatibilit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9.6 - CC</a:t>
            </a: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heter associated urinary tract infection</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96.64 &amp; 599.0 – CCs</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A2508EE-3046-4066-A8D4-486DA5C8C6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HACs for 10/1/08 implementation - continued</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ulcers</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7.00, 707.01, &amp; 707.09 – CC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7.02 – 707.07 - MCCs</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scular catheter associated infection</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9.31- CC</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ical site infection – Mediastinitis after CABG</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9.2 - MCC &amp; 36.10 – 36.19</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ls – specific trauma cod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cms.hhs.gov/AcuteInpatientPPS/FFD/itemdetail.asp?filterType=none&amp;filterByDID=-99&amp;sortByDID=2&amp;sortOrder=ascending&amp;itemID=CMS1201740&amp;intNumPerPage=10</a:t>
            </a:r>
            <a:r>
              <a:rPr b="0" lang="en-US" sz="2400" spc="-1" strike="noStrike">
                <a:solidFill>
                  <a:srgbClr val="000000"/>
                </a:solidFill>
                <a:latin typeface="Arial"/>
              </a:rPr>
              <a:t> - MCC &amp; CC</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F6240B8-831B-4EA9-9216-8CAA950E9F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dditional HAC possibilities for 10/1/08</a:t>
            </a:r>
            <a:endParaRPr b="0" lang="en-US" sz="32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tilator associated pneumonia – working to create new code</a:t>
            </a:r>
            <a:endParaRPr b="0" lang="en-US" sz="24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hylococcus aureus septicemia – need to clarify instances when preventable</a:t>
            </a:r>
            <a:endParaRPr b="0" lang="en-US" sz="24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38.11 + 995.91, 998.59, 999.3 - MCCs</a:t>
            </a:r>
            <a:endParaRPr b="0" lang="en-US" sz="2000" spc="-1" strike="noStrike">
              <a:solidFill>
                <a:srgbClr val="000000"/>
              </a:solidFill>
              <a:latin typeface="Arial"/>
            </a:endParaRPr>
          </a:p>
          <a:p>
            <a:pPr lvl="2" marL="1371600" indent="-45720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vein thrombosis (DVT) and pulmonary embolism (PE) – need to identify instances when preventable, such as after certain elective surgeries</a:t>
            </a:r>
            <a:endParaRPr b="0" lang="en-US" sz="24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T: 453.40 – 453.42 – CC</a:t>
            </a:r>
            <a:endParaRPr b="0" lang="en-US" sz="2000" spc="-1" strike="noStrike">
              <a:solidFill>
                <a:srgbClr val="000000"/>
              </a:solidFill>
              <a:latin typeface="Arial"/>
            </a:endParaRPr>
          </a:p>
          <a:p>
            <a:pPr lvl="3" marL="175248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 415.10 &amp; 415.19 - MCC</a:t>
            </a:r>
            <a:endParaRPr b="0" lang="en-US" sz="2000" spc="-1" strike="noStrike">
              <a:solidFill>
                <a:srgbClr val="000000"/>
              </a:solidFill>
              <a:latin typeface="Arial"/>
            </a:endParaRPr>
          </a:p>
          <a:p>
            <a:pPr lvl="2" marL="13716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C0F13D9-787B-4F20-9AA6-D261622655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cited input from the industry on better defining these condi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solicited additional areas for sel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to examine other area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tridium Difficile-Associated Disease (CDAD) 008.45 – CC.  Lack of prevention guidelin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icillin-Resistant Staphyloccocus Aureus (MRS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09.0 – not a CC</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discuss further in the IPPS proposed rule for FY 2009</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8703296-3625-46E2-BD8A-6B5EA6BC6D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informa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PS final rule - </a:t>
            </a:r>
            <a:r>
              <a:rPr b="0" lang="en-US" sz="2800" spc="-1" strike="noStrike" u="sng">
                <a:solidFill>
                  <a:srgbClr val="009999"/>
                </a:solidFill>
                <a:uFillTx/>
                <a:latin typeface="Arial"/>
                <a:hlinkClick r:id="rId1"/>
              </a:rPr>
              <a:t>http://www.cms.hhs.gov/quarterlyproviderupdates/downloads/cms1533fc.pdf</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 acquired conditions – page 47200</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LN Matters – POA inform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cms.hhs.gov/MLNMattersArticles/downloads/MM5499.pd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A guidelines- ICD-9CM Official Guidelines, p. 9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www.cdc.gov/nchs/datawh/ftpserv/ftpicd9/ftpicd9.htm</a:t>
            </a: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B56A417-4C4A-4C5B-A599-B544165D48DE}"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acquired condition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10/1/08, the conditions will not be assigned to higher paying DRG unless present on admission (PO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hospital-acquired condition is only MCC/CC then HAC will not lead to assignment to MCC/CC severity lev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ther secondary conditions reported which are MCC/CCs, then case would be assigned to higher severity leve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ischarges on or after 10/1/07 -hospitals begin submitting POA information on secondary diagno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es CAH, psych and rehab hospit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s only to acute IPPS hospital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4D9B6BB-57BB-4860-B90C-FCA3A2F854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 5499, dated May 11, 2007 gives requiremen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reporting POA for discharges on or after 10/1/07.  No penalty at fir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harges on or after 1/1/08 claims will be processed without POA; however, will get remark code in remittance advice noting omission of PO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harges on or after 4/1/08 – claim returned if POA info is miss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DA5980-3439-41DB-98A0-E7F78877E8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 5499, dated May 11, 2007 gives requir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data entry (DDE) screens cannot be updated to include this information until January 1, 2008</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hospitals submitting claims via DDE will begin submitting POA indicators on 1/1/08</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B136C67-9FFA-460B-89EF-B1FB21DD6D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ims submitted electronically via 837, 4010A1 format shall use </a:t>
            </a:r>
            <a:r>
              <a:rPr b="1" lang="en-US" sz="3200" spc="-1" strike="noStrike">
                <a:solidFill>
                  <a:srgbClr val="000000"/>
                </a:solidFill>
                <a:latin typeface="Arial"/>
              </a:rPr>
              <a:t>segment K3 in the 2300 loop, data element K3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element shall contain letters “POA”, followed by a single POA indicator for every diagnosis on the cla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A indicator for principal diagnosis should be first indicator after “PO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4976BCA-0F8B-4FB0-9088-E0A567BD62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diagnoses will follow, if applic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st POA indicator for principal and, if applicable, other diagnoses shall be followed by the letter “Z” to indicate the end of POA indicators for principal and, if applicable, other diagnos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5CA700A-B5C0-4903-8090-2BAA5A060A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A indicators should be reported in the same sequence as are the principal and secondary diagno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A indicators should be included for all diagnoses reported on the claim, even though CMS currently only processes the first 9 diagnos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6E52E0B-0026-4783-92EB-A10BDAD3E3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 on Admission Indicator</a:t>
            </a:r>
            <a:br>
              <a:rPr sz="4000"/>
            </a:br>
            <a:r>
              <a:rPr b="0" lang="en-US" sz="4000" spc="-1" strike="noStrike">
                <a:solidFill>
                  <a:srgbClr val="000000"/>
                </a:solidFill>
                <a:latin typeface="Arial"/>
              </a:rPr>
              <a:t>Paper Claim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10/1/07 hospitals reporting on UB-04 paper claims will also report POA indic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A is placed in the eighth digit of FL 67, Principal diagnosis and the eighth digit of each Secondary diagnosis in fields FL 67 A-Q</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68F9E8B-2AF5-4066-991F-7D9DBFAB86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on Admission Indicato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 - Yes (present at the time of inpatient ad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o (not present at the time of inpatient ad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 - Unknown (documentation is insufficient to determine if condition is present at time of inpatient admis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 – Clinically undetermined (provider is unable to clinically determine whether condition was present at time of inpatient admission or n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Unreported/Not used – Exempt from POA reporting (This code is the equivalent of a blank on the UB-04, but blanks are not desirable when submitting data via the 4010A1.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3F15785-DD96-4294-A491-F1A803D7E3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8:55:57Z</dcterms:created>
  <dc:creator>Pat Brooks</dc:creator>
  <dc:description/>
  <dc:language>en-US</dc:language>
  <cp:lastModifiedBy>MadyHue</cp:lastModifiedBy>
  <dcterms:modified xsi:type="dcterms:W3CDTF">2007-09-26T20:29:50Z</dcterms:modified>
  <cp:revision>28</cp:revision>
  <dc:subject/>
  <dc:title>MS-DRGs and other IPPS Iss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66472950</vt:r8>
  </property>
  <property fmtid="{D5CDD505-2E9C-101B-9397-08002B2CF9AE}" pid="3" name="_AuthorEmail">
    <vt:lpwstr>Marilu.Hue@cms.hhs.gov</vt:lpwstr>
  </property>
  <property fmtid="{D5CDD505-2E9C-101B-9397-08002B2CF9AE}" pid="4" name="_AuthorEmailDisplayName">
    <vt:lpwstr>Hue, Marilu (CMS/CMM)</vt:lpwstr>
  </property>
  <property fmtid="{D5CDD505-2E9C-101B-9397-08002B2CF9AE}" pid="5" name="_EmailSubject">
    <vt:lpwstr/>
  </property>
  <property fmtid="{D5CDD505-2E9C-101B-9397-08002B2CF9AE}" pid="6" name="_NewReviewCycle">
    <vt:lpwstr/>
  </property>
</Properties>
</file>