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A802EE-F29A-4043-9ACF-6EE594BB8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7F2126-916A-40A2-8C3B-804318F8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24600D-F430-49FB-96A9-44567F0F1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8437A0-1B5D-4DB1-A315-AB4CFB2A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A74DEC-2AC7-45E1-970A-766286D29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9A7878-18FA-478F-8D51-22BDCFEC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0EDD87-464D-4CB1-8396-73103F10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A14-F6D7-43AF-AB68-FA7175AC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163-BB95-4DC5-BA25-3045FD26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973-892C-4256-B21D-80B835A9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188-8C98-4C83-8A93-D9182D18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F8F-B8A3-4AA7-984B-A158EBB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199-0324-4A39-AB89-1BFF7AE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DDC-DE42-4F79-BA0B-48237EDD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287-7453-4525-8639-92045DE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66A0-0F4F-40D3-A915-405D9BCE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F5A-F54B-4539-81C8-A38B947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1DE-CD39-4D5A-AE4E-73E4258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4B4-0386-4E40-BC59-FF1C4A0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FAC-9FF3-435F-B8AD-5CA2984B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n P. Roddy, 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mber, Health Polic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 for Vascular Su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e Professor of Surgery, Albany Medical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217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lateral (recommen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ps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ed by endograft type, patient anatomy, vessel cond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gical 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267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1320" y="33804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8600"/>
            <a:ext cx="5181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ain bilateral guidewire ac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791320" y="203184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66688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main body of stent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91320" y="36338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3886200"/>
            <a:ext cx="45720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sert sheath on contralateral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spcBef>
                <a:spcPts val="45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se wire to locate g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791320" y="5234040"/>
            <a:ext cx="2286000" cy="154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56272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51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additional wire through contralateral sheath next to gate wire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1320" y="279360"/>
            <a:ext cx="2286000" cy="154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280"/>
            <a:ext cx="518184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commended surg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Insert sensor over guidewire through contralateral sheath and advance into sa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alibrate sensor and take first read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286000" cy="1555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981080"/>
            <a:ext cx="51055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Remove contralateral sheath over sensor catheter and gate wire, maintaining sensor position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troduce contralateral graft limb (or limb delivery sheath) over gate w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791320" y="3529080"/>
            <a:ext cx="2334960" cy="1576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3886200"/>
            <a:ext cx="5105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Deploy contralateral limb and fix g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Take final sensor read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91320" y="5181480"/>
            <a:ext cx="2361960" cy="1595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530680"/>
            <a:ext cx="5334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75000"/>
              </a:lnSpc>
              <a:spcBef>
                <a:spcPts val="4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  <a:ea typeface="Arial"/>
              </a:rPr>
              <a:t>Confirm sensor position, release sensor and remove sensor delivery c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 Documentatio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ian includes in dic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dure performed in operating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ment of pressure measurement se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external electronic monitoring equipment to measure pressure/verify appropriate placement of g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a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 ICD-9-CM codes for placement of a pressure measurement sensor and monitoring intra-arterial pressure during endovascular repair of an aneurysm creates ongoing data issu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track procedures clearly in the encod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differentiate EVAR procedures that use pressure measurement sen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bility to review and analyze data specific to these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asurement of Intra-sac Pressure in an Aneurysm Following EV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ortic Aneury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when a weak area of the aorta expands or bul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dominal Aortic Aneurysm (A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oracic Aortic Aneurysm (TA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65,000 aneurysms repaired an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potential trea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en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ovascular aneurysm re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27950" t="0" r="0" b="0"/>
          <a:stretch/>
        </p:blipFill>
        <p:spPr>
          <a:xfrm>
            <a:off x="5607000" y="1905120"/>
            <a:ext cx="3156120" cy="35049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vascular Aneurysm Repair (EV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R accounts for the majority of aneurysm repair surg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complications / morbidity vs. open surgical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tial EVAR co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ol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ft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12501" t="0" r="6249" b="0"/>
          <a:stretch/>
        </p:blipFill>
        <p:spPr>
          <a:xfrm>
            <a:off x="4495680" y="2133720"/>
            <a:ext cx="434340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98120" y="510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04800" y="960480"/>
            <a:ext cx="212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76280" y="1473120"/>
          <a:ext cx="8439120" cy="820800"/>
        </p:xfrm>
        <a:graphic>
          <a:graphicData uri="http://schemas.openxmlformats.org/drawingml/2006/table">
            <a:tbl>
              <a:tblPr/>
              <a:tblGrid>
                <a:gridCol w="2084400"/>
                <a:gridCol w="2084400"/>
                <a:gridCol w="2084400"/>
                <a:gridCol w="2185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adequate Se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llateral Ves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lodged or Torn Lim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abric Weep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doleaks – The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609588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. Ohki, M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22960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raining 30" descr=""/>
          <p:cNvPicPr/>
          <p:nvPr/>
        </p:nvPicPr>
        <p:blipFill>
          <a:blip r:embed="rId2"/>
          <a:srcRect l="24143" t="0" r="24143" b="0"/>
          <a:stretch/>
        </p:blipFill>
        <p:spPr>
          <a:xfrm>
            <a:off x="1231920" y="2133720"/>
            <a:ext cx="2286000" cy="33145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31760"/>
            <a:ext cx="834876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ireless pressure sensors were recently introduced to help identify successful aneurysm exclusion following endovascular aneurysm repair (EVAR).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072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504880" y="2421000"/>
            <a:ext cx="384120" cy="1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98760" y="4708440"/>
            <a:ext cx="318960" cy="21600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284560" y="5105160"/>
            <a:ext cx="318960" cy="21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1828800"/>
            <a:ext cx="16160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roxim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920" y="4305240"/>
            <a:ext cx="140184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istal S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819520" y="5334120"/>
            <a:ext cx="380880" cy="3045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5715000"/>
            <a:ext cx="204804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Entry site of Cath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1600200"/>
            <a:ext cx="4267080" cy="5063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leared by FDA in November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ngiography/CTA provide images which are not definitive about the existence, location or type of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afety – radiation, contrast tox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nconvenience (every 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easuring sac pressure provides evidence for successful aneurysm exclusion which should translate into long-term graft stability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reharne, et al.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ffffff"/>
                </a:solidFill>
                <a:latin typeface="Times New Roman"/>
                <a:ea typeface="ＭＳ Ｐゴシック"/>
              </a:rPr>
              <a:t>2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as et al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9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4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tra-arterial pressure sensor and electronic monitoring equi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11292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687920" y="2209680"/>
            <a:ext cx="2386080" cy="24400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364440" y="3352680"/>
            <a:ext cx="2093760" cy="31244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Intra-Sac Press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a-arterial pressure sensors are indicated for measuring intra-sac pressure during endovascular abdominal aortic aneurysm (AAA) repair or thoracic aortic aneurysm (TAA) rep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sure readings taken during the EVAR 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-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nsor 11C013526 Implant(rev1)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91520" cy="5545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25760" y="1812960"/>
            <a:ext cx="28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Arial"/>
              </a:rPr>
              <a:t>Pre Exclusion=70mmH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2860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Pre Balloon=17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909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Post Balloon=11mmH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82960" y="2147760"/>
            <a:ext cx="1440" cy="6717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814480"/>
            <a:ext cx="1440" cy="766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2971800"/>
            <a:ext cx="0" cy="735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tient Selection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, EVAR patients with higher risk anatomy or concern after deployment of the main body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etter data is collected, a broader indication may be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12:37Z</dcterms:created>
  <dc:creator>Pierre Gobin</dc:creator>
  <dc:description/>
  <dc:language>en-US</dc:language>
  <cp:lastModifiedBy>Amy</cp:lastModifiedBy>
  <dcterms:modified xsi:type="dcterms:W3CDTF">2007-10-04T15:08:07Z</dcterms:modified>
  <cp:revision>361</cp:revision>
  <dc:subject/>
  <dc:title>Mechanical Revascularization and Hypothermia: Potential for the Treatment of Ischemic Strok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4667958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