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A177-5084-4958-A748-9C82004A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85B3-D82B-4AA7-BA2F-0AAE1059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E1A-0FF3-41EB-A74D-8F3DD5E9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146D-C7BD-4074-A6B3-13B89F0F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9961-E034-4302-A5CB-9D885B37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E077-C3D7-48FF-8AFE-5F6B132F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8D98-ADB9-46F5-9CBC-41243908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80F8-A5E1-42CA-AE2B-E1251A83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C2C5-78E0-4FFA-ACAC-CFCAD093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8D80-66A5-48EA-A598-D700869D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D36C-6878-465B-8D78-AB72C82C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6BEB-4732-4962-9BDF-0BECB5D9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479D-C24E-4C31-938E-2848F3893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onda Butler, 3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Coordination &amp; Maintenanc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11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3672-A275-44EF-A3E0-0F9798A5B9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66680" y="2651040"/>
            <a:ext cx="7010640" cy="364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F00-06C1-45F6-9893-414D4FB91E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New” summary contains overview of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2389320"/>
            <a:ext cx="7543800" cy="38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6BD4-F865-492D-A282-95C56A4926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new values added in 2009 are parallel with new I-9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5639040" cy="4186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38280" y="5410080"/>
            <a:ext cx="457200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45C-D684-4FAC-813E-C0A9ABF58B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values are incorporated into the appropriate table(s) to create new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008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8458200" cy="17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6E5-B775-4F5F-B5A2-39ED94FA10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values are incorporated into the appropriate table(s) to create new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009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686800" cy="2281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95680" y="4648320"/>
            <a:ext cx="441972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0709-3B93-4498-9DA7-327D62112F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4114800" cy="23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or 2009, ICD-10-PCS Final Add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hensive report of codes added, deleted, and descriptions changed, in pdf and programmable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3298680"/>
            <a:ext cx="4267080" cy="241956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F3BB-FE10-4768-B0B4-2A4F199FC0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or 2009, ICD-10-PCS Body Par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domain reference to accompany PCS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d by both anatomical term and PCS bod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with public and Cooperating Parties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3880" y="3362400"/>
            <a:ext cx="5791320" cy="317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E3E9-4C7B-4178-B923-7359AAE67A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10 Updat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new c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rallel with ICD-9-CM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sponse to public requests to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 codes or change code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 improvements from internal review and public feedback to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 enhancements to code set and draft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sponse to public requests to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needed for clarity and ease of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AE0C-4A44-4735-9623-E28F1CC99F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21:16:58Z</dcterms:created>
  <dc:creator>3M HIS rb</dc:creator>
  <dc:description/>
  <dc:language>en-US</dc:language>
  <cp:lastModifiedBy>3M HIS rb</cp:lastModifiedBy>
  <dcterms:modified xsi:type="dcterms:W3CDTF">2009-03-02T14:24:48Z</dcterms:modified>
  <cp:revision>7</cp:revision>
  <dc:subject/>
  <dc:title>ICD-10-PCS Update</dc:title>
</cp:coreProperties>
</file>