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1A87-05CD-40D2-9BB9-BAE8961A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FDC3-2330-41D7-B50C-F688C441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7A9F-36E1-4841-89BB-D3ED4812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7BFD-A3C3-4C18-9996-22E806AC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5F00-33F9-41C8-B328-44E3F439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3A57-CBFB-4D58-9E10-E70E5F0C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FA65-C44F-48D8-958D-44D93F9C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038B-26E2-4180-A4C6-76101731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5828-27B4-4F50-8BF4-E066619F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49C8-587C-4407-BB1D-D40483CA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45DC-348D-47B2-A200-78A35EEE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CB9D-4EA4-4211-B9C8-232E0CC7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81EC-8F47-4C5A-BA13-0895C705DAC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F9F2-EB91-4331-85DA-B545C9182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F80C-9EC4-4DE1-BB62-281BA9EBC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Implement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 Brooks, R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cia.brooks2@cms.hhs.go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ior Technical Ad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pital and Ambulatory Policy Group, CMM,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FDC4-67E9-4983-A5C8-660520221D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versions of ICD-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-CM (diagno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ms.hhs.gov/ICD10/02m_2009_ICD_10_CM.asp#TopOf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-PCS (proced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ms.hhs.gov/ICD10/01m_2009_ICD10PCS.asp#TopOf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7D11-3532-4D2E-8147-97A5359732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A49F-DD5B-4099-A6CD-C6D58D3D4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9-CM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Diagnoses – used by all types of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-CM will 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Procedures – used only by inpatient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-PCS will 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Procedural Terminology (CPT) &amp; HCPCS– used for all ambulatory and physician procedure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being replaced by ICD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8474-82BE-4810-BD32-3EA16242623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BC9E-A943-4A5E-8313-7DAA5A855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9-CM is Outd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years old – technology has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ategories 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descriptive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AAEE-5870-4316-AA8B-6C95575573D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333A-E9C1-45E6-931C-EE50A0726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ries Using ICD-10 For Reimbursement or Case M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Kingdom (19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dic countries (Denmark, Finland, Iceland, Norway, Sweden) (1994 – 19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 (19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 (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gium (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(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 (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C198-B48C-4974-A53B-91B2C8250D1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2EE9-8502-40F8-9A0E-A110EEFB7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Differences - Diagno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has 3 – 5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s 1 – 17: all characters are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emental chapters: first digit is alpha (E or V), remainder are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6  Chronic airway obstruction not elsewhere classified (N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1.9  Unspecified pleural e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02.61  Hepatitis B 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5F1D-3439-49BD-9F81-8EAAE1287BD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D906-FB06-40F5-BBE8-7FBB3EF2F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Differences - Diagno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CM has 3 – 7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1 is alpha (A – Z, not case sensi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2 is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3 is alpha (not case sensitive) or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s 4 – 7 are alpha (not case sensitive) or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66  Ya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69.20  Lyme disease, unspecifi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9A.311  Physical abuse complicating pregnancy, first trimes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42.001A  Fracture of unspecified part of right clavicle, initial encounter for closed fra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E23A-5ADD-47DC-BA8C-D6A3A261A5D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24D5-C596-47F2-B8C9-96E9FF6DC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Differences -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has 3 – 4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4 digits are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.5  Partial gastrectomy with anastomosis to esopha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.42  Suture of duodenal ulcer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F15D-2665-4414-8481-62D5F3E22CE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E601-5231-4A93-9FE8-DC1686DF6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Differences -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PCS has 7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an be either alpha (not case sensitive) or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0 – 9 ar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ters O and I are not used to avoid confusion with numbers 0 an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B03ZX Excision of liver, percutaneous approach, diagno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DQ10ZZ  Repair, upper esophagus, ope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A58B-9FB3-44B4-A314-E45EF930B7A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of Codes –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,0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,0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,8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P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,58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4F3F-5739-4454-A5BF-0E9F179BDC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9/ICD-10 Code Mapp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equivalence mappings (G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to aid in converting applications and systems from I-9 to I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-directional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“finding and replacing” codes or lists of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BF5E-1BAE-4E0D-9632-2FE72F2E09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d January 16, 200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-0013-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docket.access.gpo.gov/2009/pdf/E9-743.pd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1, 2013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8B85-DC2E-43F3-832C-5A35E6BE6C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-directional Mapp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143000" y="2666880"/>
          <a:ext cx="6858000" cy="2209680"/>
        </p:xfrm>
        <a:graphic>
          <a:graphicData uri="http://schemas.openxmlformats.org/drawingml/2006/table">
            <a:tbl>
              <a:tblPr/>
              <a:tblGrid>
                <a:gridCol w="2466000"/>
                <a:gridCol w="2177640"/>
                <a:gridCol w="221436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9-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10-CM/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ward map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10-CM/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9-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ward map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E929-08BE-4193-BC30-B882A09C6B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GEMs to convert payment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S illustrated use of GEMS by developing ICD-10 version of MS-DR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with digestive MS-DRGs, Major Diagnostic Category (MDC 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results at September 24, 2008 ICD-9-CM Coordination &amp; Maintenance Committee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complete all MS-DRGS by October 1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71CE-19E9-4C31-A703-A353EF8DF6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 Conversion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d in I-9 or I-10, the same patient is assigned to the same MS-DR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 manual has familiar look and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DC 6, DISEASES &amp; DISORDERS OF THE 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0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lera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monella enterit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3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gellosis (6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4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bacterial intestinal infections (10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staphylococcal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Clostridium perfringens [Clostridium welchii]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3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Vibrio parahaemolytic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Bacillus cere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5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Vibrio vulnific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8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specified bacterial foodborne intox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terial foodborne intoxication, unspec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A764-70AE-49C4-89A0-06A34959F6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nd Repl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gnosis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266688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5 INFLAMMATORY BOWEL DISEASE W 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6 INFLAMMATORY BOWEL DISEASE W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7 INFLAMMATORY BOWEL DISEASE W/O CC/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0 Reg enteritis, sm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1 Reg enteritis, lg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2 Reg enterit sm/lg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9 Regional enteritis 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00040" y="1676160"/>
            <a:ext cx="57150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5 Inflammatory bowel disease w 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6 Inflammatory bowel disease w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7 Inflammatory bowel disease w/o CC/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unspecified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unspecified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1523880"/>
            <a:ext cx="2286000" cy="304920"/>
          </a:xfrm>
          <a:prstGeom prst="wedgeRectCallout">
            <a:avLst>
              <a:gd name="adj1" fmla="val 416"/>
              <a:gd name="adj2" fmla="val 40260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10-CM codes: 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2666880"/>
            <a:ext cx="1676160" cy="99072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replace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572000"/>
            <a:ext cx="2286000" cy="304920"/>
          </a:xfrm>
          <a:prstGeom prst="wedgeRectCallout">
            <a:avLst>
              <a:gd name="adj1" fmla="val -47361"/>
              <a:gd name="adj2" fmla="val -18177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9-CM codes: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5F95-76DE-44C1-9A3E-380DF06105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nd Repl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048120" cy="22096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ROOM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51 Lap periton adhesi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59 Oth periton adhesi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80920" y="1523880"/>
            <a:ext cx="541044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ng Room Procedures: 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E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E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5105520"/>
            <a:ext cx="2819160" cy="1447560"/>
          </a:xfrm>
          <a:prstGeom prst="wedgeRectCallout">
            <a:avLst>
              <a:gd name="adj1" fmla="val 64356"/>
              <a:gd name="adj2" fmla="val -1042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10-PCS codes: 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S root operation 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le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Freeing a body part from an external physical constra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191120"/>
            <a:ext cx="2286000" cy="304560"/>
          </a:xfrm>
          <a:prstGeom prst="wedgeRectCallout">
            <a:avLst>
              <a:gd name="adj1" fmla="val -41527"/>
              <a:gd name="adj2" fmla="val -20260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9-CM codes: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2666880"/>
            <a:ext cx="1676520" cy="9907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replace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AD24-717A-4D5D-AF7E-038B19B442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s Conversion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Ms produce 95% of the MDC 6 mapping without any need fo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maining 5% is based on MDC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review of the remaining MDCs is expected to steadily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rules derived for MDC 6 are applied to the remaining MDCs, fewer codes will need clinical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43000" y="1219320"/>
          <a:ext cx="6786720" cy="2401920"/>
        </p:xfrm>
        <a:graphic>
          <a:graphicData uri="http://schemas.openxmlformats.org/drawingml/2006/table">
            <a:tbl>
              <a:tblPr/>
              <a:tblGrid>
                <a:gridCol w="2819520"/>
                <a:gridCol w="1639800"/>
                <a:gridCol w="1671480"/>
                <a:gridCol w="6559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is cod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cod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unique lists in MS-DRG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s in MDC 6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-replaced by GEM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s in MDC 6 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-replaced by GEMs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ed by clinical revi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B6C9-A339-46EA-98E6-01B12532A8B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ly Broad I-9 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200 overly broad I-9 procedure codes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an I-9 procedure code be replaced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sociated PCS cod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ery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 I-9 code is lis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4343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ly Broad I-9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-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2.2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active elem im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.0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n &amp; subq incision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3.8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le or fascia g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1.9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pair of j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.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rthrotomy N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7.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 incis w/o div N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io oth non-cor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ture of ar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2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sc shunt &amp; bypass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.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 vessel biop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.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craniot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4.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 nerve incis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380880"/>
            <a:ext cx="1981440" cy="1524240"/>
          </a:xfrm>
          <a:prstGeom prst="wedgeRoundRectCallout">
            <a:avLst>
              <a:gd name="adj1" fmla="val 20032"/>
              <a:gd name="adj2" fmla="val 12135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cause PCS codes always specify body part, approach and device, 92.27 is associated with 261 PCS cod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3A95-F5EA-4883-B5EC-A1500E66354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 for I-9 Overly Broad 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the assignment of PCS codes associated with overly broad I-9 codes to anatomic sites corresponding to each M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C 6 Example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Gs 356, 357, 358 Other Digestive System O.R. Procedur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92.27 Implantation or Insertion of Radioactive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rocedure 92.27, only 10 of the 261 PCS codes are assigned to MDC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3429000"/>
            <a:ext cx="388620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MDC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DH571Z Insertion of Radioactive Element into Esophagus, Via Natural or Artificial Op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DHP81Z Insertion of Radioactive Element into Rectum, Via Natural or Artificial Opening Endosc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3429000"/>
            <a:ext cx="464832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emely Un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MDC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H0X1Z Insertion of Radioactive Element into Right Eye, External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BHL01Z Insertion of Radioactive Element into Left Lung, Ope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HHU31Z Insertion of Radioactive Element into Left Breast, Percutaneous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8054-551D-4113-801C-15A216659E3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-9 Code Conflicts 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li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an I-10 code is assigned to more than one I-9 c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-9 codes are assigned to different MS-DR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37339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09.89 Other specifi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heumatic he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eumatic disease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monary 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29200" y="2057040"/>
            <a:ext cx="36576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98.99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ther rheumatic he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DC 5 DRG 314,315,3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irculatory system diagnos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97.1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heumatic diseases of pulmonary va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DC 5 DRG 306,3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iac congenital &amp; valvular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3886200"/>
            <a:ext cx="2743200" cy="1676520"/>
          </a:xfrm>
          <a:prstGeom prst="wedgeRectCallout">
            <a:avLst>
              <a:gd name="adj1" fmla="val -45138"/>
              <a:gd name="adj2" fmla="val -230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09.89 combines the descriptions of two I-9 codes. All other rheumatic diseases of the heart currently classified have unique codes in ICD-10-CM, and according to frequency data I-9 code 398.99 is rarely u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5486400"/>
            <a:ext cx="2971800" cy="1143000"/>
          </a:xfrm>
          <a:prstGeom prst="wedgeRectCallout">
            <a:avLst>
              <a:gd name="adj1" fmla="val -1069"/>
              <a:gd name="adj2" fmla="val -162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resolve the conflict for I-10 code I09.89, the I-10 code is assigned to the I-9 code 397.1, which results in the most appropriate MS-DRG assig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BCE4-64A8-4AEE-B5BE-093E58C1D72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GEMs to convert payment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discuss progress at future C&amp;M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16, 17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for C&amp;M at http://www.cms.hhs.gov/apps/events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ICD-10 Grouper by October 2009, post by the end of 2009 on ICD-10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Grouper logic subject to rule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52BE-D7F7-4F5D-9764-44E7FC65EFD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date October 1,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date for all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of service for ambulatory &amp; physician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of discharge for inpatient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codes will not be accepted for services provided on or after October 1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claims for services prior to implementation date will continue to flow through systems for a perio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F023-AC4D-4BA0-9FFC-A53884DBDB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GEMs an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Reimbursement Ma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Ms are designed to aid in converting applications and systems from I-9 to I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ayers found the detail da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streamlined Reimbursement Mapping (one to one best ma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imbursement mappings would assist in a more simple conversion of codes for reimbursement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8432-BCF3-42A3-B91A-7381277D597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velopment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imbursement Ma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the I-10 to I-9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 I-10 code is translated to one I-9 code, no additional review i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% percent of the I-10 codes is translated to a single I-9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1-10 codes are translated to the same I-9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 I-10 code is translated to more than one I-9 code, historical I-9 code frequency data are used to determine the most commonly used I-9 code among the I-9 cod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par and California (for newborn and OB codes) data we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vast majority of cases there is a clear dominant code in terms of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are cases, clinical review is needed to make the final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5977-5818-415C-BBAD-A197BF7E8C9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Mapping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Ms and Reimbursement mappings were designed to be used by all providers, payers, and data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tools to assist in conver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publicly available on the CMS &amp; CDC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ontinue to update and maintain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D8C3-D84A-4FBE-8680-C9AACF4CA47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d on CMS ICD-10 website http://www.cms.hhs.gov/ICD10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Diagnosis GEMs and user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Procedure GEMs and user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Reimbursement map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 Digestive System MS-D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version of ICD-10-CM and PCS codes and official coding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CD-10 Upd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143D-4F2E-4B99-A363-AD372786313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reach an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worked collaboratively with AHA, AHIMA, and CDC (Cooperating Parties) on outreach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al resources at http://www.cms.hhs.gov/ICD10/05_Educational_Resources.asp#TopOf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DD88-FC2A-42E6-B1D5-45DA8DB456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reach an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es of ICD-10 Outreach calls prior to final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on calls posted at http://www.cms.hhs.gov/ICD10/07_Sponsored_Calls.asp#TopOf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pts of each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used in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AD69-1212-411A-832F-7D9547FF93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reach an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additional outreach efforts through collaboration with Cooperating Pa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on future educational outreach will be posted at http://www.cms.hhs.gov/ICD10/05_Educational_Resources.asp#TopOf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A, AHIMA, and others will also provide more detailed outreach and education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7055-1E4A-4139-B3E8-6A4AD8DD8B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 annu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on &amp; Maintenance Committee will continue to discuss updates to ICD-9-CM, ICD-10-CM, &amp; ICD-10-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updates on CMS &amp; CDC home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total codes changes with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23C9-F29C-41FF-BCA3-1690A1B733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 annu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name – ICD-10 Coordination &amp; Maintenance Committee upo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iscuss any need to freeze coding systems prior to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agenda item for September 16-17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ICD-10 and/or ICD-9-CM be frozen prior to implemen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hould the freeze beg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B2B2-9DAB-4DAA-A92A-BE35A523A7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available on CMS &amp; CDC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ICD-10-CM and PCS systems including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Equivalence Mappings (GEMs) between ICD-9-CM and ICD-10 (both w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guide for G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breviated Reimbursement Mapp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ICD-10 version of MS-D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205B-EC68-4F35-B3E6-6BD51B8574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9T13:27:58Z</dcterms:created>
  <dc:creator>Pat Brooks</dc:creator>
  <dc:description/>
  <cp:keywords>ICD-10-PCS</cp:keywords>
  <dc:language>en-US</dc:language>
  <cp:lastModifiedBy>3M HIS rb</cp:lastModifiedBy>
  <cp:lastPrinted>1999-04-09T13:25:34Z</cp:lastPrinted>
  <dcterms:modified xsi:type="dcterms:W3CDTF">2009-03-06T19:42:24Z</dcterms:modified>
  <cp:revision>117</cp:revision>
  <dc:subject>CPRI presentation</dc:subject>
  <dc:title>ICD-10-P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