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E22-B88B-4F3B-BC40-B6542695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78E-FCD9-45F4-90AF-1250249D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EAB-35A9-4D25-82CA-EE3324AE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84B-CFA0-4A82-A1A5-1132E206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B2E-1C33-4F77-ADEC-6BCC16A2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CD3-437D-4614-860D-4FE32893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DF4-BFCC-4F48-81EC-3F24A69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386-C4E3-4841-BD92-A99F69EF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078-FFCD-48DC-B6A9-6D49A437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318-E5E1-4235-B2A2-BDB402EF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686-A66D-4664-92C1-E1D4C57E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353-A89F-45C3-AB0A-EE436883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77E1-63A2-49FF-8B0A-F7F0F3FCE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re Part B Therapy, 1998-2000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ends in Utilization and Medica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yment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2666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fo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y Kay,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tioner and Ambulatory Care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s for Medicare and Medicaid Servi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timore,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hanie Maxwell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ban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1143000" cy="6858000"/>
            <a:chOff x="0" y="0"/>
            <a:chExt cx="1143000" cy="68580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"/>
            <p:cNvGraphicFramePr/>
            <p:nvPr/>
          </p:nvGraphicFramePr>
          <p:xfrm>
            <a:off x="0" y="0"/>
            <a:ext cx="1143000" cy="11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143000" cy="11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 rot="5400000">
              <a:off x="-1297440" y="2552040"/>
              <a:ext cx="37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 URBAN INSTITUT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1: Part B therapy patient average annual expenditures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2: Part B therapy patient annual utilization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3: Distribution of Part B therapy expenditures and patients, by setting,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360" y="1525680"/>
          <a:ext cx="4378320" cy="35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25680"/>
                    <a:ext cx="437832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384800" y="1523880"/>
          <a:ext cx="4378320" cy="355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4800" y="1523880"/>
                    <a:ext cx="437832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584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expendi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78320" y="56386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therapy pat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141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4: Distribution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160" y="1109520"/>
          <a:ext cx="40766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109520"/>
                    <a:ext cx="40766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40080" y="3505320"/>
          <a:ext cx="4075200" cy="27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0080" y="3505320"/>
                    <a:ext cx="407520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878360" y="1143000"/>
          <a:ext cx="4075200" cy="277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8360" y="1143000"/>
                    <a:ext cx="407520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9560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9572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400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5: Percent of Part B therapy patients exceeding $1,200 PT/SLP or $1,200 OT annual expenditures, by setting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6141960"/>
            <a:ext cx="8686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OPD is outpatient department. SNF is skilled nursing facility. CORF is comprehensive outpatient rehabilitation facility.  Multiple settings refer to two or more Part B therapy settings. PT is physical therapy. SLP is speech/language pathology services. OT is occupational therapy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6: Distribution of total PT/SLP expenditures of patients exceeding $1,200 PT/SLP annually, 1998-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838080"/>
          <a:ext cx="842832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38080"/>
                    <a:ext cx="842832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" y="6276960"/>
            <a:ext cx="7315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: Figure includes patients using facility-based therapy.  PT is physical therapy. SLP is speech/language pathology servi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ource: Urban Institute analysis of 5 percent annual samples of Medicare claims, 1998-2000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51:36Z</dcterms:created>
  <dc:creator>Matthew Storeygard</dc:creator>
  <dc:description/>
  <dc:language>en-US</dc:language>
  <cp:lastModifiedBy>CMS</cp:lastModifiedBy>
  <cp:lastPrinted>2001-11-12T15:07:12Z</cp:lastPrinted>
  <dcterms:modified xsi:type="dcterms:W3CDTF">2003-01-29T17:08:33Z</dcterms:modified>
  <cp:revision>64</cp:revision>
  <dc:subject/>
  <dc:title>Vulnerability Status by Age, 1996</dc:title>
</cp:coreProperties>
</file>