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9E188-CAE3-4184-80BD-CBBAFBF60B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84F31-DDC5-4525-BF4B-76D85720E1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DFB38D-A6DA-4A43-92B0-6EBCF43CE0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69D20-35E3-4DE1-B910-8B9D225A6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FE8A9-69E8-4B75-9E0D-E43F96B3D0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701B4-A221-49F5-959F-0565FAF43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0727B5-A6C2-4CE5-962E-4D4111AD64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CDE0A-1870-42A8-A503-30F48DE71D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8CD221-D5B3-445E-BB04-5A47929571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BCD8A-7338-4FE6-B836-4C61965DA8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55B47-C928-4E26-A207-A0A90386A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23FD7-A2D5-4416-AE49-F072E13F2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http://rds.yahoo.com/S=96062857/K=medical/v=2/SID=e/l=II/R=397/SS=i/OID=68c644398765b1b0/SIG=1hr2p4h9p/EXP=1104428561/*-http%3A//images.search.yahoo.com/search/images/view?back=http%3A%2F%2Fimages.search.yahoo.com%2Fsearch%2Fimages%3Fp%3Dmedical%26toggle%3D1%26ei%3DUTF-8%26imgsz%3Dall%26fr%3DFP-tab-img-t-192%26b%3D381&amp;h=193&amp;w=206&amp;imgcurl=www.workpartners.com%2Fimages%2Fphoto-medical-services.jpg&amp;imgurl=www.workpartners.com%2Fimages%2Fphoto-medical-services.jpg&amp;size=11.0kB&amp;name=photo-medical-services.jpg&amp;rcurl=http%3A%2F%2Fwww.workpartners.com%2Fmedical-services.htm&amp;rurl=http%3A%2F%2Fwww.workpartners.com%2Fmedical-services.htm&amp;p=medical&amp;type=jpeg&amp;no=397&amp;tt=1,483,666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448080" y="63435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933960" y="634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A944A-FA99-4E62-9692-4D70814D520D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86080" y="1219320"/>
            <a:ext cx="727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228600"/>
            <a:ext cx="73152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37160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295280"/>
            <a:ext cx="0" cy="45720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09480"/>
            <a:ext cx="137160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371600" cy="6094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6720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6320" y="434880"/>
            <a:ext cx="1066680" cy="32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3200400"/>
            <a:ext cx="7238880" cy="1981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92a7d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47920"/>
            <a:ext cx="9144000" cy="1752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738fc6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3348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676520"/>
            <a:ext cx="60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18148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160" y="5638680"/>
            <a:ext cx="1714320" cy="766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181480"/>
            <a:ext cx="5105520" cy="13716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5181480"/>
            <a:ext cx="213336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464832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HHS bird logo"/>
          <p:cNvPicPr/>
          <p:nvPr/>
        </p:nvPicPr>
        <p:blipFill>
          <a:blip r:embed="rId6"/>
          <a:stretch/>
        </p:blipFill>
        <p:spPr>
          <a:xfrm>
            <a:off x="8477280" y="5829480"/>
            <a:ext cx="51444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914040" y="15238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ART D APPLICATION TRAIN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JANUARY 31, 2006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79C98-C15B-424E-BFA0-4CFC19414D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Service Area and Pharmacy Access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rvice Are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DP Regions, MA-PD Regions for RPPOs, Local MA-P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Retail Pharmacy Acces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RICARE standards for convenient ac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Home Infusion Pharmacy Acces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monstrate adequate ac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ng-Term Care Pharmacy Acces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monstrate convenient ac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/T/U Pharmacy Acces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sure convenient acces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y Willing Pharmacy Requiremen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3D0DBF-DA30-45DF-995D-7256806832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Pharmacy Access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pplica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lete a series of attestation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mit contract templates of the standard terms and conditions for its downstream contracts between the organization and the types of pharmacies that constitute the Part D pharmacy net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800F7-EC5A-4E64-BEAD-0E9BE7289AF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Pharmacy Access, Retail</a:t>
            </a: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	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sing the Geographic Information System (GIS) or similar software to demonstrate pharmacy access ratios for urban, suburban, and rural zip code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vide a list of the contracted retail pharmaci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llow the instructions precisely. Use templates provid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D0C637-6125-4DD5-98DF-71D5BA10D7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Pharmacy Access, Home Infusion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sing the number of Medicare Beneficiaries in each region (provided by CMS), provide ratios for the contracted home infusion pharmacies to demonstrate adequate acces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vide a list of the contracted home infusion pharmaci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llow the instructions precisely. Use templates provid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A8281-3C19-4894-AA53-01383F74CCD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Pharmacy Access, Long-Term Care (LTC)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Using the number of nursing home beds available in each region (provided by CMS), provide ratios for the contracted LTC pharmacies to demonstrate convenient acces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vide a list of the contracted LTC pharmaci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llow the instructions precisely. Use templates provided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4DE01-4A5F-4DC9-8BCF-0CAB95A0D21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Pharmacy Access, I/T/U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/T/U addendum is provided by CM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rovide a pharmacy list that demonstrates a contract has been offered to every I/T/U pharmacy in applicant’s service are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harmacy list must identify contract status: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ccep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Under Negoti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ecli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llow the instructions precisely. Use templates provided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85D08-82E6-4012-BF16-BAEC983897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Enrollment and Eligibility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Complete attestations related to enrollment and eligibility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efer to guidance posted at www.cms.hhs.gov/PrescriptionDrugCovContra/Downloads/PDP_EnrollmentGuidance_08.29.05.pdf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 individual is eligible for Part D, provided that he or she: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s entitled to Part A OR enrolled in Part 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ves in the service area of a Part D pl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ypes of Enrollment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itial enrollment is a 7-month period (three months before eligibility for Part D, the month of eligibility, and three months after eligibility for Part 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pecial enrollments include when beneficiary moves outside service area, plan nonrenewable/contract termination; or contract viol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7C9D9-E70A-454D-90AA-F4E96EA30AE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Application Section:  Enrollment and Eligibility, Full Subsidy</a:t>
            </a:r>
            <a:endParaRPr b="1" lang="en-US" sz="2400" spc="-1" strike="noStrike">
              <a:solidFill>
                <a:srgbClr val="ffcc66"/>
              </a:solidFill>
              <a:latin typeface="Tahoma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600200"/>
          <a:ext cx="7924680" cy="4727520"/>
        </p:xfrm>
        <a:graphic>
          <a:graphicData uri="http://schemas.openxmlformats.org/drawingml/2006/table">
            <a:tbl>
              <a:tblPr/>
              <a:tblGrid>
                <a:gridCol w="2641680"/>
                <a:gridCol w="1709640"/>
                <a:gridCol w="357336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ll Subsidy Subcatego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% of Premium Subsidy Amou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o-pay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ll-benefit dual eligible – institutionalized individu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$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ll-benefit dual eligible–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ome at or below 100% F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non-institutionalized individual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up to out-of-pocket limi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t to exceed $1- generic/preferred multiple source and $3-other drugs 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above out-of-pocket limi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- $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ll-benefit dual eligible –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come above 100% FP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non-institutionalized individual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%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up to out-of-pocket limi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t to exceed $2- generic/preferred multiple source and $5-other drug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above out-of-pocket limit</a:t>
                      </a: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- $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n-full benefit dual eligible beneficiary wit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Income below 135% F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-Assets that do not exceed $6,000/$9,000 lim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up to out-of-pocket limit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ot to exceed $2- generic/preferred multiple source and $5-other drugs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ffffff"/>
                          </a:solidFill>
                          <a:uFillTx/>
                          <a:latin typeface="Tahoma"/>
                        </a:rPr>
                        <a:t>above out-of-pocket limit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- $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A174F-1420-44DD-9817-87A6628C8C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Tahoma"/>
              </a:rPr>
              <a:t>Application Section:  Enrollment and Eligibility, Other Low-Income Subsidy</a:t>
            </a:r>
            <a:endParaRPr b="1" lang="en-US" sz="2400" spc="-1" strike="noStrike">
              <a:solidFill>
                <a:srgbClr val="ffcc66"/>
              </a:solidFill>
              <a:latin typeface="Tahom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914400" y="1600200"/>
            <a:ext cx="7924680" cy="4794120"/>
            <a:chOff x="914400" y="1600200"/>
            <a:chExt cx="7924680" cy="4794120"/>
          </a:xfrm>
        </p:grpSpPr>
        <p:sp>
          <p:nvSpPr>
            <p:cNvPr id="133" name=""/>
            <p:cNvSpPr/>
            <p:nvPr/>
          </p:nvSpPr>
          <p:spPr>
            <a:xfrm>
              <a:off x="5730840" y="4729320"/>
              <a:ext cx="3108240" cy="16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Tahoma"/>
                </a:rPr>
                <a:t>up to out-of-pocket limit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$50 deducti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15% coinsuran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Tahoma"/>
                </a:rPr>
                <a:t>above out-of-pocket limit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 - $ An amount that does not exceed $2- generic/preferred multiple source and $5-other drug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78160" y="4729320"/>
              <a:ext cx="1552680" cy="16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Sliding scale premium subsidy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14400" y="4729320"/>
              <a:ext cx="3263760" cy="16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Non-full benefit dual eligible benefici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with income below 150% FPL a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with assets that do not exceed $10,000 (individuals) or $20,000(couples)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30840" y="2428920"/>
              <a:ext cx="3108240" cy="23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Tahoma"/>
                </a:rPr>
                <a:t>up to out-of-pocket limit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3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$50 deductib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15% coinsurance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ffffff"/>
                  </a:solidFill>
                  <a:uFillTx/>
                  <a:latin typeface="Tahoma"/>
                </a:rPr>
                <a:t>above out-of-pocket limit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 - $ An amount that does not exceed $2- generic/preferred multiple source and $5-other drug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78160" y="2428920"/>
              <a:ext cx="1552680" cy="23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100%</a:t>
              </a: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14400" y="2428920"/>
              <a:ext cx="3263760" cy="230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Non-full benefit dual eligible Benefici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 with income below 135% FPL, an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- with assets that excee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$6,000 but do not exceed $10,0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(individuals) or with assets tha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xceed $9,000 but do not exceed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$20,000 (couples)</a:t>
              </a:r>
              <a:r>
                <a:rPr b="1" lang="en-US" sz="16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730840" y="1600200"/>
              <a:ext cx="310824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ost Shar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91120" y="1600200"/>
              <a:ext cx="155232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% of Premium Subsidy Amount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14400" y="1600200"/>
              <a:ext cx="3263760" cy="82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Other Low-income Subsidy Sub-categ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914400" y="1600200"/>
              <a:ext cx="7924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14400" y="6394320"/>
              <a:ext cx="792468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914400" y="1600200"/>
              <a:ext cx="0" cy="4794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78160" y="1600200"/>
              <a:ext cx="0" cy="47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30840" y="1600200"/>
              <a:ext cx="0" cy="479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39080" y="1600200"/>
              <a:ext cx="0" cy="47941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914400" y="2428920"/>
              <a:ext cx="79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914400" y="4729320"/>
              <a:ext cx="792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F23E3-161D-4559-8E96-2267C39AF08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Application Section: </a:t>
            </a:r>
            <a:br>
              <a:rPr sz="2800"/>
            </a:b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Grievances, Coverage Determinations and Appeals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statements related to grievances, coverage determinations and appeal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Provide the policies and procedures for beneficiary coverage determinations, exceptions and appeal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dditional information is provided in Chapter 18 of the Prescription Drug Benefit Manual or the Part D QIC Reconsideration Process Manua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CAE7F-49EF-4192-A65F-7628080AB76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Steps to Become a Part D Sponsor</a:t>
            </a:r>
            <a:br>
              <a:rPr sz="3200"/>
            </a:b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mit Part D Application  -- March 20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mit Formulary – April 17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mit Bid – June 5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mit Marketing Materials – Summer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est Systems –Summer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Execute Contract –Early Fall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ccording to 42 CFR 423.503 (c), application approval determination is subject to redetermination and appeal process.  Formulary and bid are subject to negotiation, not to redetermination and appeal process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66C12-7BC1-434C-93BF-D68FFFDB4A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Coordination of Benefits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statements related to coordination of  benefits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developing and operating a system for collecting information from enrollees about enrollees’ other health insurance, including whether such insurance covers outpatient prescription drug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permitting SPAPs and other third-party payers to coordinate benefits.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E873D-D1C7-4E38-9478-ED52C1A5BB9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Application Section:  TrOOP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tracking each enrollee’s TrOOP costs reflecting the amount the enrollee has spent during a program year on covered outpatient prescription drug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accepting data concerning third-party payers for use in the applicant’s TrOOP calculatio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providing each enrollee with a report on his or her TrOOP status at least quarterly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84DE-EE00-4917-9BC3-585C3682567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Marketing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lete series of attestations related to marketing and beneficiary communication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ubmit marketing materials for review by CM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nnually provide enrollees information about PDP features, including enrollment procedures, premiums, formulary, benefits, and pharmacy network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intain a toll-free line open during normal business hour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intain an Internet websit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6E394-90A1-4DA2-9ADF-D34814C3FA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HIPAA and Claims Processing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being HIPAA complian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 to provisions related to claims process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AEAB5-77E2-4B56-827F-9AE9297EC5F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Part D Service Area Expansion Application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r existing Part D contractors (PDP, MA-PD, Cost Plans, etc) expanding the service area beyond their existing contract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r PDPs, only complete licensure and solvency sections for each State in new PDP reg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l PDP, Regional MA-PD and Cost Plan, and Direct Employer contractors expanding their Part D service area,  must complete the Pharmacy Access Submission for ONLY the new service area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Local MA-PDs contractors seeking to expand their Part D service area, should submit the pharmacy access data for the ENTIRE service area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CAEC91-40E2-471F-8F9A-A2C34F426A9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General Application Instructions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ll applications are due to CMS no later than close of business March 20, 2006.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plicants must submit 2 hard copies and 4 cds of the base submiss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Applicants must submit 1 hard copy and 4 sets of the cds (each set is 2 cds) of the pharmacy access submissio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r further information or questions on the Part D Applications contact Marla Rothouse at marla.rothouse@cms.hhs.gov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74E93-296D-4C15-8AB5-36E6E41DFA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RENEWALS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MS is required to issue all Part D sponsors on or before May 1, 2006, a notice of our decision to renew or non-renew sponsors’ contracts for the 2007 program year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MS will make this determination during the Spring of 2006 based on a review of each sponsor’s compliance with Part D program requiremen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art D sponsors that elect to non-renew their contracts must notify CMS of their decision on or before June 5, 2006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47289-4645-4A04-911C-16F29034C13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Part D Application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rt D Application for new Part D contracts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tand Alone PDP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-PD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st-Based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ACE Part D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irect Employer Applic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rt D Application separate from Part C Application (for all new MA-PDs, and Cost Plans, PACE and Direct Employer products that include Part D)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harmacy Access Submission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– key component of Part D application, documents are separate because of length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Part D Service Area Expansion Application – </a:t>
            </a: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for SAE within an existing contract</a:t>
            </a:r>
            <a:endParaRPr b="1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Annual Renewal 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– no application for all existing contractor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4CD2C-B97D-46C3-8CE3-3CEBE9B5CC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Format of Part D Application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ttestation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Appendice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ey Subregulatory Policy Guidance References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ulary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TrOOP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rketi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Coordination of Benefi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rollmen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Low-income Subsi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ng-Term Car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Reporting Requiremen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id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-PDP Service Area Reg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-PD Service Area Regions for RPP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45F25-CDCC-4654-A827-881EBE405CF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Management and Operations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Business Integri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ttest to statements related to administrative and management of oper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ntract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vide copies of executed contracts with PB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rporate Structur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ovide a brief summary of organization’s history, ownership, subsidiaries and business affilia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ompliance Plan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bmit a compliance plan for the Part D program that may include but must oversee the compliance plan used by the contracted PB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36848-38FF-436D-B42D-13EE98BD176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Licensure and Solvency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Basic Requirements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be licensed as a risk-bearing ent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 not licensed to bear risk in at least one state, must provide financial solvency documen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complete a Licensure Waiver Application for each state where applicant not licensed but seeks to operate a PDP (State waiver– 3 years, PDP Regional waiver– 1 yea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2007 contract year is the last opportunity for these  special waivers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0C89C-FF7B-45FE-ABA7-5D8942A1613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 </a:t>
            </a:r>
            <a:br>
              <a:rPr sz="3200"/>
            </a:b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Benefit Design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Pharmacy &amp; Therapeutics Committee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pplicant (or Applicant’s PBM) is required to submit names of P&amp;T Committee memb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&amp;T Committee members must not appear on OIG websi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tilization Management Standards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lete attestations related to UM standar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Quality Assurance and Patient Safety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lete attestations related to quality and patient safe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edication Therapy Managemen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plete attestations related to MTM and provide detailed description of the MTM progra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0195E-AEA7-40EB-A5C8-CC59EE54D8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Tahoma"/>
              </a:rPr>
              <a:t>Application Section: Formulary</a:t>
            </a:r>
            <a:endParaRPr b="1" lang="en-US" sz="32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omplete attestations related to formularies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ctual formulary submission is component of bid, not application, therefore formulary review determination is not subject to reconsideration and appeal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ubmission of formulary will be through HPMS system. Procedure same for MA-PD and PDP. (Submit flat file in ASCII format)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rmulary uploads will include plan name, formulary name, number of tiers, classification structure, prior authorization attachment, and step therapy attachment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Draft formulary guidance will be issued in early February with the final guidance issued in early March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Formularies must be submitted by April 17, 2005 at 5pm EDT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9C388-EDC2-42AA-86AB-28D7AA54988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Application Section:  Bids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pplicant attests that it will comply with CMS guidance related to bids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Actual bid submission is not a component of the application, therefore bid review determination is not subject to reconsideration and appeal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Submission of bid will be through HPMS system.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Must complete the Bid Pricing Tool (BPT) and PDP data entry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PDP Applicant will not submit more than 3 bids per plan (includes bids from parent organization)</a:t>
            </a:r>
            <a:endParaRPr b="1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-PD and Cost Plans not restricted to 3 bids where the organization is offering various Part C options (e.g. MA-PD with and without SNP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083600" y="5862600"/>
            <a:ext cx="3936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ids are due to CMS June 5,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87CEB-D18B-4871-A1E9-BF058B2D917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15:25:51Z</dcterms:created>
  <dc:creator>blebowitz</dc:creator>
  <dc:description/>
  <dc:language>en-US</dc:language>
  <cp:lastModifiedBy>CMS</cp:lastModifiedBy>
  <dcterms:modified xsi:type="dcterms:W3CDTF">2006-01-19T17:05:04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28165903</vt:r8>
  </property>
  <property fmtid="{D5CDD505-2E9C-101B-9397-08002B2CF9AE}" pid="3" name="_AuthorEmail">
    <vt:lpwstr>Duva.Clyburn@cms.hhs.gov</vt:lpwstr>
  </property>
  <property fmtid="{D5CDD505-2E9C-101B-9397-08002B2CF9AE}" pid="4" name="_AuthorEmailDisplayName">
    <vt:lpwstr>Clyburn, Duva L. (CMS/CBC)</vt:lpwstr>
  </property>
  <property fmtid="{D5CDD505-2E9C-101B-9397-08002B2CF9AE}" pid="5" name="_EmailSubject">
    <vt:lpwstr>Postings for the 1/31 broadcast</vt:lpwstr>
  </property>
  <property fmtid="{D5CDD505-2E9C-101B-9397-08002B2CF9AE}" pid="6" name="_NewReviewCycle">
    <vt:lpwstr/>
  </property>
</Properties>
</file>