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F0320-EFD2-4BEC-A92C-46EF5FC4D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64E1B-5476-4D2C-A9B0-73A60F2467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AE2A1-388D-401C-A84E-5CDD33CB93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131BB-9F96-49B5-A7C5-486DA6312A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9BC53-C53F-431E-B595-DD244899D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9352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73360" y="160020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04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9352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73360" y="3988440"/>
            <a:ext cx="2551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BBEA0-61B7-4F30-A184-302F54609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B2E57-6A76-459C-A291-B34D1B525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40EA5-511D-44FD-A820-FDF85081EA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523880" y="151920"/>
            <a:ext cx="7315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4B083-17C5-4477-A97B-647E1964F1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B79E1-ACA4-4286-8147-7F3FB39F64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74840" y="398844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92E96-E528-46F9-A488-749383E056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74840" y="1600200"/>
            <a:ext cx="3867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14040" y="3988440"/>
            <a:ext cx="79246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520C0-87E1-416F-8B1A-D28B97636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hyperlink" Target="http://rds.yahoo.com/S=96062857/K=medical/v=2/SID=e/l=II/R=397/SS=i/OID=68c644398765b1b0/SIG=1hr2p4h9p/EXP=1104428561/*-http%3A//images.search.yahoo.com/search/images/view?back=http%3A%2F%2Fimages.search.yahoo.com%2Fsearch%2Fimages%3Fp%3Dmedical%26toggle%3D1%26ei%3DUTF-8%26imgsz%3Dall%26fr%3DFP-tab-img-t-192%26b%3D381&amp;h=193&amp;w=206&amp;imgcurl=www.workpartners.com%2Fimages%2Fphoto-medical-services.jpg&amp;imgurl=www.workpartners.com%2Fimages%2Fphoto-medical-services.jpg&amp;size=11.0kB&amp;name=photo-medical-services.jpg&amp;rcurl=http%3A%2F%2Fwww.workpartners.com%2Fmedical-services.htm&amp;rurl=http%3A%2F%2Fwww.workpartners.com%2Fmedical-services.htm&amp;p=medical&amp;type=jpeg&amp;no=397&amp;tt=1,483,666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1"/>
          </p:nvPr>
        </p:nvSpPr>
        <p:spPr>
          <a:xfrm>
            <a:off x="3448080" y="6343560"/>
            <a:ext cx="3448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933960" y="6343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240E-BB5E-45B8-AA39-745C01AE440A}" type="slidenum">
              <a:rPr b="0" lang="en-US" sz="9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86080" y="1219320"/>
            <a:ext cx="72770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228600"/>
            <a:ext cx="7315200" cy="10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7" name=""/>
          <p:cNvSpPr/>
          <p:nvPr/>
        </p:nvSpPr>
        <p:spPr>
          <a:xfrm>
            <a:off x="304920" y="1371600"/>
            <a:ext cx="0" cy="5105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152280" y="1295280"/>
            <a:ext cx="0" cy="457200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09480"/>
            <a:ext cx="1371600" cy="609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1371600" cy="6094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3672000" y="315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76320" y="434880"/>
            <a:ext cx="1066680" cy="327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5120" y="3200400"/>
            <a:ext cx="7238880" cy="1981080"/>
          </a:xfrm>
          <a:prstGeom prst="rect">
            <a:avLst/>
          </a:prstGeom>
          <a:gradFill rotWithShape="0">
            <a:gsLst>
              <a:gs pos="0">
                <a:srgbClr val="003399"/>
              </a:gs>
              <a:gs pos="100000">
                <a:srgbClr val="92a7d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1447920"/>
            <a:ext cx="9144000" cy="17524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gradFill rotWithShape="0">
            <a:gsLst>
              <a:gs pos="0">
                <a:srgbClr val="738fc6"/>
              </a:gs>
              <a:gs pos="100000">
                <a:srgbClr val="0033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3200400"/>
            <a:ext cx="1905120" cy="19810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752480" y="334800"/>
            <a:ext cx="541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Application Trai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1676520"/>
            <a:ext cx="602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  </a:t>
            </a:r>
            <a:r>
              <a:rPr b="1" lang="en-US" sz="4000" spc="-1" strike="noStrike">
                <a:solidFill>
                  <a:srgbClr val="003399"/>
                </a:solidFill>
                <a:latin typeface="Tahoma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5181480"/>
            <a:ext cx="27432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8160" y="5638680"/>
            <a:ext cx="1714320" cy="766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038480" y="5181480"/>
            <a:ext cx="5105520" cy="1371600"/>
          </a:xfrm>
          <a:prstGeom prst="rect">
            <a:avLst/>
          </a:prstGeom>
          <a:gradFill rotWithShape="0">
            <a:gsLst>
              <a:gs pos="0">
                <a:srgbClr val="ffcc66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905120" y="5181480"/>
            <a:ext cx="2133360" cy="1676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057400" y="4648320"/>
            <a:ext cx="69343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C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HHS bird logo"/>
          <p:cNvPicPr/>
          <p:nvPr/>
        </p:nvPicPr>
        <p:blipFill>
          <a:blip r:embed="rId6"/>
          <a:stretch/>
        </p:blipFill>
        <p:spPr>
          <a:xfrm>
            <a:off x="8477280" y="5829480"/>
            <a:ext cx="51444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oseph.Esposito@cms.hhs.gov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Tahoma"/>
              </a:rPr>
              <a:t>Financial Statement</a:t>
            </a:r>
            <a:r>
              <a:rPr b="1" lang="en-US" sz="3600" spc="-1" strike="noStrike">
                <a:solidFill>
                  <a:srgbClr val="ffcc66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org. must have a positive net worth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org. must be in a surplus basis or have sufficient net worth to breakeven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The org. must be in good standing with its state regulator.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08766-E318-481D-9A1D-7F3F3F3781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51920"/>
            <a:ext cx="7315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cc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Joseph.Esposito@cms.hhs.gov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6B55A3-BA8A-4A75-85FC-07E5A4139E4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30T15:25:51Z</dcterms:created>
  <dc:creator>blebowitz</dc:creator>
  <dc:description/>
  <dc:language>en-US</dc:language>
  <cp:lastModifiedBy>CMS</cp:lastModifiedBy>
  <dcterms:modified xsi:type="dcterms:W3CDTF">2006-01-24T20:43:10Z</dcterms:modified>
  <cp:revision>2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19759899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