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FB62-F994-40DA-9144-B4DAC6285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7F31-C18E-441E-ABC6-1FE1A3B69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747C-A76F-4C43-853F-7861B967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C4ED-E3BC-4C87-AE78-753888C6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1EF9-4CEF-4FC5-A0BB-91E8FDAC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63A8-2CE2-40B8-A2E5-F2988095E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6703-5CDD-4393-B876-1078DDD1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E8B9-BC87-4BB0-AF92-75A9F50E0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4121-1D37-4FB3-9A0C-6FB32BA3B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0048-8525-4161-8B01-308CE255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EAE7-786B-40EA-97FA-0819BA89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7971-0011-4314-A8DC-C38C29F5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A0828-056A-4BAF-B072-F5722B093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ms.hhs.gov/EmpGrpWWaivers/" TargetMode="External"/><Relationship Id="rId2" Type="http://schemas.openxmlformats.org/officeDocument/2006/relationships/hyperlink" Target="http://www.cms.hhs.gov/EmpGrpWWaivers/" TargetMode="External"/><Relationship Id="rId3" Type="http://schemas.openxmlformats.org/officeDocument/2006/relationships/hyperlink" Target="http://www.cms.hhs.gov/EmpGrpWWaivers/" TargetMode="External"/><Relationship Id="rId4" Type="http://schemas.openxmlformats.org/officeDocument/2006/relationships/hyperlink" Target="http://www.cms.hhs.gov/EmpGrpWWaivers/" TargetMode="External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cms.hhs.gov/EmpGrp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Waivers</a:t>
            </a: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/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2437920"/>
            <a:ext cx="6934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EmployerWaivers@cms.hhs.g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3T15:55:51Z</dcterms:created>
  <dc:creator>CMS</dc:creator>
  <dc:description/>
  <dc:language>en-US</dc:language>
  <cp:lastModifiedBy>CMS</cp:lastModifiedBy>
  <dcterms:modified xsi:type="dcterms:W3CDTF">2006-01-23T22:02:26Z</dcterms:modified>
  <cp:revision>2</cp:revision>
  <dc:subject/>
  <dc:title>http://www.cms.hhs.gov/EmpGrp Waivers/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12876303</vt:r8>
  </property>
  <property fmtid="{D5CDD505-2E9C-101B-9397-08002B2CF9AE}" pid="3" name="_AuthorEmail">
    <vt:lpwstr>Duva.Clyburn@cms.hhs.gov</vt:lpwstr>
  </property>
  <property fmtid="{D5CDD505-2E9C-101B-9397-08002B2CF9AE}" pid="4" name="_AuthorEmailDisplayName">
    <vt:lpwstr>Clyburn, Duva L. (CMS/CBC)</vt:lpwstr>
  </property>
  <property fmtid="{D5CDD505-2E9C-101B-9397-08002B2CF9AE}" pid="5" name="_EmailSubject">
    <vt:lpwstr>Postings for the 1/31 broadcast</vt:lpwstr>
  </property>
  <property fmtid="{D5CDD505-2E9C-101B-9397-08002B2CF9AE}" pid="6" name="_NewReviewCycle">
    <vt:lpwstr/>
  </property>
</Properties>
</file>