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4C80-327B-41B2-8174-B4807FDFC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F9B-0E82-4135-AB12-EB310FD79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486D-EBA5-492A-A5E8-B45015184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75C-25F7-42C5-A65C-C6C68E179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9EC6-6CCF-4778-8C35-F0EE0129F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08F0-E9EA-42D0-AC8A-4C97BB46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DF3-A1E4-48A7-905C-8A382F36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D61-6F76-4E59-9939-7B029507B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6BAC-F3CC-4082-A435-132382B7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6A4-EEC0-49CE-9922-220E09702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7C4-D755-4B60-B24E-9FB32661A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027-EBD4-41BE-9208-3422EED4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91B4-198B-4BCF-9EB6-97662327D7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one entitled to Part A and enrolled in Part 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st provide reimbursement for at leas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iginal FFS Medicare-covered items and servic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nual deductible for 2006 is $8,85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 % reimburs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cal savings Accou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able expenses = lesser of actual costs for a service or all the  amount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6:54:09Z</dcterms:created>
  <dc:creator>CMS</dc:creator>
  <dc:description/>
  <dc:language>en-US</dc:language>
  <cp:lastModifiedBy>CMS</cp:lastModifiedBy>
  <dcterms:modified xsi:type="dcterms:W3CDTF">2006-01-18T17:03:47Z</dcterms:modified>
  <cp:revision>2</cp:revision>
  <dc:subject/>
  <dc:title>Medical savings Accoun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89640385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