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09DED-0446-4790-8974-9CEF7450ED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A569A-D962-4753-9C9C-CABCABCEFC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FFC2B-F4A8-4E9E-91BF-E70ED38172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F998F-1BA5-4931-A03B-90B070E175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3EF92-A82C-4C04-A1A1-E716CD0C4A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85CB0-1EA6-4E5C-9163-7E3C8D815A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5DC4-C720-400A-B4B7-D7077907D3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1C5C7-04C7-4041-80AB-65AFCF5CA1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C43B62-E115-4C4C-89EC-AC6646EA3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4A6C-DC2B-45AC-AB64-AA98E67A7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61BEF6-58C2-4C3B-A9BF-137AED493F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EADA-8CA2-46D2-9E15-278FEB0528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980D3-ACB3-4C91-99E7-5EB6EB0CFE78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Regional Preferred Provider Organiz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No substantive changes to application, revisions made to facilitate CMS review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ndardized format for access info, including standards &amp; alternate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tandardized format for Essential Hospital designations &amp; supporting facto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DDC40-136A-44E1-96D4-A29DC3FF47C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Regional Preferred Provider Organiz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standards to be submitted in chart and with more detai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ccess Narrative and Access Pla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oint Enterprise Applicant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9DE222-DF85-4805-BB98-2640332B831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5T21:44:26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65609730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