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00BAF-3327-45EB-82AC-C2016612A5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BB7E0-4BF3-44C7-8C43-4552CF4F97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CCC9A-0152-4DBB-B103-BE7D3BE990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605C4-D594-48A2-B43C-9594C405D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A17D4-4F65-422D-8858-FECC365A40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CCB66-672E-4486-BE3A-5847DD933D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F354-EF49-49C5-AFE3-4326615359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AAAD95-FE04-49A7-A9FB-BBB68D8CD9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0D24C-B0C4-44BA-BAF2-746F9BA05E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80CB-8108-44E2-B926-E88A76EFF8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1AE9B-ECF0-4EDB-BF6E-D5BCEAF3BA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58259-DC19-4F45-B3FD-655DD64CE0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91190-981F-44BB-B0A0-1A9B9C6C886C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Documentation for provider contracts</a:t>
            </a: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"Provider Arrangements" Table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py of contract(s) and/or agreement(s)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gnature pages and listing of contracted providers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5E3BF-AB42-41D5-B600-52CEF2B272F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larification of quality review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onduct quality internal review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AA351-838B-42C5-A126-FE53EE0A021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Claims Processing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escribe the claims processing workflow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D. Provide a list of all claim denial cod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. MA organization’s ability to document interest paymen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ABF59-E36C-4498-938A-00503C1BE8E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For non-network PFFS applicants: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ssurance that organization can pay FFS claim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21477-E685-4F68-BF11-21E7F751B95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MEDICARE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END OF CHAPTER DOCUMENTATION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Reimbursement Grid quarterly updat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aims system capabilities to pay claim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BA2F6-8EB2-4931-8CBD-E79A0D8D46C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3T15:39:4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387715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